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0625-F8FB-4D3E-AA14-E2DE81D7E28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2000-1691-4F13-8A67-4C07BB06C01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11BE-79FA-420B-9B88-7293CFB8EF3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26E9-A5E2-4133-8F82-596A7D3694B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6320-FD5E-4211-95BF-39D26001B1B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C26C-1263-4323-9BEC-F95E8E353D4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A0E6-76DE-4257-A604-6D251F2752A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6DF8-EE1D-4424-AE16-5BF73693FA7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9B21-26A5-418F-8B5E-8EC3C1D1B63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4424-5D19-4F50-965F-E6D49DB6602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6139-A196-4F98-A3FE-FE73841B776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6EB8-FBD2-4DAD-A005-23E2299F9B0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41DC-AE44-40AE-8A1D-F297647443A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2029-CDAF-41A9-95B7-5908A1FDC4C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B360-1CB0-4F5E-B652-717936C9AA4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E077-6E2C-48A8-B50B-1238C123448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BD77-44E0-440E-8BA1-7AC1A5CDFBB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7D53-21BC-4DA8-8D66-860C629B7DF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0192-218B-45B6-B52E-DAF981F5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9EE-47A7-4A34-83A0-9B86A578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2DE-AFD6-438C-A0FE-262D8ABB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9EB4-F0E0-4551-84D5-89560B1A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E43C-4F21-409D-9B85-0DD111E7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FAFB-EA35-41C8-B324-B4F39B71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4BA7-2F53-48F5-BD30-B96EBE3C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AE0D-0BE9-493D-BCC9-0A96980A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B4C6-3289-4A3D-9489-50CC1307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635C-761E-4708-A6CA-741763FA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7A9A-F81A-4316-9AFF-F63F7E82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5820-93F0-4B16-863E-560B55E1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ffd0"/>
            </a:gs>
            <a:gs pos="50000">
              <a:srgbClr val="ccffcc"/>
            </a:gs>
            <a:gs pos="100000">
              <a:srgbClr val="d0ffd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3D47-BCC0-45F2-B88E-5C8F504D2BF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eb.teleblik.kennisnet.nl/tsr/player/vo/fid/1219009" TargetMode="External"/><Relationship Id="rId2" Type="http://schemas.openxmlformats.org/officeDocument/2006/relationships/hyperlink" Target="http://web.teleblik.kennisnet.nl/tsr/player/vo/fid/1219008" TargetMode="External"/><Relationship Id="rId3" Type="http://schemas.openxmlformats.org/officeDocument/2006/relationships/hyperlink" Target="http://web.teleblik.kennisnet.nl/tsr/player/vo/fid/1114773" TargetMode="External"/><Relationship Id="rId4" Type="http://schemas.openxmlformats.org/officeDocument/2006/relationships/hyperlink" Target="http://web.teleblik.kennisnet.nl/tsr/player/vo/fid/1220573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5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5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grpSp>
          <p:nvGrpSpPr>
            <p:cNvPr id="120" name="Group 2"/>
            <p:cNvGrpSpPr/>
            <p:nvPr/>
          </p:nvGrpSpPr>
          <p:grpSpPr>
            <a:xfrm>
              <a:off x="0" y="5105520"/>
              <a:ext cx="2514600" cy="1143000"/>
              <a:chOff x="0" y="5105520"/>
              <a:chExt cx="2514600" cy="1143000"/>
            </a:xfrm>
          </p:grpSpPr>
          <p:sp>
            <p:nvSpPr>
              <p:cNvPr id="121" name="Rectangle 3"/>
              <p:cNvSpPr/>
              <p:nvPr/>
            </p:nvSpPr>
            <p:spPr>
              <a:xfrm>
                <a:off x="0" y="5105520"/>
                <a:ext cx="2514600" cy="1143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4"/>
              <p:cNvSpPr/>
              <p:nvPr/>
            </p:nvSpPr>
            <p:spPr>
              <a:xfrm>
                <a:off x="609480" y="5285880"/>
                <a:ext cx="175284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js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5"/>
            <p:cNvSpPr/>
            <p:nvPr/>
          </p:nvSpPr>
          <p:spPr>
            <a:xfrm>
              <a:off x="2971800" y="0"/>
              <a:ext cx="3200400" cy="1066680"/>
            </a:xfrm>
            <a:prstGeom prst="rect">
              <a:avLst/>
            </a:prstGeom>
            <a:noFill/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00"/>
                  </a:solidFill>
                  <a:latin typeface="Times New Roman"/>
                </a:rPr>
                <a:t>waterdam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Group 6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125" name="AutoShape 7"/>
              <p:cNvSpPr/>
              <p:nvPr/>
            </p:nvSpPr>
            <p:spPr>
              <a:xfrm>
                <a:off x="6248520" y="5133960"/>
                <a:ext cx="2743200" cy="1143000"/>
              </a:xfrm>
              <a:custGeom>
                <a:avLst/>
                <a:gdLst>
                  <a:gd name="textAreaLeft" fmla="*/ 228600 w 2743200"/>
                  <a:gd name="textAreaRight" fmla="*/ 2514600 w 2743200"/>
                  <a:gd name="textAreaTop" fmla="*/ 95040 h 1143000"/>
                  <a:gd name="textAreaBottom" fmla="*/ 104796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ff"/>
              </a:solidFill>
              <a:ln cap="rnd" w="9360">
                <a:solidFill>
                  <a:srgbClr val="66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Group 8"/>
              <p:cNvGrpSpPr/>
              <p:nvPr/>
            </p:nvGrpSpPr>
            <p:grpSpPr>
              <a:xfrm>
                <a:off x="6248520" y="5029200"/>
                <a:ext cx="2895480" cy="1257480"/>
                <a:chOff x="6248520" y="5029200"/>
                <a:chExt cx="2895480" cy="1257480"/>
              </a:xfrm>
            </p:grpSpPr>
            <p:sp>
              <p:nvSpPr>
                <p:cNvPr id="127" name="Freeform 9"/>
                <p:cNvSpPr/>
                <p:nvPr/>
              </p:nvSpPr>
              <p:spPr>
                <a:xfrm>
                  <a:off x="6248520" y="5029200"/>
                  <a:ext cx="2743200" cy="1257480"/>
                </a:xfrm>
                <a:custGeom>
                  <a:avLst/>
                  <a:gdLst>
                    <a:gd name="textAreaLeft" fmla="*/ 0 w 2743200"/>
                    <a:gd name="textAreaRight" fmla="*/ 2743200 w 2743200"/>
                    <a:gd name="textAreaTop" fmla="*/ 0 h 1257480"/>
                    <a:gd name="textAreaBottom" fmla="*/ 1257840 h 1257480"/>
                  </a:gdLst>
                  <a:ahLst/>
                  <a:rect l="textAreaLeft" t="textAreaTop" r="textAreaRight" b="textAreaBottom"/>
                  <a:pathLst>
                    <a:path w="1728" h="888">
                      <a:moveTo>
                        <a:pt x="0" y="12"/>
                      </a:moveTo>
                      <a:lnTo>
                        <a:pt x="0" y="876"/>
                      </a:lnTo>
                      <a:lnTo>
                        <a:pt x="1728" y="888"/>
                      </a:lnTo>
                      <a:lnTo>
                        <a:pt x="172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Rectangle 10"/>
                <p:cNvSpPr/>
                <p:nvPr/>
              </p:nvSpPr>
              <p:spPr>
                <a:xfrm>
                  <a:off x="6248520" y="5257800"/>
                  <a:ext cx="2895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609480" indent="-609480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>
                      <a:solidFill>
                        <a:srgbClr val="800000"/>
                      </a:solidFill>
                      <a:latin typeface="Times New Roman"/>
                    </a:rPr>
                    <a:t>     </a:t>
                  </a:r>
                  <a:r>
                    <a:rPr b="1" i="1" lang="en-US" sz="4800" spc="-1" strike="noStrike">
                      <a:solidFill>
                        <a:srgbClr val="ffff00"/>
                      </a:solidFill>
                      <a:latin typeface="Times New Roman"/>
                    </a:rPr>
                    <a:t>water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9" name="AutoShape 11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12"/>
          <p:cNvSpPr/>
          <p:nvPr/>
        </p:nvSpPr>
        <p:spPr>
          <a:xfrm>
            <a:off x="1219320" y="1085760"/>
            <a:ext cx="2628720" cy="3981600"/>
          </a:xfrm>
          <a:custGeom>
            <a:avLst/>
            <a:gdLst>
              <a:gd name="textAreaLeft" fmla="*/ 0 w 2628720"/>
              <a:gd name="textAreaRight" fmla="*/ 2629080 w 2628720"/>
              <a:gd name="textAreaTop" fmla="*/ 0 h 3981600"/>
              <a:gd name="textAreaBottom" fmla="*/ 3981960 h 3981600"/>
            </a:gdLst>
            <a:ahLst/>
            <a:rect l="textAreaLeft" t="textAreaTop" r="textAreaRight" b="textAreaBottom"/>
            <a:pathLst>
              <a:path w="1656" h="2508">
                <a:moveTo>
                  <a:pt x="0" y="2508"/>
                </a:moveTo>
                <a:lnTo>
                  <a:pt x="1656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3"/>
          <p:cNvSpPr/>
          <p:nvPr/>
        </p:nvSpPr>
        <p:spPr>
          <a:xfrm>
            <a:off x="1600200" y="1085760"/>
            <a:ext cx="2647800" cy="401976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4019760"/>
              <a:gd name="textAreaBottom" fmla="*/ 4020120 h 4019760"/>
            </a:gdLst>
            <a:ahLst/>
            <a:rect l="textAreaLeft" t="textAreaTop" r="textAreaRight" b="textAreaBottom"/>
            <a:pathLst>
              <a:path w="1668" h="2532">
                <a:moveTo>
                  <a:pt x="1668" y="0"/>
                </a:moveTo>
                <a:lnTo>
                  <a:pt x="0" y="2532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14"/>
          <p:cNvSpPr/>
          <p:nvPr/>
        </p:nvSpPr>
        <p:spPr>
          <a:xfrm>
            <a:off x="2514600" y="5410080"/>
            <a:ext cx="3695760" cy="180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328" h="1">
                <a:moveTo>
                  <a:pt x="2328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5"/>
          <p:cNvSpPr/>
          <p:nvPr/>
        </p:nvSpPr>
        <p:spPr>
          <a:xfrm>
            <a:off x="2533680" y="5810400"/>
            <a:ext cx="3714840" cy="1440"/>
          </a:xfrm>
          <a:custGeom>
            <a:avLst/>
            <a:gdLst>
              <a:gd name="textAreaLeft" fmla="*/ 0 w 3714840"/>
              <a:gd name="textAreaRight" fmla="*/ 3715200 w 3714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340" h="1">
                <a:moveTo>
                  <a:pt x="0" y="0"/>
                </a:moveTo>
                <a:lnTo>
                  <a:pt x="234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16"/>
          <p:cNvSpPr/>
          <p:nvPr/>
        </p:nvSpPr>
        <p:spPr>
          <a:xfrm>
            <a:off x="5238720" y="1066680"/>
            <a:ext cx="2952720" cy="405792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60" h="2556">
                <a:moveTo>
                  <a:pt x="1860" y="2556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17"/>
          <p:cNvSpPr/>
          <p:nvPr/>
        </p:nvSpPr>
        <p:spPr>
          <a:xfrm>
            <a:off x="4762440" y="1066680"/>
            <a:ext cx="2990880" cy="405792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84" h="2556">
                <a:moveTo>
                  <a:pt x="0" y="0"/>
                </a:moveTo>
                <a:lnTo>
                  <a:pt x="1884" y="2556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9"/>
          <p:cNvSpPr/>
          <p:nvPr/>
        </p:nvSpPr>
        <p:spPr>
          <a:xfrm rot="18222000">
            <a:off x="259920" y="26352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ublim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0"/>
          <p:cNvSpPr/>
          <p:nvPr/>
        </p:nvSpPr>
        <p:spPr>
          <a:xfrm rot="18201000">
            <a:off x="1479240" y="301644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1"/>
          <p:cNvSpPr/>
          <p:nvPr/>
        </p:nvSpPr>
        <p:spPr>
          <a:xfrm rot="3199200">
            <a:off x="4068720" y="28645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condens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2"/>
          <p:cNvSpPr/>
          <p:nvPr/>
        </p:nvSpPr>
        <p:spPr>
          <a:xfrm rot="3235200">
            <a:off x="5288040" y="240696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3"/>
          <p:cNvSpPr/>
          <p:nvPr/>
        </p:nvSpPr>
        <p:spPr>
          <a:xfrm rot="46200">
            <a:off x="2590920" y="45720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bevriez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4"/>
          <p:cNvSpPr/>
          <p:nvPr/>
        </p:nvSpPr>
        <p:spPr>
          <a:xfrm rot="21563400">
            <a:off x="3122280" y="5788080"/>
            <a:ext cx="282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Hoe zien de fasen er uit bij water?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-360" y="24379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vaste fase       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791320" y="33526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, mi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4343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Waterdamp        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791320" y="2438280"/>
            <a:ext cx="2666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ijs of rij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0" y="335268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vloeibare fase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791320" y="434340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zichtba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IJs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ontstaat door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2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dat is de faseovergang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0" y="152388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loeibaar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naar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ast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4786200" y="0"/>
            <a:ext cx="289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bevriez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Rijp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ontstaat door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7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dat is de faseovergang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gas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naar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ast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rijp"/>
          <p:cNvPicPr/>
          <p:nvPr/>
        </p:nvPicPr>
        <p:blipFill>
          <a:blip r:embed="rId1"/>
          <a:stretch/>
        </p:blipFill>
        <p:spPr>
          <a:xfrm>
            <a:off x="1428840" y="2428920"/>
            <a:ext cx="64292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5000760" y="0"/>
            <a:ext cx="1904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ter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tstaat door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3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1219320"/>
            <a:ext cx="304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door . .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5429160" y="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143080" y="12142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condenser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terdamp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tstaat door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8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609480" y="3048120"/>
            <a:ext cx="4114800" cy="2819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0" y="76212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damp is onzichtbaa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6400800" y="2209680"/>
            <a:ext cx="2514600" cy="2210040"/>
          </a:xfrm>
          <a:prstGeom prst="wedgeEllipseCallout">
            <a:avLst>
              <a:gd name="adj1" fmla="val -151513"/>
              <a:gd name="adj2" fmla="val 63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dam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5181480" y="762120"/>
            <a:ext cx="3276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ublimer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3124080" y="76212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do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iet elke stof kan in dri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oorkomen omdat niet el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22860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of tegen verhitten k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6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0" y="358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Papier kan je niet smelt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4267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Papier kan niet in de vloeib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0" y="50292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gasvormige fase voorko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Bijna) elke stof kan in 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8377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sen voorkome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22860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1. De vast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3124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2. De vloeibar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0" y="3962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3. De gasvormig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6215040" y="0"/>
            <a:ext cx="1600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r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e zetten de dri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p de hoekpunten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0" y="3581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en driehoe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3"/>
          <p:cNvGrpSpPr/>
          <p:nvPr/>
        </p:nvGrpSpPr>
        <p:grpSpPr>
          <a:xfrm>
            <a:off x="0" y="5105520"/>
            <a:ext cx="2514600" cy="1143000"/>
            <a:chOff x="0" y="5105520"/>
            <a:chExt cx="2514600" cy="1143000"/>
          </a:xfrm>
        </p:grpSpPr>
        <p:sp>
          <p:nvSpPr>
            <p:cNvPr id="77" name="Rectangle 4"/>
            <p:cNvSpPr/>
            <p:nvPr/>
          </p:nvSpPr>
          <p:spPr>
            <a:xfrm>
              <a:off x="0" y="5105520"/>
              <a:ext cx="2514600" cy="1143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5"/>
            <p:cNvSpPr/>
            <p:nvPr/>
          </p:nvSpPr>
          <p:spPr>
            <a:xfrm>
              <a:off x="609480" y="5285880"/>
              <a:ext cx="17528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Times New Roman"/>
                </a:rPr>
                <a:t>vas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6"/>
          <p:cNvSpPr/>
          <p:nvPr/>
        </p:nvSpPr>
        <p:spPr>
          <a:xfrm>
            <a:off x="3657600" y="0"/>
            <a:ext cx="1828800" cy="1066680"/>
          </a:xfrm>
          <a:prstGeom prst="rect">
            <a:avLst/>
          </a:pr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g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0"/>
          <p:cNvGrpSpPr/>
          <p:nvPr/>
        </p:nvGrpSpPr>
        <p:grpSpPr>
          <a:xfrm>
            <a:off x="6248520" y="5029200"/>
            <a:ext cx="2895480" cy="1257480"/>
            <a:chOff x="6248520" y="5029200"/>
            <a:chExt cx="2895480" cy="1257480"/>
          </a:xfrm>
        </p:grpSpPr>
        <p:sp>
          <p:nvSpPr>
            <p:cNvPr id="81" name="AutoShape 8"/>
            <p:cNvSpPr/>
            <p:nvPr/>
          </p:nvSpPr>
          <p:spPr>
            <a:xfrm>
              <a:off x="6248520" y="5133960"/>
              <a:ext cx="2743200" cy="1143000"/>
            </a:xfrm>
            <a:custGeom>
              <a:avLst/>
              <a:gdLst>
                <a:gd name="textAreaLeft" fmla="*/ 228600 w 2743200"/>
                <a:gd name="textAreaRight" fmla="*/ 2514600 w 2743200"/>
                <a:gd name="textAreaTop" fmla="*/ 95040 h 1143000"/>
                <a:gd name="textAreaBottom" fmla="*/ 10479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ff"/>
            </a:solidFill>
            <a:ln cap="rnd" w="9360">
              <a:solidFill>
                <a:srgbClr val="66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Group 27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83" name="Freeform 9"/>
              <p:cNvSpPr/>
              <p:nvPr/>
            </p:nvSpPr>
            <p:spPr>
              <a:xfrm>
                <a:off x="6248520" y="5029200"/>
                <a:ext cx="2743200" cy="125748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257480"/>
                  <a:gd name="textAreaBottom" fmla="*/ 1257840 h 1257480"/>
                </a:gdLst>
                <a:ahLst/>
                <a:rect l="textAreaLeft" t="textAreaTop" r="textAreaRight" b="textAreaBottom"/>
                <a:pathLst>
                  <a:path w="1728" h="888">
                    <a:moveTo>
                      <a:pt x="0" y="12"/>
                    </a:moveTo>
                    <a:lnTo>
                      <a:pt x="0" y="876"/>
                    </a:lnTo>
                    <a:lnTo>
                      <a:pt x="1728" y="888"/>
                    </a:lnTo>
                    <a:lnTo>
                      <a:pt x="17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Rectangle 10"/>
              <p:cNvSpPr/>
              <p:nvPr/>
            </p:nvSpPr>
            <p:spPr>
              <a:xfrm>
                <a:off x="6248520" y="5257800"/>
                <a:ext cx="289548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800000"/>
                    </a:solidFill>
                    <a:latin typeface="Times New Roman"/>
                  </a:rPr>
                  <a:t>vloeibaar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AutoShape 28"/>
          <p:cNvSpPr/>
          <p:nvPr/>
        </p:nvSpPr>
        <p:spPr>
          <a:xfrm>
            <a:off x="1676520" y="1066680"/>
            <a:ext cx="5943600" cy="40388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r zijn        faseovergang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mogelijk tussen de       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000160" y="1143000"/>
            <a:ext cx="106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z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4857840" y="2286000"/>
            <a:ext cx="142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r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44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grpSp>
          <p:nvGrpSpPr>
            <p:cNvPr id="92" name="Group 34"/>
            <p:cNvGrpSpPr/>
            <p:nvPr/>
          </p:nvGrpSpPr>
          <p:grpSpPr>
            <a:xfrm>
              <a:off x="0" y="5105520"/>
              <a:ext cx="2514600" cy="1143000"/>
              <a:chOff x="0" y="5105520"/>
              <a:chExt cx="2514600" cy="1143000"/>
            </a:xfrm>
          </p:grpSpPr>
          <p:sp>
            <p:nvSpPr>
              <p:cNvPr id="93" name="Rectangle 35"/>
              <p:cNvSpPr/>
              <p:nvPr/>
            </p:nvSpPr>
            <p:spPr>
              <a:xfrm>
                <a:off x="0" y="5105520"/>
                <a:ext cx="2514600" cy="1143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36"/>
              <p:cNvSpPr/>
              <p:nvPr/>
            </p:nvSpPr>
            <p:spPr>
              <a:xfrm>
                <a:off x="609480" y="5285880"/>
                <a:ext cx="175284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800000"/>
                    </a:solidFill>
                    <a:latin typeface="Times New Roman"/>
                  </a:rPr>
                  <a:t>vast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Rectangle 37"/>
            <p:cNvSpPr/>
            <p:nvPr/>
          </p:nvSpPr>
          <p:spPr>
            <a:xfrm>
              <a:off x="3657600" y="0"/>
              <a:ext cx="1828800" cy="1066680"/>
            </a:xfrm>
            <a:prstGeom prst="rect">
              <a:avLst/>
            </a:prstGeom>
            <a:noFill/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Times New Roman"/>
                </a:rPr>
                <a:t>ga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38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97" name="AutoShape 39"/>
              <p:cNvSpPr/>
              <p:nvPr/>
            </p:nvSpPr>
            <p:spPr>
              <a:xfrm>
                <a:off x="6248520" y="5133960"/>
                <a:ext cx="2743200" cy="1143000"/>
              </a:xfrm>
              <a:custGeom>
                <a:avLst/>
                <a:gdLst>
                  <a:gd name="textAreaLeft" fmla="*/ 228600 w 2743200"/>
                  <a:gd name="textAreaRight" fmla="*/ 2514600 w 2743200"/>
                  <a:gd name="textAreaTop" fmla="*/ 95040 h 1143000"/>
                  <a:gd name="textAreaBottom" fmla="*/ 104796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ff"/>
              </a:solidFill>
              <a:ln cap="rnd" w="9360">
                <a:solidFill>
                  <a:srgbClr val="66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Group 40"/>
              <p:cNvGrpSpPr/>
              <p:nvPr/>
            </p:nvGrpSpPr>
            <p:grpSpPr>
              <a:xfrm>
                <a:off x="6248520" y="5029200"/>
                <a:ext cx="2895480" cy="1257480"/>
                <a:chOff x="6248520" y="5029200"/>
                <a:chExt cx="2895480" cy="1257480"/>
              </a:xfrm>
            </p:grpSpPr>
            <p:sp>
              <p:nvSpPr>
                <p:cNvPr id="99" name="Freeform 41"/>
                <p:cNvSpPr/>
                <p:nvPr/>
              </p:nvSpPr>
              <p:spPr>
                <a:xfrm>
                  <a:off x="6248520" y="5029200"/>
                  <a:ext cx="2743200" cy="1257480"/>
                </a:xfrm>
                <a:custGeom>
                  <a:avLst/>
                  <a:gdLst>
                    <a:gd name="textAreaLeft" fmla="*/ 0 w 2743200"/>
                    <a:gd name="textAreaRight" fmla="*/ 2743200 w 2743200"/>
                    <a:gd name="textAreaTop" fmla="*/ 0 h 1257480"/>
                    <a:gd name="textAreaBottom" fmla="*/ 1257840 h 1257480"/>
                  </a:gdLst>
                  <a:ahLst/>
                  <a:rect l="textAreaLeft" t="textAreaTop" r="textAreaRight" b="textAreaBottom"/>
                  <a:pathLst>
                    <a:path w="1728" h="888">
                      <a:moveTo>
                        <a:pt x="0" y="12"/>
                      </a:moveTo>
                      <a:lnTo>
                        <a:pt x="0" y="876"/>
                      </a:lnTo>
                      <a:lnTo>
                        <a:pt x="1728" y="888"/>
                      </a:lnTo>
                      <a:lnTo>
                        <a:pt x="172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42"/>
                <p:cNvSpPr/>
                <p:nvPr/>
              </p:nvSpPr>
              <p:spPr>
                <a:xfrm>
                  <a:off x="6248520" y="5257800"/>
                  <a:ext cx="2895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609480" indent="-609480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800000"/>
                      </a:solidFill>
                      <a:latin typeface="Times New Roman"/>
                    </a:rPr>
                    <a:t>vloeibaar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1" name="AutoShape 2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11"/>
          <p:cNvSpPr/>
          <p:nvPr/>
        </p:nvSpPr>
        <p:spPr>
          <a:xfrm>
            <a:off x="1219320" y="1085760"/>
            <a:ext cx="2628720" cy="3981600"/>
          </a:xfrm>
          <a:custGeom>
            <a:avLst/>
            <a:gdLst>
              <a:gd name="textAreaLeft" fmla="*/ 0 w 2628720"/>
              <a:gd name="textAreaRight" fmla="*/ 2629080 w 2628720"/>
              <a:gd name="textAreaTop" fmla="*/ 0 h 3981600"/>
              <a:gd name="textAreaBottom" fmla="*/ 3981960 h 3981600"/>
            </a:gdLst>
            <a:ahLst/>
            <a:rect l="textAreaLeft" t="textAreaTop" r="textAreaRight" b="textAreaBottom"/>
            <a:pathLst>
              <a:path w="1656" h="2508">
                <a:moveTo>
                  <a:pt x="0" y="2508"/>
                </a:moveTo>
                <a:lnTo>
                  <a:pt x="1656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12"/>
          <p:cNvSpPr/>
          <p:nvPr/>
        </p:nvSpPr>
        <p:spPr>
          <a:xfrm>
            <a:off x="1600200" y="1085760"/>
            <a:ext cx="2647800" cy="401976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4019760"/>
              <a:gd name="textAreaBottom" fmla="*/ 4020120 h 4019760"/>
            </a:gdLst>
            <a:ahLst/>
            <a:rect l="textAreaLeft" t="textAreaTop" r="textAreaRight" b="textAreaBottom"/>
            <a:pathLst>
              <a:path w="1668" h="2532">
                <a:moveTo>
                  <a:pt x="1668" y="0"/>
                </a:moveTo>
                <a:lnTo>
                  <a:pt x="0" y="2532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13"/>
          <p:cNvSpPr/>
          <p:nvPr/>
        </p:nvSpPr>
        <p:spPr>
          <a:xfrm>
            <a:off x="2514600" y="5410080"/>
            <a:ext cx="3695760" cy="180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328" h="1">
                <a:moveTo>
                  <a:pt x="2328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reeform 14"/>
          <p:cNvSpPr/>
          <p:nvPr/>
        </p:nvSpPr>
        <p:spPr>
          <a:xfrm>
            <a:off x="2514600" y="5791320"/>
            <a:ext cx="3733920" cy="190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352" h="12">
                <a:moveTo>
                  <a:pt x="0" y="0"/>
                </a:moveTo>
                <a:lnTo>
                  <a:pt x="2352" y="12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15"/>
          <p:cNvSpPr/>
          <p:nvPr/>
        </p:nvSpPr>
        <p:spPr>
          <a:xfrm>
            <a:off x="5238720" y="1066680"/>
            <a:ext cx="2952720" cy="405792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60" h="2556">
                <a:moveTo>
                  <a:pt x="1860" y="2556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16"/>
          <p:cNvSpPr/>
          <p:nvPr/>
        </p:nvSpPr>
        <p:spPr>
          <a:xfrm>
            <a:off x="4762440" y="1066680"/>
            <a:ext cx="2990880" cy="405792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84" h="2556">
                <a:moveTo>
                  <a:pt x="0" y="0"/>
                </a:moveTo>
                <a:lnTo>
                  <a:pt x="1884" y="2556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 rot="18222000">
            <a:off x="259920" y="26352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sublim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 rot="18201000">
            <a:off x="1479240" y="301644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 rot="3199200">
            <a:off x="4068720" y="28645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condens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 rot="3235200">
            <a:off x="5288040" y="240696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 rot="46200">
            <a:off x="2590920" y="45720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stoll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 rot="21563400">
            <a:off x="3122280" y="5788080"/>
            <a:ext cx="282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Bij water hebben d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n sommige faseovergang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3500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en eigen na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22:22:33Z</dcterms:created>
  <dc:creator>Tijmensen</dc:creator>
  <dc:description/>
  <dc:language>en-US</dc:language>
  <cp:lastModifiedBy>Robert Verlaak</cp:lastModifiedBy>
  <dcterms:modified xsi:type="dcterms:W3CDTF">2014-08-25T06:39:31Z</dcterms:modified>
  <cp:revision>53</cp:revision>
  <dc:subject/>
  <dc:title>Licht en kleur Pulsar h4</dc:title>
</cp:coreProperties>
</file>