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3830-3FBC-46A2-A991-BCD2BAC3CB9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D245-5A8F-4F52-A316-FEA66597B16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E43C-E453-481C-A590-2330BAD01BC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F767-EDE8-41BA-ACA9-16689390F8F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4E23-24D4-464F-BEFF-C0476D78DCB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733D-42F6-4BC5-B222-2E8E8A446A0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DDDC-07CD-4BD0-A30E-44051F9A5B7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16D8-4A5D-4505-9EFF-BE6A372A663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76D6-57DA-4044-8198-674553BB072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5EA3-B27F-44C1-B593-4C03180A47B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0168-186D-4CD6-808C-031A851D674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3C93-D253-461D-912B-51E88CD1FBA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4335-D37E-4E06-9C9E-4561392FE86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26CF-6607-4B40-A02F-D85A3B24C1D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15B9-02DF-4A45-B70B-575C772A386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83A5-CC20-4246-BD0E-39076B5AFD1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FCDC-E1B5-42FC-969B-AAFA61C7018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0F26-7B4C-4352-9D4D-ACAF32D38A1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EE47-801E-4A09-BE09-5F8F57024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D56F-8A48-4B1A-99D7-45A8AF6C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5354-1068-4836-9D04-C43DC63D1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E594-D968-4DCE-9FEC-DFE51CE6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7192-3725-4074-B1A1-EBB9BFF2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498E-B7B0-45A2-9900-23277698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9C16-E66B-4191-8984-F9139C44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9596-C3D1-4CB8-B3B0-8477E8A4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5202-9329-476B-8713-E74E2EB1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FF8C-B2B4-440F-B3F1-E2642CCF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3DF4-5359-4249-BC2D-EBE13022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BF7E-9D39-4FCA-9A5A-29B268BF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ffd0"/>
            </a:gs>
            <a:gs pos="50000">
              <a:srgbClr val="ccffcc"/>
            </a:gs>
            <a:gs pos="100000">
              <a:srgbClr val="d0ffd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8002-BFBF-4028-B241-DE2A0D2145B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eb.teleblik.kennisnet.nl/tsr/player/vo/fid/1219009" TargetMode="External"/><Relationship Id="rId2" Type="http://schemas.openxmlformats.org/officeDocument/2006/relationships/hyperlink" Target="http://web.teleblik.kennisnet.nl/tsr/player/vo/fid/1219008" TargetMode="External"/><Relationship Id="rId3" Type="http://schemas.openxmlformats.org/officeDocument/2006/relationships/hyperlink" Target="http://web.teleblik.kennisnet.nl/tsr/player/vo/fid/1114773" TargetMode="External"/><Relationship Id="rId4" Type="http://schemas.openxmlformats.org/officeDocument/2006/relationships/hyperlink" Target="http://web.teleblik.kennisnet.nl/tsr/player/vo/fid/1220573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1. De drie fa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32004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2. De zes fase-overgang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0" y="396252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3. Ein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5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5"/>
          <p:cNvGrpSpPr/>
          <p:nvPr/>
        </p:nvGrpSpPr>
        <p:grpSpPr>
          <a:xfrm>
            <a:off x="0" y="0"/>
            <a:ext cx="9144000" cy="6286680"/>
            <a:chOff x="0" y="0"/>
            <a:chExt cx="9144000" cy="6286680"/>
          </a:xfrm>
        </p:grpSpPr>
        <p:grpSp>
          <p:nvGrpSpPr>
            <p:cNvPr id="120" name="Group 2"/>
            <p:cNvGrpSpPr/>
            <p:nvPr/>
          </p:nvGrpSpPr>
          <p:grpSpPr>
            <a:xfrm>
              <a:off x="0" y="5105520"/>
              <a:ext cx="2514600" cy="1143000"/>
              <a:chOff x="0" y="5105520"/>
              <a:chExt cx="2514600" cy="1143000"/>
            </a:xfrm>
          </p:grpSpPr>
          <p:sp>
            <p:nvSpPr>
              <p:cNvPr id="121" name="Rectangle 3"/>
              <p:cNvSpPr/>
              <p:nvPr/>
            </p:nvSpPr>
            <p:spPr>
              <a:xfrm>
                <a:off x="0" y="5105520"/>
                <a:ext cx="2514600" cy="1143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Rectangle 4"/>
              <p:cNvSpPr/>
              <p:nvPr/>
            </p:nvSpPr>
            <p:spPr>
              <a:xfrm>
                <a:off x="609480" y="5285880"/>
                <a:ext cx="1752840" cy="4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609480" indent="-609480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ffff00"/>
                    </a:solidFill>
                    <a:latin typeface="Times New Roman"/>
                  </a:rPr>
                  <a:t>ijs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Rectangle 5"/>
            <p:cNvSpPr/>
            <p:nvPr/>
          </p:nvSpPr>
          <p:spPr>
            <a:xfrm>
              <a:off x="2971800" y="0"/>
              <a:ext cx="3200400" cy="1066680"/>
            </a:xfrm>
            <a:prstGeom prst="rect">
              <a:avLst/>
            </a:prstGeom>
            <a:noFill/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ffff00"/>
                  </a:solidFill>
                  <a:latin typeface="Times New Roman"/>
                </a:rPr>
                <a:t>waterdamp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Group 6"/>
            <p:cNvGrpSpPr/>
            <p:nvPr/>
          </p:nvGrpSpPr>
          <p:grpSpPr>
            <a:xfrm>
              <a:off x="6248520" y="5029200"/>
              <a:ext cx="2895480" cy="1257480"/>
              <a:chOff x="6248520" y="5029200"/>
              <a:chExt cx="2895480" cy="1257480"/>
            </a:xfrm>
          </p:grpSpPr>
          <p:sp>
            <p:nvSpPr>
              <p:cNvPr id="125" name="AutoShape 7"/>
              <p:cNvSpPr/>
              <p:nvPr/>
            </p:nvSpPr>
            <p:spPr>
              <a:xfrm>
                <a:off x="6248520" y="5133960"/>
                <a:ext cx="2743200" cy="1143000"/>
              </a:xfrm>
              <a:custGeom>
                <a:avLst/>
                <a:gdLst>
                  <a:gd name="textAreaLeft" fmla="*/ 228600 w 2743200"/>
                  <a:gd name="textAreaRight" fmla="*/ 2514600 w 2743200"/>
                  <a:gd name="textAreaTop" fmla="*/ 95040 h 1143000"/>
                  <a:gd name="textAreaBottom" fmla="*/ 1047960 h 114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ff"/>
              </a:solidFill>
              <a:ln cap="rnd" w="9360">
                <a:solidFill>
                  <a:srgbClr val="66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Group 8"/>
              <p:cNvGrpSpPr/>
              <p:nvPr/>
            </p:nvGrpSpPr>
            <p:grpSpPr>
              <a:xfrm>
                <a:off x="6248520" y="5029200"/>
                <a:ext cx="2895480" cy="1257480"/>
                <a:chOff x="6248520" y="5029200"/>
                <a:chExt cx="2895480" cy="1257480"/>
              </a:xfrm>
            </p:grpSpPr>
            <p:sp>
              <p:nvSpPr>
                <p:cNvPr id="127" name="Freeform 9"/>
                <p:cNvSpPr/>
                <p:nvPr/>
              </p:nvSpPr>
              <p:spPr>
                <a:xfrm>
                  <a:off x="6248520" y="5029200"/>
                  <a:ext cx="2743200" cy="1257480"/>
                </a:xfrm>
                <a:custGeom>
                  <a:avLst/>
                  <a:gdLst>
                    <a:gd name="textAreaLeft" fmla="*/ 0 w 2743200"/>
                    <a:gd name="textAreaRight" fmla="*/ 2743200 w 2743200"/>
                    <a:gd name="textAreaTop" fmla="*/ 0 h 1257480"/>
                    <a:gd name="textAreaBottom" fmla="*/ 1257840 h 1257480"/>
                  </a:gdLst>
                  <a:ahLst/>
                  <a:rect l="textAreaLeft" t="textAreaTop" r="textAreaRight" b="textAreaBottom"/>
                  <a:pathLst>
                    <a:path w="1728" h="888">
                      <a:moveTo>
                        <a:pt x="0" y="12"/>
                      </a:moveTo>
                      <a:lnTo>
                        <a:pt x="0" y="876"/>
                      </a:lnTo>
                      <a:lnTo>
                        <a:pt x="1728" y="888"/>
                      </a:lnTo>
                      <a:lnTo>
                        <a:pt x="1728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Rectangle 10"/>
                <p:cNvSpPr/>
                <p:nvPr/>
              </p:nvSpPr>
              <p:spPr>
                <a:xfrm>
                  <a:off x="6248520" y="5257800"/>
                  <a:ext cx="289548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609480" indent="-609480"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800" spc="-1" strike="noStrike">
                      <a:solidFill>
                        <a:srgbClr val="800000"/>
                      </a:solidFill>
                      <a:latin typeface="Times New Roman"/>
                    </a:rPr>
                    <a:t>     </a:t>
                  </a:r>
                  <a:r>
                    <a:rPr b="1" i="1" lang="en-US" sz="4800" spc="-1" strike="noStrike">
                      <a:solidFill>
                        <a:srgbClr val="ffff00"/>
                      </a:solidFill>
                      <a:latin typeface="Times New Roman"/>
                    </a:rPr>
                    <a:t>water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9" name="AutoShape 11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reeform 12"/>
          <p:cNvSpPr/>
          <p:nvPr/>
        </p:nvSpPr>
        <p:spPr>
          <a:xfrm>
            <a:off x="1219320" y="1085760"/>
            <a:ext cx="2628720" cy="3981600"/>
          </a:xfrm>
          <a:custGeom>
            <a:avLst/>
            <a:gdLst>
              <a:gd name="textAreaLeft" fmla="*/ 0 w 2628720"/>
              <a:gd name="textAreaRight" fmla="*/ 2629080 w 2628720"/>
              <a:gd name="textAreaTop" fmla="*/ 0 h 3981600"/>
              <a:gd name="textAreaBottom" fmla="*/ 3981960 h 3981600"/>
            </a:gdLst>
            <a:ahLst/>
            <a:rect l="textAreaLeft" t="textAreaTop" r="textAreaRight" b="textAreaBottom"/>
            <a:pathLst>
              <a:path w="1656" h="2508">
                <a:moveTo>
                  <a:pt x="0" y="2508"/>
                </a:moveTo>
                <a:lnTo>
                  <a:pt x="1656" y="0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reeform 13"/>
          <p:cNvSpPr/>
          <p:nvPr/>
        </p:nvSpPr>
        <p:spPr>
          <a:xfrm>
            <a:off x="1600200" y="1085760"/>
            <a:ext cx="2647800" cy="4019760"/>
          </a:xfrm>
          <a:custGeom>
            <a:avLst/>
            <a:gdLst>
              <a:gd name="textAreaLeft" fmla="*/ 0 w 2647800"/>
              <a:gd name="textAreaRight" fmla="*/ 2648160 w 2647800"/>
              <a:gd name="textAreaTop" fmla="*/ 0 h 4019760"/>
              <a:gd name="textAreaBottom" fmla="*/ 4020120 h 4019760"/>
            </a:gdLst>
            <a:ahLst/>
            <a:rect l="textAreaLeft" t="textAreaTop" r="textAreaRight" b="textAreaBottom"/>
            <a:pathLst>
              <a:path w="1668" h="2532">
                <a:moveTo>
                  <a:pt x="1668" y="0"/>
                </a:moveTo>
                <a:lnTo>
                  <a:pt x="0" y="2532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reeform 14"/>
          <p:cNvSpPr/>
          <p:nvPr/>
        </p:nvSpPr>
        <p:spPr>
          <a:xfrm>
            <a:off x="2514600" y="5410080"/>
            <a:ext cx="3695760" cy="1800"/>
          </a:xfrm>
          <a:custGeom>
            <a:avLst/>
            <a:gdLst>
              <a:gd name="textAreaLeft" fmla="*/ 0 w 3695760"/>
              <a:gd name="textAreaRight" fmla="*/ 3696120 w 36957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328" h="1">
                <a:moveTo>
                  <a:pt x="2328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15"/>
          <p:cNvSpPr/>
          <p:nvPr/>
        </p:nvSpPr>
        <p:spPr>
          <a:xfrm>
            <a:off x="2533680" y="5810400"/>
            <a:ext cx="3714840" cy="1440"/>
          </a:xfrm>
          <a:custGeom>
            <a:avLst/>
            <a:gdLst>
              <a:gd name="textAreaLeft" fmla="*/ 0 w 3714840"/>
              <a:gd name="textAreaRight" fmla="*/ 3715200 w 37148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340" h="1">
                <a:moveTo>
                  <a:pt x="0" y="0"/>
                </a:moveTo>
                <a:lnTo>
                  <a:pt x="2340" y="0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16"/>
          <p:cNvSpPr/>
          <p:nvPr/>
        </p:nvSpPr>
        <p:spPr>
          <a:xfrm>
            <a:off x="5238720" y="1066680"/>
            <a:ext cx="2952720" cy="4057920"/>
          </a:xfrm>
          <a:custGeom>
            <a:avLst/>
            <a:gdLst>
              <a:gd name="textAreaLeft" fmla="*/ 0 w 2952720"/>
              <a:gd name="textAreaRight" fmla="*/ 2953080 w 2952720"/>
              <a:gd name="textAreaTop" fmla="*/ 0 h 4057920"/>
              <a:gd name="textAreaBottom" fmla="*/ 4058280 h 4057920"/>
            </a:gdLst>
            <a:ahLst/>
            <a:rect l="textAreaLeft" t="textAreaTop" r="textAreaRight" b="textAreaBottom"/>
            <a:pathLst>
              <a:path w="1860" h="2556">
                <a:moveTo>
                  <a:pt x="1860" y="2556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17"/>
          <p:cNvSpPr/>
          <p:nvPr/>
        </p:nvSpPr>
        <p:spPr>
          <a:xfrm>
            <a:off x="4762440" y="1066680"/>
            <a:ext cx="2990880" cy="405792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57920"/>
              <a:gd name="textAreaBottom" fmla="*/ 4058280 h 4057920"/>
            </a:gdLst>
            <a:ahLst/>
            <a:rect l="textAreaLeft" t="textAreaTop" r="textAreaRight" b="textAreaBottom"/>
            <a:pathLst>
              <a:path w="1884" h="2556">
                <a:moveTo>
                  <a:pt x="0" y="0"/>
                </a:moveTo>
                <a:lnTo>
                  <a:pt x="1884" y="2556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6400800" y="22096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9"/>
          <p:cNvSpPr/>
          <p:nvPr/>
        </p:nvSpPr>
        <p:spPr>
          <a:xfrm rot="18222000">
            <a:off x="259920" y="263520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sublimer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0"/>
          <p:cNvSpPr/>
          <p:nvPr/>
        </p:nvSpPr>
        <p:spPr>
          <a:xfrm rot="18201000">
            <a:off x="1479240" y="301644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00"/>
                </a:solidFill>
                <a:latin typeface="Times New Roman"/>
              </a:rPr>
              <a:t>rij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1"/>
          <p:cNvSpPr/>
          <p:nvPr/>
        </p:nvSpPr>
        <p:spPr>
          <a:xfrm rot="3199200">
            <a:off x="4068720" y="286452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00"/>
                </a:solidFill>
                <a:latin typeface="Times New Roman"/>
              </a:rPr>
              <a:t>condenser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2"/>
          <p:cNvSpPr/>
          <p:nvPr/>
        </p:nvSpPr>
        <p:spPr>
          <a:xfrm rot="3235200">
            <a:off x="5288040" y="240696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verdam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3"/>
          <p:cNvSpPr/>
          <p:nvPr/>
        </p:nvSpPr>
        <p:spPr>
          <a:xfrm rot="46200">
            <a:off x="2590920" y="457200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bevriez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4"/>
          <p:cNvSpPr/>
          <p:nvPr/>
        </p:nvSpPr>
        <p:spPr>
          <a:xfrm rot="21563400">
            <a:off x="3122280" y="5788080"/>
            <a:ext cx="282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smelt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Hoe zien de fasen er uit bij water?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-360" y="243792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1. De vaste fase        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5791320" y="3352680"/>
            <a:ext cx="3352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water, mi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0" y="434340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3. Waterdamp         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5791320" y="2438280"/>
            <a:ext cx="2666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ijs of rij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0" y="335268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2. De vloeibare fase 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5791320" y="4343400"/>
            <a:ext cx="3352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nzichtba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IJs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ontstaat door . .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2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0" y="76212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dat is de faseovergang 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0" y="1523880"/>
            <a:ext cx="5410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vloeibaar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naar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vast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4786200" y="0"/>
            <a:ext cx="2895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bevriezen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791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Rijp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ontstaat door. . .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7" name="AutoShape 4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76212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dat is de faseovergang 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gas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naar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vast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7" descr="rijp"/>
          <p:cNvPicPr/>
          <p:nvPr/>
        </p:nvPicPr>
        <p:blipFill>
          <a:blip r:embed="rId1"/>
          <a:stretch/>
        </p:blipFill>
        <p:spPr>
          <a:xfrm>
            <a:off x="1428840" y="2428920"/>
            <a:ext cx="64292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8"/>
          <p:cNvSpPr/>
          <p:nvPr/>
        </p:nvSpPr>
        <p:spPr>
          <a:xfrm>
            <a:off x="5000760" y="0"/>
            <a:ext cx="1904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rij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ater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ntstaat door . . .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3" name="AutoShape 4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0" y="1219320"/>
            <a:ext cx="3048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f door . .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5429160" y="0"/>
            <a:ext cx="2286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melt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2143080" y="121428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condenseren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aterdamp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ntstaat door . . .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8" name="AutoShape 4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609480" y="3048120"/>
            <a:ext cx="4114800" cy="2819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0" y="762120"/>
            <a:ext cx="3352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verdam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Waterdamp is onzichtbaar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6400800" y="2209680"/>
            <a:ext cx="2514600" cy="2210040"/>
          </a:xfrm>
          <a:prstGeom prst="wedgeEllipseCallout">
            <a:avLst>
              <a:gd name="adj1" fmla="val -151513"/>
              <a:gd name="adj2" fmla="val 6329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waterdam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5181480" y="762120"/>
            <a:ext cx="3276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ublimeren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3124080" y="762120"/>
            <a:ext cx="2133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f do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iet elke stof kan in drie 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voorkomen omdat niet elk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0" y="22860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of tegen verhitten ka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6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0" y="358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Papier kan je niet smelt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0" y="42670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Papier kan niet in de vloeib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0" y="50292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f gasvormige fase voorko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De drie fa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32004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 De zes fase-overgang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0" y="396252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3. Ein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1. De drie fa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0" y="32004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 De zes fase-overgang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0" y="396252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. Ein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(Bijna) elke stof kan in  . . .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0" y="8377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asen voorkome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0" y="22860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1. De vaste fa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0" y="31240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2. De vloeibare fa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0" y="3962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3. De gasvormige fa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6215040" y="0"/>
            <a:ext cx="1600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r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De drie fa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0" y="32004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2. De zes fase-overgang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396252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. Ein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We zetten de drie 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p de hoekpunten 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0" y="3581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een driehoe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2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6400800" y="22096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3"/>
          <p:cNvGrpSpPr/>
          <p:nvPr/>
        </p:nvGrpSpPr>
        <p:grpSpPr>
          <a:xfrm>
            <a:off x="0" y="5105520"/>
            <a:ext cx="2514600" cy="1143000"/>
            <a:chOff x="0" y="5105520"/>
            <a:chExt cx="2514600" cy="1143000"/>
          </a:xfrm>
        </p:grpSpPr>
        <p:sp>
          <p:nvSpPr>
            <p:cNvPr id="77" name="Rectangle 4"/>
            <p:cNvSpPr/>
            <p:nvPr/>
          </p:nvSpPr>
          <p:spPr>
            <a:xfrm>
              <a:off x="0" y="5105520"/>
              <a:ext cx="2514600" cy="1143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5"/>
            <p:cNvSpPr/>
            <p:nvPr/>
          </p:nvSpPr>
          <p:spPr>
            <a:xfrm>
              <a:off x="609480" y="5285880"/>
              <a:ext cx="175284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800000"/>
                  </a:solidFill>
                  <a:latin typeface="Times New Roman"/>
                </a:rPr>
                <a:t>vast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Rectangle 6"/>
          <p:cNvSpPr/>
          <p:nvPr/>
        </p:nvSpPr>
        <p:spPr>
          <a:xfrm>
            <a:off x="3657600" y="0"/>
            <a:ext cx="1828800" cy="1066680"/>
          </a:xfrm>
          <a:prstGeom prst="rect">
            <a:avLst/>
          </a:prstGeom>
          <a:noFill/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g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30"/>
          <p:cNvGrpSpPr/>
          <p:nvPr/>
        </p:nvGrpSpPr>
        <p:grpSpPr>
          <a:xfrm>
            <a:off x="6248520" y="5029200"/>
            <a:ext cx="2895480" cy="1257480"/>
            <a:chOff x="6248520" y="5029200"/>
            <a:chExt cx="2895480" cy="1257480"/>
          </a:xfrm>
        </p:grpSpPr>
        <p:sp>
          <p:nvSpPr>
            <p:cNvPr id="81" name="AutoShape 8"/>
            <p:cNvSpPr/>
            <p:nvPr/>
          </p:nvSpPr>
          <p:spPr>
            <a:xfrm>
              <a:off x="6248520" y="5133960"/>
              <a:ext cx="2743200" cy="1143000"/>
            </a:xfrm>
            <a:custGeom>
              <a:avLst/>
              <a:gdLst>
                <a:gd name="textAreaLeft" fmla="*/ 228600 w 2743200"/>
                <a:gd name="textAreaRight" fmla="*/ 2514600 w 2743200"/>
                <a:gd name="textAreaTop" fmla="*/ 95040 h 1143000"/>
                <a:gd name="textAreaBottom" fmla="*/ 104796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ffff"/>
            </a:solidFill>
            <a:ln cap="rnd" w="9360">
              <a:solidFill>
                <a:srgbClr val="66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Group 27"/>
            <p:cNvGrpSpPr/>
            <p:nvPr/>
          </p:nvGrpSpPr>
          <p:grpSpPr>
            <a:xfrm>
              <a:off x="6248520" y="5029200"/>
              <a:ext cx="2895480" cy="1257480"/>
              <a:chOff x="6248520" y="5029200"/>
              <a:chExt cx="2895480" cy="1257480"/>
            </a:xfrm>
          </p:grpSpPr>
          <p:sp>
            <p:nvSpPr>
              <p:cNvPr id="83" name="Freeform 9"/>
              <p:cNvSpPr/>
              <p:nvPr/>
            </p:nvSpPr>
            <p:spPr>
              <a:xfrm>
                <a:off x="6248520" y="5029200"/>
                <a:ext cx="2743200" cy="125748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257480"/>
                  <a:gd name="textAreaBottom" fmla="*/ 1257840 h 1257480"/>
                </a:gdLst>
                <a:ahLst/>
                <a:rect l="textAreaLeft" t="textAreaTop" r="textAreaRight" b="textAreaBottom"/>
                <a:pathLst>
                  <a:path w="1728" h="888">
                    <a:moveTo>
                      <a:pt x="0" y="12"/>
                    </a:moveTo>
                    <a:lnTo>
                      <a:pt x="0" y="876"/>
                    </a:lnTo>
                    <a:lnTo>
                      <a:pt x="1728" y="888"/>
                    </a:lnTo>
                    <a:lnTo>
                      <a:pt x="1728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Rectangle 10"/>
              <p:cNvSpPr/>
              <p:nvPr/>
            </p:nvSpPr>
            <p:spPr>
              <a:xfrm>
                <a:off x="6248520" y="5257800"/>
                <a:ext cx="289548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609480" indent="-609480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800000"/>
                    </a:solidFill>
                    <a:latin typeface="Times New Roman"/>
                  </a:rPr>
                  <a:t>vloeibaar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" name="AutoShape 28"/>
          <p:cNvSpPr/>
          <p:nvPr/>
        </p:nvSpPr>
        <p:spPr>
          <a:xfrm>
            <a:off x="1676520" y="1066680"/>
            <a:ext cx="5943600" cy="403884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Er zijn        faseovergang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mogelijk tussen de        fa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2000160" y="1143000"/>
            <a:ext cx="1067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z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4857840" y="2286000"/>
            <a:ext cx="1428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r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44"/>
          <p:cNvGrpSpPr/>
          <p:nvPr/>
        </p:nvGrpSpPr>
        <p:grpSpPr>
          <a:xfrm>
            <a:off x="0" y="0"/>
            <a:ext cx="9144000" cy="6286680"/>
            <a:chOff x="0" y="0"/>
            <a:chExt cx="9144000" cy="6286680"/>
          </a:xfrm>
        </p:grpSpPr>
        <p:grpSp>
          <p:nvGrpSpPr>
            <p:cNvPr id="92" name="Group 34"/>
            <p:cNvGrpSpPr/>
            <p:nvPr/>
          </p:nvGrpSpPr>
          <p:grpSpPr>
            <a:xfrm>
              <a:off x="0" y="5105520"/>
              <a:ext cx="2514600" cy="1143000"/>
              <a:chOff x="0" y="5105520"/>
              <a:chExt cx="2514600" cy="1143000"/>
            </a:xfrm>
          </p:grpSpPr>
          <p:sp>
            <p:nvSpPr>
              <p:cNvPr id="93" name="Rectangle 35"/>
              <p:cNvSpPr/>
              <p:nvPr/>
            </p:nvSpPr>
            <p:spPr>
              <a:xfrm>
                <a:off x="0" y="5105520"/>
                <a:ext cx="2514600" cy="1143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36"/>
              <p:cNvSpPr/>
              <p:nvPr/>
            </p:nvSpPr>
            <p:spPr>
              <a:xfrm>
                <a:off x="609480" y="5285880"/>
                <a:ext cx="1752840" cy="4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609480" indent="-609480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800000"/>
                    </a:solidFill>
                    <a:latin typeface="Times New Roman"/>
                  </a:rPr>
                  <a:t>vast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Rectangle 37"/>
            <p:cNvSpPr/>
            <p:nvPr/>
          </p:nvSpPr>
          <p:spPr>
            <a:xfrm>
              <a:off x="3657600" y="0"/>
              <a:ext cx="1828800" cy="1066680"/>
            </a:xfrm>
            <a:prstGeom prst="rect">
              <a:avLst/>
            </a:prstGeom>
            <a:noFill/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800000"/>
                  </a:solidFill>
                  <a:latin typeface="Times New Roman"/>
                </a:rPr>
                <a:t>ga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Group 38"/>
            <p:cNvGrpSpPr/>
            <p:nvPr/>
          </p:nvGrpSpPr>
          <p:grpSpPr>
            <a:xfrm>
              <a:off x="6248520" y="5029200"/>
              <a:ext cx="2895480" cy="1257480"/>
              <a:chOff x="6248520" y="5029200"/>
              <a:chExt cx="2895480" cy="1257480"/>
            </a:xfrm>
          </p:grpSpPr>
          <p:sp>
            <p:nvSpPr>
              <p:cNvPr id="97" name="AutoShape 39"/>
              <p:cNvSpPr/>
              <p:nvPr/>
            </p:nvSpPr>
            <p:spPr>
              <a:xfrm>
                <a:off x="6248520" y="5133960"/>
                <a:ext cx="2743200" cy="1143000"/>
              </a:xfrm>
              <a:custGeom>
                <a:avLst/>
                <a:gdLst>
                  <a:gd name="textAreaLeft" fmla="*/ 228600 w 2743200"/>
                  <a:gd name="textAreaRight" fmla="*/ 2514600 w 2743200"/>
                  <a:gd name="textAreaTop" fmla="*/ 95040 h 1143000"/>
                  <a:gd name="textAreaBottom" fmla="*/ 1047960 h 114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ff"/>
              </a:solidFill>
              <a:ln cap="rnd" w="9360">
                <a:solidFill>
                  <a:srgbClr val="66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" name="Group 40"/>
              <p:cNvGrpSpPr/>
              <p:nvPr/>
            </p:nvGrpSpPr>
            <p:grpSpPr>
              <a:xfrm>
                <a:off x="6248520" y="5029200"/>
                <a:ext cx="2895480" cy="1257480"/>
                <a:chOff x="6248520" y="5029200"/>
                <a:chExt cx="2895480" cy="1257480"/>
              </a:xfrm>
            </p:grpSpPr>
            <p:sp>
              <p:nvSpPr>
                <p:cNvPr id="99" name="Freeform 41"/>
                <p:cNvSpPr/>
                <p:nvPr/>
              </p:nvSpPr>
              <p:spPr>
                <a:xfrm>
                  <a:off x="6248520" y="5029200"/>
                  <a:ext cx="2743200" cy="1257480"/>
                </a:xfrm>
                <a:custGeom>
                  <a:avLst/>
                  <a:gdLst>
                    <a:gd name="textAreaLeft" fmla="*/ 0 w 2743200"/>
                    <a:gd name="textAreaRight" fmla="*/ 2743200 w 2743200"/>
                    <a:gd name="textAreaTop" fmla="*/ 0 h 1257480"/>
                    <a:gd name="textAreaBottom" fmla="*/ 1257840 h 1257480"/>
                  </a:gdLst>
                  <a:ahLst/>
                  <a:rect l="textAreaLeft" t="textAreaTop" r="textAreaRight" b="textAreaBottom"/>
                  <a:pathLst>
                    <a:path w="1728" h="888">
                      <a:moveTo>
                        <a:pt x="0" y="12"/>
                      </a:moveTo>
                      <a:lnTo>
                        <a:pt x="0" y="876"/>
                      </a:lnTo>
                      <a:lnTo>
                        <a:pt x="1728" y="888"/>
                      </a:lnTo>
                      <a:lnTo>
                        <a:pt x="1728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Rectangle 42"/>
                <p:cNvSpPr/>
                <p:nvPr/>
              </p:nvSpPr>
              <p:spPr>
                <a:xfrm>
                  <a:off x="6248520" y="5257800"/>
                  <a:ext cx="289548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609480" indent="-609480"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800000"/>
                      </a:solidFill>
                      <a:latin typeface="Times New Roman"/>
                    </a:rPr>
                    <a:t>vloeibaar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1" name="AutoShape 2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reeform 11"/>
          <p:cNvSpPr/>
          <p:nvPr/>
        </p:nvSpPr>
        <p:spPr>
          <a:xfrm>
            <a:off x="1219320" y="1085760"/>
            <a:ext cx="2628720" cy="3981600"/>
          </a:xfrm>
          <a:custGeom>
            <a:avLst/>
            <a:gdLst>
              <a:gd name="textAreaLeft" fmla="*/ 0 w 2628720"/>
              <a:gd name="textAreaRight" fmla="*/ 2629080 w 2628720"/>
              <a:gd name="textAreaTop" fmla="*/ 0 h 3981600"/>
              <a:gd name="textAreaBottom" fmla="*/ 3981960 h 3981600"/>
            </a:gdLst>
            <a:ahLst/>
            <a:rect l="textAreaLeft" t="textAreaTop" r="textAreaRight" b="textAreaBottom"/>
            <a:pathLst>
              <a:path w="1656" h="2508">
                <a:moveTo>
                  <a:pt x="0" y="2508"/>
                </a:moveTo>
                <a:lnTo>
                  <a:pt x="1656" y="0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12"/>
          <p:cNvSpPr/>
          <p:nvPr/>
        </p:nvSpPr>
        <p:spPr>
          <a:xfrm>
            <a:off x="1600200" y="1085760"/>
            <a:ext cx="2647800" cy="4019760"/>
          </a:xfrm>
          <a:custGeom>
            <a:avLst/>
            <a:gdLst>
              <a:gd name="textAreaLeft" fmla="*/ 0 w 2647800"/>
              <a:gd name="textAreaRight" fmla="*/ 2648160 w 2647800"/>
              <a:gd name="textAreaTop" fmla="*/ 0 h 4019760"/>
              <a:gd name="textAreaBottom" fmla="*/ 4020120 h 4019760"/>
            </a:gdLst>
            <a:ahLst/>
            <a:rect l="textAreaLeft" t="textAreaTop" r="textAreaRight" b="textAreaBottom"/>
            <a:pathLst>
              <a:path w="1668" h="2532">
                <a:moveTo>
                  <a:pt x="1668" y="0"/>
                </a:moveTo>
                <a:lnTo>
                  <a:pt x="0" y="2532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reeform 13"/>
          <p:cNvSpPr/>
          <p:nvPr/>
        </p:nvSpPr>
        <p:spPr>
          <a:xfrm>
            <a:off x="2514600" y="5410080"/>
            <a:ext cx="3695760" cy="1800"/>
          </a:xfrm>
          <a:custGeom>
            <a:avLst/>
            <a:gdLst>
              <a:gd name="textAreaLeft" fmla="*/ 0 w 3695760"/>
              <a:gd name="textAreaRight" fmla="*/ 3696120 w 36957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328" h="1">
                <a:moveTo>
                  <a:pt x="2328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reeform 14"/>
          <p:cNvSpPr/>
          <p:nvPr/>
        </p:nvSpPr>
        <p:spPr>
          <a:xfrm>
            <a:off x="2514600" y="5791320"/>
            <a:ext cx="3733920" cy="19080"/>
          </a:xfrm>
          <a:custGeom>
            <a:avLst/>
            <a:gdLst>
              <a:gd name="textAreaLeft" fmla="*/ 0 w 3733920"/>
              <a:gd name="textAreaRight" fmla="*/ 3734280 w 37339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352" h="12">
                <a:moveTo>
                  <a:pt x="0" y="0"/>
                </a:moveTo>
                <a:lnTo>
                  <a:pt x="2352" y="12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360" bIns="-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reeform 15"/>
          <p:cNvSpPr/>
          <p:nvPr/>
        </p:nvSpPr>
        <p:spPr>
          <a:xfrm>
            <a:off x="5238720" y="1066680"/>
            <a:ext cx="2952720" cy="4057920"/>
          </a:xfrm>
          <a:custGeom>
            <a:avLst/>
            <a:gdLst>
              <a:gd name="textAreaLeft" fmla="*/ 0 w 2952720"/>
              <a:gd name="textAreaRight" fmla="*/ 2953080 w 2952720"/>
              <a:gd name="textAreaTop" fmla="*/ 0 h 4057920"/>
              <a:gd name="textAreaBottom" fmla="*/ 4058280 h 4057920"/>
            </a:gdLst>
            <a:ahLst/>
            <a:rect l="textAreaLeft" t="textAreaTop" r="textAreaRight" b="textAreaBottom"/>
            <a:pathLst>
              <a:path w="1860" h="2556">
                <a:moveTo>
                  <a:pt x="1860" y="2556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reeform 16"/>
          <p:cNvSpPr/>
          <p:nvPr/>
        </p:nvSpPr>
        <p:spPr>
          <a:xfrm>
            <a:off x="4762440" y="1066680"/>
            <a:ext cx="2990880" cy="405792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57920"/>
              <a:gd name="textAreaBottom" fmla="*/ 4058280 h 4057920"/>
            </a:gdLst>
            <a:ahLst/>
            <a:rect l="textAreaLeft" t="textAreaTop" r="textAreaRight" b="textAreaBottom"/>
            <a:pathLst>
              <a:path w="1884" h="2556">
                <a:moveTo>
                  <a:pt x="0" y="0"/>
                </a:moveTo>
                <a:lnTo>
                  <a:pt x="1884" y="2556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6400800" y="22096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8"/>
          <p:cNvSpPr/>
          <p:nvPr/>
        </p:nvSpPr>
        <p:spPr>
          <a:xfrm rot="18222000">
            <a:off x="259920" y="263520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sublimer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9"/>
          <p:cNvSpPr/>
          <p:nvPr/>
        </p:nvSpPr>
        <p:spPr>
          <a:xfrm rot="18201000">
            <a:off x="1479240" y="301644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cc"/>
                </a:solidFill>
                <a:uFillTx/>
                <a:latin typeface="Times New Roman"/>
                <a:hlinkClick r:id="rId2"/>
              </a:rPr>
              <a:t>rij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0"/>
          <p:cNvSpPr/>
          <p:nvPr/>
        </p:nvSpPr>
        <p:spPr>
          <a:xfrm rot="3199200">
            <a:off x="4068720" y="286452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cc"/>
                </a:solidFill>
                <a:uFillTx/>
                <a:latin typeface="Times New Roman"/>
                <a:hlinkClick r:id="rId3"/>
              </a:rPr>
              <a:t>condenser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1"/>
          <p:cNvSpPr/>
          <p:nvPr/>
        </p:nvSpPr>
        <p:spPr>
          <a:xfrm rot="3235200">
            <a:off x="5288040" y="240696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cc"/>
                </a:solidFill>
                <a:uFillTx/>
                <a:latin typeface="Times New Roman"/>
                <a:hlinkClick r:id="rId4"/>
              </a:rPr>
              <a:t>verdam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2"/>
          <p:cNvSpPr/>
          <p:nvPr/>
        </p:nvSpPr>
        <p:spPr>
          <a:xfrm rot="46200">
            <a:off x="2590920" y="457200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00"/>
                </a:solidFill>
                <a:latin typeface="Times New Roman"/>
              </a:rPr>
              <a:t>stoll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3"/>
          <p:cNvSpPr/>
          <p:nvPr/>
        </p:nvSpPr>
        <p:spPr>
          <a:xfrm rot="21563400">
            <a:off x="3122280" y="5788080"/>
            <a:ext cx="282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smelt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Bij water hebben de 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en sommige faseovergang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5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3500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en eigen na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4T22:22:33Z</dcterms:created>
  <dc:creator>Tijmensen</dc:creator>
  <dc:description/>
  <dc:language>en-US</dc:language>
  <cp:lastModifiedBy>Robert Verlaak</cp:lastModifiedBy>
  <dcterms:modified xsi:type="dcterms:W3CDTF">2014-08-25T06:39:31Z</dcterms:modified>
  <cp:revision>53</cp:revision>
  <dc:subject/>
  <dc:title>Licht en kleur Pulsar h4</dc:title>
</cp:coreProperties>
</file>