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E5F3-1108-4023-A205-0BF5E04A7A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5E84-3375-459B-BD3A-14498114D6D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21FB-E65B-4687-B0CB-7136FEFCE4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39E2-A0BC-440E-AE06-44F92A07C2C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975D-567C-4A7B-A27F-ED7A9847E7F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14DB-F607-40AC-AF71-08BA8912F8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E039-50A0-46E8-A7B6-DE6082389D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BE0A-689F-4B19-A6DC-4D1D71A2B2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8FD1-766F-4005-8353-2AAA2711CD0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7AAB-E45D-4527-B636-2BEFCC9A72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8FB1-7840-4AC1-8957-7E4FF0EE3C7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FED6-86E5-4673-8F8B-0FF6DE2EC26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6F9B-B4D9-4D95-AAA3-9D26FC359C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056D-ADBB-4842-A61D-A5D413681A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87ED-E97A-4277-BF23-AE33B287F0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E0A6-2EA1-41D4-AE4D-C639938164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D4B5-5BE0-4B9B-A23C-4BCE78D9F33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25A6-F31B-48C9-9D9D-64BB0ED316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8ED-EBEE-4D4F-9E12-B5C93DD0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604-4552-41DF-AA8E-51E75559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57C-75FC-4092-8D7E-43BD8BB0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380-C6FC-4C74-B5A7-32169A7A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F8C-DA49-4185-B527-AF4C9681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21A-49A3-4839-AFAA-9D162824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BA2-9451-4484-AC9E-B8A1560C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A60-7FEF-43F3-B6D4-27B81F8E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50F-8B72-463F-8969-DAC5E23E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C97-B8D6-4A14-916A-48103FB9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425-ABFA-410E-80A8-4B7C9A54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1B7-2966-4169-84DB-F1CD49FB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d0"/>
            </a:gs>
            <a:gs pos="50000">
              <a:srgbClr val="ccffcc"/>
            </a:gs>
            <a:gs pos="100000">
              <a:srgbClr val="d0ff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CAC7-0540-42DC-A075-4731887FAC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eb.teleblik.kennisnet.nl/tsr/player/vo/fid/1219009" TargetMode="External"/><Relationship Id="rId2" Type="http://schemas.openxmlformats.org/officeDocument/2006/relationships/hyperlink" Target="http://web.teleblik.kennisnet.nl/tsr/player/vo/fid/1219008" TargetMode="External"/><Relationship Id="rId3" Type="http://schemas.openxmlformats.org/officeDocument/2006/relationships/hyperlink" Target="http://web.teleblik.kennisnet.nl/tsr/player/vo/fid/1114773" TargetMode="External"/><Relationship Id="rId4" Type="http://schemas.openxmlformats.org/officeDocument/2006/relationships/hyperlink" Target="http://web.teleblik.kennisnet.nl/tsr/player/vo/fid/122057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5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120" name="Group 2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js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5"/>
            <p:cNvSpPr/>
            <p:nvPr/>
          </p:nvSpPr>
          <p:spPr>
            <a:xfrm>
              <a:off x="2971800" y="0"/>
              <a:ext cx="32004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00"/>
                  </a:solidFill>
                  <a:latin typeface="Times New Roman"/>
                </a:rPr>
                <a:t>waterdam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6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125" name="AutoShape 7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8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127" name="Freeform 9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     </a:t>
                  </a:r>
                  <a:r>
                    <a:rPr b="1" i="1" lang="en-US" sz="4800" spc="-1" strike="noStrike">
                      <a:solidFill>
                        <a:srgbClr val="ffff00"/>
                      </a:solidFill>
                      <a:latin typeface="Times New Roman"/>
                    </a:rPr>
                    <a:t>wate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4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2533680" y="5810400"/>
            <a:ext cx="3714840" cy="144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340" h="1">
                <a:moveTo>
                  <a:pt x="0" y="0"/>
                </a:moveTo>
                <a:lnTo>
                  <a:pt x="234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7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evriez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oe zien de fasen er uit bij water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vaste fase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33526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, mi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343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Waterdamp 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79132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ijs of rij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52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vloeibare fas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791320" y="43434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zichtba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J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loeibaar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786200" y="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vriez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gas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rijp"/>
          <p:cNvPicPr/>
          <p:nvPr/>
        </p:nvPicPr>
        <p:blipFill>
          <a:blip r:embed="rId1"/>
          <a:stretch/>
        </p:blipFill>
        <p:spPr>
          <a:xfrm>
            <a:off x="1428840" y="2428920"/>
            <a:ext cx="64292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500076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2193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2916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3080" y="1214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ondens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damp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09480" y="3048120"/>
            <a:ext cx="4114800" cy="281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 is onzichtbaa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400800" y="2209680"/>
            <a:ext cx="2514600" cy="2210040"/>
          </a:xfrm>
          <a:prstGeom prst="wedgeEllipseCallout">
            <a:avLst>
              <a:gd name="adj1" fmla="val -151513"/>
              <a:gd name="adj2" fmla="val 6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181480" y="762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3124080" y="762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et elke stof kan in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orkomen omdat niet el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f tegen verhitten k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Papier kan je niet smel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Papier kan niet in de vloeib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50292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gasvormige fase voorko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Bijna) elke stof kan in 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en voorkome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1. De vast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. De vloeibar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3962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3. De gasvormig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215040" y="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e zetten de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p de hoekpunten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en drieho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0" y="5105520"/>
            <a:ext cx="2514600" cy="1143000"/>
            <a:chOff x="0" y="5105520"/>
            <a:chExt cx="2514600" cy="1143000"/>
          </a:xfrm>
        </p:grpSpPr>
        <p:sp>
          <p:nvSpPr>
            <p:cNvPr id="77" name="Rectangle 4"/>
            <p:cNvSpPr/>
            <p:nvPr/>
          </p:nvSpPr>
          <p:spPr>
            <a:xfrm>
              <a:off x="0" y="5105520"/>
              <a:ext cx="251460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09480" y="5285880"/>
              <a:ext cx="1752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vas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3657600" y="0"/>
            <a:ext cx="1828800" cy="10666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6248520" y="5029200"/>
            <a:ext cx="2895480" cy="1257480"/>
            <a:chOff x="6248520" y="5029200"/>
            <a:chExt cx="2895480" cy="1257480"/>
          </a:xfrm>
        </p:grpSpPr>
        <p:sp>
          <p:nvSpPr>
            <p:cNvPr id="81" name="AutoShape 8"/>
            <p:cNvSpPr/>
            <p:nvPr/>
          </p:nvSpPr>
          <p:spPr>
            <a:xfrm>
              <a:off x="6248520" y="5133960"/>
              <a:ext cx="2743200" cy="1143000"/>
            </a:xfrm>
            <a:custGeom>
              <a:avLst/>
              <a:gdLst>
                <a:gd name="textAreaLeft" fmla="*/ 228600 w 2743200"/>
                <a:gd name="textAreaRight" fmla="*/ 2514600 w 2743200"/>
                <a:gd name="textAreaTop" fmla="*/ 95040 h 1143000"/>
                <a:gd name="textAreaBottom" fmla="*/ 10479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cap="rnd" w="9360">
              <a:solidFill>
                <a:srgbClr val="66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27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48520" y="5029200"/>
                <a:ext cx="2743200" cy="125748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728" h="888">
                    <a:moveTo>
                      <a:pt x="0" y="12"/>
                    </a:moveTo>
                    <a:lnTo>
                      <a:pt x="0" y="876"/>
                    </a:lnTo>
                    <a:lnTo>
                      <a:pt x="1728" y="888"/>
                    </a:lnTo>
                    <a:lnTo>
                      <a:pt x="1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6248520" y="5257800"/>
                <a:ext cx="28954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loeibaar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AutoShape 28"/>
          <p:cNvSpPr/>
          <p:nvPr/>
        </p:nvSpPr>
        <p:spPr>
          <a:xfrm>
            <a:off x="1676520" y="1066680"/>
            <a:ext cx="5943600" cy="4038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r zijn        faseovergang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mogelijk tussen de       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00160" y="114300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857840" y="228600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4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92" name="Group 34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93" name="Rectangle 35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as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3657600" y="0"/>
              <a:ext cx="18288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g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8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97" name="AutoShape 39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Group 40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99" name="Freeform 41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2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vloeibaa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2514600" y="5791320"/>
            <a:ext cx="3733920" cy="19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52" h="12">
                <a:moveTo>
                  <a:pt x="0" y="0"/>
                </a:moveTo>
                <a:lnTo>
                  <a:pt x="2352" y="12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stol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Bij water hebben d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n sommige faseovergan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50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en eigen na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2:22:33Z</dcterms:created>
  <dc:creator>Tijmensen</dc:creator>
  <dc:description/>
  <dc:language>en-US</dc:language>
  <cp:lastModifiedBy>Robert Verlaak</cp:lastModifiedBy>
  <dcterms:modified xsi:type="dcterms:W3CDTF">2014-08-25T06:39:31Z</dcterms:modified>
  <cp:revision>53</cp:revision>
  <dc:subject/>
  <dc:title>Licht en kleur Pulsar h4</dc:title>
</cp:coreProperties>
</file>