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982D-4A97-47F7-995F-02E64C4E31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450F-AB7C-4E3D-9C9C-63EBC27D8B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734A-C6EE-4272-AD8E-D40A8D9A568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2A0F-E65A-40F1-8323-1EE4296298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8F02-CA49-49DD-B8BE-42D248C039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776-E2DE-4612-8CB3-C84033E16B1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EE6D-19F2-42B4-9B0A-479763181B5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5BD-34CD-4ED0-AB76-55F9980B03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2462-E21F-4BD4-A24E-3147BCFCC23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E547-EFDE-41CB-8A22-E2E6574044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A5FE-BCBE-4E62-8A37-4AC2E0DC5D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448F-A310-48BA-AD88-A9C0FE79B9F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9A17-BCE9-4899-ABF5-1A347BF02AB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445B-C0DC-49A9-837C-26DE788FEC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F01-B0FB-43D2-8DFD-434617C6BC3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8D45-8494-4685-BF21-4C7D404D67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F12-A882-4573-A91F-8F3578F4EF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F5DE-C291-4AA3-9ED9-BC92C78E55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F061-3B42-480F-A4AD-C8B9AD6A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07C-1BB0-457C-BA73-FD0E136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20D-B23B-4346-8C70-BAC1D00A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20FB-A003-4E6B-99A3-8FDE960C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086-E210-4F6A-8BEF-7EC99A57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8D4-28F5-401C-8000-7C11922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BCF-3651-4BFF-9B33-335F2131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C17-43C0-415D-89F7-A29D72B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B27-0578-4DB9-9165-26888AEF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B8D-4740-48A1-BD90-3D62F97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51F-B2A3-4E23-9597-0F243ED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28A-0D8E-4B83-A4FE-AA7E02A8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d0"/>
            </a:gs>
            <a:gs pos="50000">
              <a:srgbClr val="ccffcc"/>
            </a:gs>
            <a:gs pos="100000">
              <a:srgbClr val="d0ff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065F-BD59-415F-B325-E8B829004EC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eb.teleblik.kennisnet.nl/tsr/player/vo/fid/1219009" TargetMode="External"/><Relationship Id="rId2" Type="http://schemas.openxmlformats.org/officeDocument/2006/relationships/hyperlink" Target="http://web.teleblik.kennisnet.nl/tsr/player/vo/fid/1219008" TargetMode="External"/><Relationship Id="rId3" Type="http://schemas.openxmlformats.org/officeDocument/2006/relationships/hyperlink" Target="http://web.teleblik.kennisnet.nl/tsr/player/vo/fid/1114773" TargetMode="External"/><Relationship Id="rId4" Type="http://schemas.openxmlformats.org/officeDocument/2006/relationships/hyperlink" Target="http://web.teleblik.kennisnet.nl/tsr/player/vo/fid/1220573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5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120" name="Group 2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js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5"/>
            <p:cNvSpPr/>
            <p:nvPr/>
          </p:nvSpPr>
          <p:spPr>
            <a:xfrm>
              <a:off x="2971800" y="0"/>
              <a:ext cx="32004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00"/>
                  </a:solidFill>
                  <a:latin typeface="Times New Roman"/>
                </a:rPr>
                <a:t>waterdam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6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125" name="AutoShape 7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Group 8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127" name="Freeform 9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0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     </a:t>
                  </a:r>
                  <a:r>
                    <a:rPr b="1" i="1" lang="en-US" sz="4800" spc="-1" strike="noStrike">
                      <a:solidFill>
                        <a:srgbClr val="ffff00"/>
                      </a:solidFill>
                      <a:latin typeface="Times New Roman"/>
                    </a:rPr>
                    <a:t>wate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9" name="AutoShape 11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12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3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4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5"/>
          <p:cNvSpPr/>
          <p:nvPr/>
        </p:nvSpPr>
        <p:spPr>
          <a:xfrm>
            <a:off x="2533680" y="5810400"/>
            <a:ext cx="3714840" cy="144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340" h="1">
                <a:moveTo>
                  <a:pt x="0" y="0"/>
                </a:moveTo>
                <a:lnTo>
                  <a:pt x="234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16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17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9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0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1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2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3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evriez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4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Hoe zien de fasen er uit bij water?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-360" y="2437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vaste fase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791320" y="33526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, mi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434340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Waterdamp        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5791320" y="24382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ijs of rij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0" y="33526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vloeibare fas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791320" y="43434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zichtba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IJs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152388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loeibaar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786200" y="0"/>
            <a:ext cx="28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bevriez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ontstaat door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dat is de faseovergang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gas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naar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ast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rijp"/>
          <p:cNvPicPr/>
          <p:nvPr/>
        </p:nvPicPr>
        <p:blipFill>
          <a:blip r:embed="rId1"/>
          <a:stretch/>
        </p:blipFill>
        <p:spPr>
          <a:xfrm>
            <a:off x="1428840" y="2428920"/>
            <a:ext cx="64292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5000760" y="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121932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5429160" y="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143080" y="121428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condens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Waterdamp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ntstaat door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8" name="AutoShape 4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609480" y="3048120"/>
            <a:ext cx="4114800" cy="2819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523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 is onzichtbaa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6400800" y="2209680"/>
            <a:ext cx="2514600" cy="2210040"/>
          </a:xfrm>
          <a:prstGeom prst="wedgeEllipseCallout">
            <a:avLst>
              <a:gd name="adj1" fmla="val -151513"/>
              <a:gd name="adj2" fmla="val 63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aterdam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5181480" y="76212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ublimeren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3124080" y="762120"/>
            <a:ext cx="213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do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iet elke stof kan in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oorkomen omdat niet el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tof tegen verhitten k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Papier kan je niet smelt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4267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Papier kan niet in de vloeib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0" y="50292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f gasvormige fase voorko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Bijna) elke stof kan in  . . .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asen voorkome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228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1. De vast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0" y="3124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2. De vloeibar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0" y="3962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3. De gasvormige f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215040" y="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 De drie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2004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339933"/>
                </a:solidFill>
                <a:latin typeface="Times New Roman"/>
              </a:rPr>
              <a:t>2. De zes fase-overgang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962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 Ein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We zetten de dri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op de hoekpunten 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0" y="3581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en driehoe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0" y="5105520"/>
            <a:ext cx="2514600" cy="1143000"/>
            <a:chOff x="0" y="5105520"/>
            <a:chExt cx="2514600" cy="1143000"/>
          </a:xfrm>
        </p:grpSpPr>
        <p:sp>
          <p:nvSpPr>
            <p:cNvPr id="77" name="Rectangle 4"/>
            <p:cNvSpPr/>
            <p:nvPr/>
          </p:nvSpPr>
          <p:spPr>
            <a:xfrm>
              <a:off x="0" y="5105520"/>
              <a:ext cx="2514600" cy="1143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609480" y="5285880"/>
              <a:ext cx="175284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vast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3657600" y="0"/>
            <a:ext cx="1828800" cy="1066680"/>
          </a:xfrm>
          <a:prstGeom prst="rect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0"/>
          <p:cNvGrpSpPr/>
          <p:nvPr/>
        </p:nvGrpSpPr>
        <p:grpSpPr>
          <a:xfrm>
            <a:off x="6248520" y="5029200"/>
            <a:ext cx="2895480" cy="1257480"/>
            <a:chOff x="6248520" y="5029200"/>
            <a:chExt cx="2895480" cy="1257480"/>
          </a:xfrm>
        </p:grpSpPr>
        <p:sp>
          <p:nvSpPr>
            <p:cNvPr id="81" name="AutoShape 8"/>
            <p:cNvSpPr/>
            <p:nvPr/>
          </p:nvSpPr>
          <p:spPr>
            <a:xfrm>
              <a:off x="6248520" y="5133960"/>
              <a:ext cx="2743200" cy="1143000"/>
            </a:xfrm>
            <a:custGeom>
              <a:avLst/>
              <a:gdLst>
                <a:gd name="textAreaLeft" fmla="*/ 228600 w 2743200"/>
                <a:gd name="textAreaRight" fmla="*/ 2514600 w 2743200"/>
                <a:gd name="textAreaTop" fmla="*/ 95040 h 1143000"/>
                <a:gd name="textAreaBottom" fmla="*/ 10479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ffff"/>
            </a:solidFill>
            <a:ln cap="rnd" w="9360">
              <a:solidFill>
                <a:srgbClr val="66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Group 27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48520" y="5029200"/>
                <a:ext cx="2743200" cy="125748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257480"/>
                  <a:gd name="textAreaBottom" fmla="*/ 1257840 h 1257480"/>
                </a:gdLst>
                <a:ahLst/>
                <a:rect l="textAreaLeft" t="textAreaTop" r="textAreaRight" b="textAreaBottom"/>
                <a:pathLst>
                  <a:path w="1728" h="888">
                    <a:moveTo>
                      <a:pt x="0" y="12"/>
                    </a:moveTo>
                    <a:lnTo>
                      <a:pt x="0" y="876"/>
                    </a:lnTo>
                    <a:lnTo>
                      <a:pt x="1728" y="888"/>
                    </a:lnTo>
                    <a:lnTo>
                      <a:pt x="17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Rectangle 10"/>
              <p:cNvSpPr/>
              <p:nvPr/>
            </p:nvSpPr>
            <p:spPr>
              <a:xfrm>
                <a:off x="6248520" y="5257800"/>
                <a:ext cx="289548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loeibaar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" name="AutoShape 28"/>
          <p:cNvSpPr/>
          <p:nvPr/>
        </p:nvSpPr>
        <p:spPr>
          <a:xfrm>
            <a:off x="1676520" y="1066680"/>
            <a:ext cx="5943600" cy="40388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r zijn        faseovergang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mogelijk tussen de        fas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7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2000160" y="114300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z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4857840" y="228600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r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44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grpSp>
          <p:nvGrpSpPr>
            <p:cNvPr id="92" name="Group 34"/>
            <p:cNvGrpSpPr/>
            <p:nvPr/>
          </p:nvGrpSpPr>
          <p:grpSpPr>
            <a:xfrm>
              <a:off x="0" y="5105520"/>
              <a:ext cx="2514600" cy="1143000"/>
              <a:chOff x="0" y="5105520"/>
              <a:chExt cx="2514600" cy="1143000"/>
            </a:xfrm>
          </p:grpSpPr>
          <p:sp>
            <p:nvSpPr>
              <p:cNvPr id="93" name="Rectangle 35"/>
              <p:cNvSpPr/>
              <p:nvPr/>
            </p:nvSpPr>
            <p:spPr>
              <a:xfrm>
                <a:off x="0" y="5105520"/>
                <a:ext cx="2514600" cy="1143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36"/>
              <p:cNvSpPr/>
              <p:nvPr/>
            </p:nvSpPr>
            <p:spPr>
              <a:xfrm>
                <a:off x="609480" y="5285880"/>
                <a:ext cx="1752840" cy="48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9480" indent="-609480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800000"/>
                    </a:solidFill>
                    <a:latin typeface="Times New Roman"/>
                  </a:rPr>
                  <a:t>vast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37"/>
            <p:cNvSpPr/>
            <p:nvPr/>
          </p:nvSpPr>
          <p:spPr>
            <a:xfrm>
              <a:off x="3657600" y="0"/>
              <a:ext cx="1828800" cy="1066680"/>
            </a:xfrm>
            <a:prstGeom prst="rect">
              <a:avLst/>
            </a:prstGeom>
            <a:noFill/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800000"/>
                  </a:solidFill>
                  <a:latin typeface="Times New Roman"/>
                </a:rPr>
                <a:t>g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38"/>
            <p:cNvGrpSpPr/>
            <p:nvPr/>
          </p:nvGrpSpPr>
          <p:grpSpPr>
            <a:xfrm>
              <a:off x="6248520" y="5029200"/>
              <a:ext cx="2895480" cy="1257480"/>
              <a:chOff x="6248520" y="5029200"/>
              <a:chExt cx="2895480" cy="1257480"/>
            </a:xfrm>
          </p:grpSpPr>
          <p:sp>
            <p:nvSpPr>
              <p:cNvPr id="97" name="AutoShape 39"/>
              <p:cNvSpPr/>
              <p:nvPr/>
            </p:nvSpPr>
            <p:spPr>
              <a:xfrm>
                <a:off x="6248520" y="5133960"/>
                <a:ext cx="2743200" cy="1143000"/>
              </a:xfrm>
              <a:custGeom>
                <a:avLst/>
                <a:gdLst>
                  <a:gd name="textAreaLeft" fmla="*/ 228600 w 2743200"/>
                  <a:gd name="textAreaRight" fmla="*/ 2514600 w 2743200"/>
                  <a:gd name="textAreaTop" fmla="*/ 95040 h 1143000"/>
                  <a:gd name="textAreaBottom" fmla="*/ 104796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ffff"/>
              </a:solidFill>
              <a:ln cap="rnd" w="9360">
                <a:solidFill>
                  <a:srgbClr val="66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Group 40"/>
              <p:cNvGrpSpPr/>
              <p:nvPr/>
            </p:nvGrpSpPr>
            <p:grpSpPr>
              <a:xfrm>
                <a:off x="6248520" y="5029200"/>
                <a:ext cx="2895480" cy="1257480"/>
                <a:chOff x="6248520" y="5029200"/>
                <a:chExt cx="2895480" cy="1257480"/>
              </a:xfrm>
            </p:grpSpPr>
            <p:sp>
              <p:nvSpPr>
                <p:cNvPr id="99" name="Freeform 41"/>
                <p:cNvSpPr/>
                <p:nvPr/>
              </p:nvSpPr>
              <p:spPr>
                <a:xfrm>
                  <a:off x="6248520" y="5029200"/>
                  <a:ext cx="2743200" cy="1257480"/>
                </a:xfrm>
                <a:custGeom>
                  <a:avLst/>
                  <a:gdLst>
                    <a:gd name="textAreaLeft" fmla="*/ 0 w 2743200"/>
                    <a:gd name="textAreaRight" fmla="*/ 2743200 w 2743200"/>
                    <a:gd name="textAreaTop" fmla="*/ 0 h 1257480"/>
                    <a:gd name="textAreaBottom" fmla="*/ 1257840 h 1257480"/>
                  </a:gdLst>
                  <a:ahLst/>
                  <a:rect l="textAreaLeft" t="textAreaTop" r="textAreaRight" b="textAreaBottom"/>
                  <a:pathLst>
                    <a:path w="1728" h="888">
                      <a:moveTo>
                        <a:pt x="0" y="12"/>
                      </a:moveTo>
                      <a:lnTo>
                        <a:pt x="0" y="876"/>
                      </a:lnTo>
                      <a:lnTo>
                        <a:pt x="1728" y="888"/>
                      </a:lnTo>
                      <a:lnTo>
                        <a:pt x="172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42"/>
                <p:cNvSpPr/>
                <p:nvPr/>
              </p:nvSpPr>
              <p:spPr>
                <a:xfrm>
                  <a:off x="6248520" y="5257800"/>
                  <a:ext cx="2895480" cy="76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609480" indent="-609480"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800000"/>
                      </a:solidFill>
                      <a:latin typeface="Times New Roman"/>
                    </a:rPr>
                    <a:t>vloeibaar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1" name="AutoShape 2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1219320" y="1085760"/>
            <a:ext cx="2628720" cy="3981600"/>
          </a:xfrm>
          <a:custGeom>
            <a:avLst/>
            <a:gdLst>
              <a:gd name="textAreaLeft" fmla="*/ 0 w 2628720"/>
              <a:gd name="textAreaRight" fmla="*/ 2629080 w 2628720"/>
              <a:gd name="textAreaTop" fmla="*/ 0 h 3981600"/>
              <a:gd name="textAreaBottom" fmla="*/ 3981960 h 3981600"/>
            </a:gdLst>
            <a:ahLst/>
            <a:rect l="textAreaLeft" t="textAreaTop" r="textAreaRight" b="textAreaBottom"/>
            <a:pathLst>
              <a:path w="1656" h="2508">
                <a:moveTo>
                  <a:pt x="0" y="2508"/>
                </a:moveTo>
                <a:lnTo>
                  <a:pt x="1656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2"/>
          <p:cNvSpPr/>
          <p:nvPr/>
        </p:nvSpPr>
        <p:spPr>
          <a:xfrm>
            <a:off x="1600200" y="1085760"/>
            <a:ext cx="2647800" cy="4019760"/>
          </a:xfrm>
          <a:custGeom>
            <a:avLst/>
            <a:gdLst>
              <a:gd name="textAreaLeft" fmla="*/ 0 w 2647800"/>
              <a:gd name="textAreaRight" fmla="*/ 2648160 w 2647800"/>
              <a:gd name="textAreaTop" fmla="*/ 0 h 4019760"/>
              <a:gd name="textAreaBottom" fmla="*/ 4020120 h 4019760"/>
            </a:gdLst>
            <a:ahLst/>
            <a:rect l="textAreaLeft" t="textAreaTop" r="textAreaRight" b="textAreaBottom"/>
            <a:pathLst>
              <a:path w="1668" h="2532">
                <a:moveTo>
                  <a:pt x="1668" y="0"/>
                </a:moveTo>
                <a:lnTo>
                  <a:pt x="0" y="2532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3"/>
          <p:cNvSpPr/>
          <p:nvPr/>
        </p:nvSpPr>
        <p:spPr>
          <a:xfrm>
            <a:off x="2514600" y="5410080"/>
            <a:ext cx="3695760" cy="1800"/>
          </a:xfrm>
          <a:custGeom>
            <a:avLst/>
            <a:gdLst>
              <a:gd name="textAreaLeft" fmla="*/ 0 w 3695760"/>
              <a:gd name="textAreaRight" fmla="*/ 3696120 w 36957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328" h="1">
                <a:moveTo>
                  <a:pt x="2328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640" bIns="-44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4"/>
          <p:cNvSpPr/>
          <p:nvPr/>
        </p:nvSpPr>
        <p:spPr>
          <a:xfrm>
            <a:off x="2514600" y="5791320"/>
            <a:ext cx="3733920" cy="19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352" h="12">
                <a:moveTo>
                  <a:pt x="0" y="0"/>
                </a:moveTo>
                <a:lnTo>
                  <a:pt x="2352" y="12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5"/>
          <p:cNvSpPr/>
          <p:nvPr/>
        </p:nvSpPr>
        <p:spPr>
          <a:xfrm>
            <a:off x="5238720" y="1066680"/>
            <a:ext cx="2952720" cy="405792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60" h="2556">
                <a:moveTo>
                  <a:pt x="1860" y="2556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6"/>
          <p:cNvSpPr/>
          <p:nvPr/>
        </p:nvSpPr>
        <p:spPr>
          <a:xfrm>
            <a:off x="4762440" y="1066680"/>
            <a:ext cx="2990880" cy="405792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w="1884" h="2556">
                <a:moveTo>
                  <a:pt x="0" y="0"/>
                </a:moveTo>
                <a:lnTo>
                  <a:pt x="1884" y="2556"/>
                </a:lnTo>
              </a:path>
            </a:pathLst>
          </a:custGeom>
          <a:noFill/>
          <a:ln w="7632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640080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 rot="18222000">
            <a:off x="259920" y="26352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ublim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 rot="18201000">
            <a:off x="1479240" y="301644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rij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 rot="3199200">
            <a:off x="4068720" y="286452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condenser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 rot="3235200">
            <a:off x="5288040" y="240696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verdamp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 rot="46200">
            <a:off x="2590920" y="45720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Times New Roman"/>
              </a:rPr>
              <a:t>stoll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 rot="21563400">
            <a:off x="3122280" y="5788080"/>
            <a:ext cx="282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smelt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Bij water hebben de fasen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0" y="2437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en sommige faseovergang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8610480" y="61722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" w="21600" h="27761">
                <a:moveTo>
                  <a:pt x="3794" y="6874"/>
                </a:moveTo>
                <a:lnTo>
                  <a:pt x="17806" y="13881"/>
                </a:lnTo>
                <a:lnTo>
                  <a:pt x="3794" y="20887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500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en eigen na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22:22:33Z</dcterms:created>
  <dc:creator>Tijmensen</dc:creator>
  <dc:description/>
  <dc:language>en-US</dc:language>
  <cp:lastModifiedBy>Robert Verlaak</cp:lastModifiedBy>
  <dcterms:modified xsi:type="dcterms:W3CDTF">2014-08-25T06:39:31Z</dcterms:modified>
  <cp:revision>53</cp:revision>
  <dc:subject/>
  <dc:title>Licht en kleur Pulsar h4</dc:title>
</cp:coreProperties>
</file>