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DE58-53D1-4844-8433-24C3677A51A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2258-15FA-4B3A-995B-BF7CC5CA81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E899-6605-4F6A-89D1-634C319AA0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EBA2-F5BF-4961-8BB1-D824FF7C97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61B5-2597-4917-891F-855777DF31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9627-3793-47D5-975D-2D234D0C1F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6A94-E090-460B-B268-AD5C88ACC4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574E-F2A2-4715-AC4C-D188FAB5CF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2A46-EC62-4D03-B7B3-AF3F33F94E1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8580-4A6F-46A7-90FC-6970E272517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0D0F-5ADE-4B47-97B2-9F914330905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2E6F-C8C7-4BFA-B424-96918E67FE9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2EE6-AFA7-44EF-84BC-6717B788F46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A743-4130-4193-BA39-E07423DDD81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EFBC-C5A7-4F55-92A8-28781E1FC22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0AE0-6536-4FAC-8746-4B3ECDECC4E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D074-A11E-4774-8A22-57F425EE76D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4FEA-075F-4653-B190-047E9B880D1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DFF-47F2-4B4C-91C9-EBAC51C5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ECA-E8E0-43E2-AED7-5DDEFDD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943-CA5D-464B-B110-0BEBF340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6EF-0B48-43D8-A64A-4DA26F0E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EE3-ABB5-4A56-B40A-3A3DDD95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FCD-E1C1-43DE-A2FB-D934BB2E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739-8BBF-4FD9-9927-1F96F981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271-8A5A-41EA-99C6-63CDEBA1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C71-482A-4731-9BAA-70C7D8AD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804-CCD0-490F-B678-3D5F7373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4B8-B7B4-49CE-9811-61D5757A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56F-209E-4AE0-BBF7-FC5D85AF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d0"/>
            </a:gs>
            <a:gs pos="50000">
              <a:srgbClr val="ccffcc"/>
            </a:gs>
            <a:gs pos="100000">
              <a:srgbClr val="d0ff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FD48-52AD-49DA-9622-B7135A48A61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eb.teleblik.kennisnet.nl/tsr/player/vo/fid/1219009" TargetMode="External"/><Relationship Id="rId2" Type="http://schemas.openxmlformats.org/officeDocument/2006/relationships/hyperlink" Target="http://web.teleblik.kennisnet.nl/tsr/player/vo/fid/1219008" TargetMode="External"/><Relationship Id="rId3" Type="http://schemas.openxmlformats.org/officeDocument/2006/relationships/hyperlink" Target="http://web.teleblik.kennisnet.nl/tsr/player/vo/fid/1114773" TargetMode="External"/><Relationship Id="rId4" Type="http://schemas.openxmlformats.org/officeDocument/2006/relationships/hyperlink" Target="http://web.teleblik.kennisnet.nl/tsr/player/vo/fid/122057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5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120" name="Group 2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js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5"/>
            <p:cNvSpPr/>
            <p:nvPr/>
          </p:nvSpPr>
          <p:spPr>
            <a:xfrm>
              <a:off x="2971800" y="0"/>
              <a:ext cx="32004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00"/>
                  </a:solidFill>
                  <a:latin typeface="Times New Roman"/>
                </a:rPr>
                <a:t>waterdam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6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125" name="AutoShape 7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8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127" name="Freeform 9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     </a:t>
                  </a:r>
                  <a:r>
                    <a:rPr b="1" i="1" lang="en-US" sz="4800" spc="-1" strike="noStrike">
                      <a:solidFill>
                        <a:srgbClr val="ffff00"/>
                      </a:solidFill>
                      <a:latin typeface="Times New Roman"/>
                    </a:rPr>
                    <a:t>wate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4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2533680" y="5810400"/>
            <a:ext cx="3714840" cy="144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340" h="1">
                <a:moveTo>
                  <a:pt x="0" y="0"/>
                </a:moveTo>
                <a:lnTo>
                  <a:pt x="234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7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evriez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oe zien de fasen er uit bij water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vaste fase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33526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, mi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343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Waterdamp 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79132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ijs of rij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52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vloeibare fas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791320" y="43434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zichtba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J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loeibaar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786200" y="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vriez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gas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rijp"/>
          <p:cNvPicPr/>
          <p:nvPr/>
        </p:nvPicPr>
        <p:blipFill>
          <a:blip r:embed="rId1"/>
          <a:stretch/>
        </p:blipFill>
        <p:spPr>
          <a:xfrm>
            <a:off x="1428840" y="2428920"/>
            <a:ext cx="64292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500076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2193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2916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3080" y="1214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ondens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damp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09480" y="3048120"/>
            <a:ext cx="4114800" cy="281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 is onzichtbaa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400800" y="2209680"/>
            <a:ext cx="2514600" cy="2210040"/>
          </a:xfrm>
          <a:prstGeom prst="wedgeEllipseCallout">
            <a:avLst>
              <a:gd name="adj1" fmla="val -151513"/>
              <a:gd name="adj2" fmla="val 6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181480" y="762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3124080" y="762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et elke stof kan in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orkomen omdat niet el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f tegen verhitten k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Papier kan je niet smel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Papier kan niet in de vloeib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50292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gasvormige fase voorko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Bijna) elke stof kan in 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en voorkome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1. De vast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. De vloeibar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3962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3. De gasvormig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215040" y="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e zetten de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p de hoekpunten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en drieho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0" y="5105520"/>
            <a:ext cx="2514600" cy="1143000"/>
            <a:chOff x="0" y="5105520"/>
            <a:chExt cx="2514600" cy="1143000"/>
          </a:xfrm>
        </p:grpSpPr>
        <p:sp>
          <p:nvSpPr>
            <p:cNvPr id="77" name="Rectangle 4"/>
            <p:cNvSpPr/>
            <p:nvPr/>
          </p:nvSpPr>
          <p:spPr>
            <a:xfrm>
              <a:off x="0" y="5105520"/>
              <a:ext cx="251460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09480" y="5285880"/>
              <a:ext cx="1752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vas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3657600" y="0"/>
            <a:ext cx="1828800" cy="10666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6248520" y="5029200"/>
            <a:ext cx="2895480" cy="1257480"/>
            <a:chOff x="6248520" y="5029200"/>
            <a:chExt cx="2895480" cy="1257480"/>
          </a:xfrm>
        </p:grpSpPr>
        <p:sp>
          <p:nvSpPr>
            <p:cNvPr id="81" name="AutoShape 8"/>
            <p:cNvSpPr/>
            <p:nvPr/>
          </p:nvSpPr>
          <p:spPr>
            <a:xfrm>
              <a:off x="6248520" y="5133960"/>
              <a:ext cx="2743200" cy="1143000"/>
            </a:xfrm>
            <a:custGeom>
              <a:avLst/>
              <a:gdLst>
                <a:gd name="textAreaLeft" fmla="*/ 228600 w 2743200"/>
                <a:gd name="textAreaRight" fmla="*/ 2514600 w 2743200"/>
                <a:gd name="textAreaTop" fmla="*/ 95040 h 1143000"/>
                <a:gd name="textAreaBottom" fmla="*/ 10479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cap="rnd" w="9360">
              <a:solidFill>
                <a:srgbClr val="66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27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48520" y="5029200"/>
                <a:ext cx="2743200" cy="125748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728" h="888">
                    <a:moveTo>
                      <a:pt x="0" y="12"/>
                    </a:moveTo>
                    <a:lnTo>
                      <a:pt x="0" y="876"/>
                    </a:lnTo>
                    <a:lnTo>
                      <a:pt x="1728" y="888"/>
                    </a:lnTo>
                    <a:lnTo>
                      <a:pt x="1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6248520" y="5257800"/>
                <a:ext cx="28954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loeibaar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AutoShape 28"/>
          <p:cNvSpPr/>
          <p:nvPr/>
        </p:nvSpPr>
        <p:spPr>
          <a:xfrm>
            <a:off x="1676520" y="1066680"/>
            <a:ext cx="5943600" cy="4038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r zijn        faseovergang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mogelijk tussen de       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00160" y="114300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857840" y="228600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4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92" name="Group 34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93" name="Rectangle 35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as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3657600" y="0"/>
              <a:ext cx="18288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g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8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97" name="AutoShape 39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Group 40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99" name="Freeform 41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2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vloeibaa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2514600" y="5791320"/>
            <a:ext cx="3733920" cy="19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52" h="12">
                <a:moveTo>
                  <a:pt x="0" y="0"/>
                </a:moveTo>
                <a:lnTo>
                  <a:pt x="2352" y="12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stol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Bij water hebben d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n sommige faseovergan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50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en eigen na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2:22:33Z</dcterms:created>
  <dc:creator>Tijmensen</dc:creator>
  <dc:description/>
  <dc:language>en-US</dc:language>
  <cp:lastModifiedBy>Robert Verlaak</cp:lastModifiedBy>
  <dcterms:modified xsi:type="dcterms:W3CDTF">2014-08-25T06:39:31Z</dcterms:modified>
  <cp:revision>53</cp:revision>
  <dc:subject/>
  <dc:title>Licht en kleur Pulsar h4</dc:title>
</cp:coreProperties>
</file>