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F305-003F-41A6-8607-A8ACE448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BD1-C040-4F55-86DF-787710FF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36D-F873-424C-A38D-A5E5C313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4F09-AF4B-443C-869C-06F9A13F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6822-AA61-4053-B412-CA1DFEE2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A57-3A88-41C4-B75B-84EE6281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EB48-D5EF-4BD3-9F28-97C7C01F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98B8-FD30-4139-96C6-B866202E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E752-E0DE-4125-8936-CE479BB1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D45-1A27-4B2A-954F-8AEEA035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773C-53C6-416B-A835-ED3513D2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B2B-73E3-4623-B9C6-4A0C4940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98A0-4740-4775-9779-4B76E6BE5B6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Waar haal je de energie vanda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Thema 1 leerjaar 3 Biolo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Van groot naar kl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rde – biosf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co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opula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ganis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g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ef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olecu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t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astroblogs.nl/wp-content/uploads/2010/01/aarde.jpg"/>
          <p:cNvPicPr/>
          <p:nvPr/>
        </p:nvPicPr>
        <p:blipFill>
          <a:blip r:embed="rId1"/>
          <a:stretch/>
        </p:blipFill>
        <p:spPr>
          <a:xfrm>
            <a:off x="5292720" y="1268280"/>
            <a:ext cx="1847880" cy="1825920"/>
          </a:xfrm>
          <a:prstGeom prst="rect">
            <a:avLst/>
          </a:prstGeom>
          <a:ln w="0">
            <a:noFill/>
          </a:ln>
        </p:spPr>
      </p:pic>
      <p:sp>
        <p:nvSpPr>
          <p:cNvPr id="46" name="PIJL-OMLAAG 4"/>
          <p:cNvSpPr/>
          <p:nvPr/>
        </p:nvSpPr>
        <p:spPr>
          <a:xfrm>
            <a:off x="6227640" y="3429000"/>
            <a:ext cx="73080" cy="115236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ikikids.nl/images/thumb/c/cd/Atoom.png/300px-Atoom.png"/>
          <p:cNvPicPr/>
          <p:nvPr/>
        </p:nvPicPr>
        <p:blipFill>
          <a:blip r:embed="rId2"/>
          <a:stretch/>
        </p:blipFill>
        <p:spPr>
          <a:xfrm>
            <a:off x="5724360" y="5013360"/>
            <a:ext cx="11289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Stoffen, moleculen, at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l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stoff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(vast, vloeibaar of gas) zijn opgebouwd uit moleculen. Moleculen zijn hele kleine deeltj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molecul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zijn op hun beurt weer opgebouwd uit nog kleinere deeltjes: at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ongeveer 100 verschillend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atom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 Bijv: waterstofatoom (H = element waterstof), koolstofatoom (C = element koolstof), zuurstofatoom (O = element zuursto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en atoom is het kleinste element van een stof die de eigenschappen van die stof he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At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zijn ongeveer 100 verschillende atom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v. waterstofatoom (H), koolstofatoom (C), zuurstofatoom (O).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ier staan ze bij elka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l_fi" descr="http://complex.lang2013.nl/systeemderelementen.jpg"/>
          <p:cNvPicPr/>
          <p:nvPr/>
        </p:nvPicPr>
        <p:blipFill>
          <a:blip r:embed="rId1"/>
          <a:stretch/>
        </p:blipFill>
        <p:spPr>
          <a:xfrm>
            <a:off x="1763640" y="2997360"/>
            <a:ext cx="57150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Molecu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anneer een aantal atomen met elkaar verbonden worden, ontstaan er moleculen. Sommige moleculen bestaan uit maar twee atomen, andere uit heel erg veel atom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1f497d"/>
                </a:solidFill>
                <a:latin typeface="Calibri"/>
              </a:rPr>
              <a:t>Bijvoorbeeld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De stof water in een glas bestaat uit een heleboel watermolecule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Eén watermolecuul (H</a:t>
            </a:r>
            <a:r>
              <a:rPr b="0" i="1" lang="nl-NL" sz="30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O) bestaat uit drie atomen: 2 waterstofatomen (2xH) en 1 zuurstofatoom (1x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6480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Voorbeeld: 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Water (H</a:t>
            </a:r>
            <a:r>
              <a:rPr b="1" i="1" lang="nl-NL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4720" y="1484280"/>
            <a:ext cx="433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nl-NL" sz="2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7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nl-NL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75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wee losse waterstofatomen (2xH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én zuurstofatoom (1x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molecuul: atomen die met elkaar verbonden zijn: H</a:t>
            </a:r>
            <a:r>
              <a:rPr b="0" lang="nl-NL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heleboel watermoleculen samen vormen de stof wa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4f6228"/>
                </a:solidFill>
                <a:latin typeface="Calibri"/>
              </a:rPr>
              <a:t>Op deze manier is </a:t>
            </a:r>
            <a:r>
              <a:rPr b="1" i="1" lang="nl-NL" sz="2200" spc="-1" strike="noStrike" u="sng">
                <a:solidFill>
                  <a:srgbClr val="4f6228"/>
                </a:solidFill>
                <a:uFillTx/>
                <a:latin typeface="Calibri"/>
              </a:rPr>
              <a:t>alles</a:t>
            </a:r>
            <a:r>
              <a:rPr b="1" i="1" lang="nl-NL" sz="2200" spc="-1" strike="noStrike">
                <a:solidFill>
                  <a:srgbClr val="4f6228"/>
                </a:solidFill>
                <a:latin typeface="Calibri"/>
              </a:rPr>
              <a:t> op aarde opgebouwd uit moleculen die uit atomen bestaa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l_fi" descr="http://projects.edte.utwente.nl/deeltjesmodel/watermodellen.gif"/>
          <p:cNvPicPr/>
          <p:nvPr/>
        </p:nvPicPr>
        <p:blipFill>
          <a:blip r:embed="rId1"/>
          <a:srcRect l="2573" t="10667" r="73218" b="42668"/>
          <a:stretch/>
        </p:blipFill>
        <p:spPr>
          <a:xfrm>
            <a:off x="4859280" y="2637000"/>
            <a:ext cx="1257480" cy="1000080"/>
          </a:xfrm>
          <a:prstGeom prst="rect">
            <a:avLst/>
          </a:prstGeom>
          <a:ln w="0">
            <a:noFill/>
          </a:ln>
        </p:spPr>
      </p:pic>
      <p:sp>
        <p:nvSpPr>
          <p:cNvPr id="59" name="Rechte verbindingslijn 7"/>
          <p:cNvSpPr/>
          <p:nvPr/>
        </p:nvSpPr>
        <p:spPr>
          <a:xfrm>
            <a:off x="539640" y="2421000"/>
            <a:ext cx="7201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hte verbindingslijn 9"/>
          <p:cNvSpPr/>
          <p:nvPr/>
        </p:nvSpPr>
        <p:spPr>
          <a:xfrm>
            <a:off x="539640" y="3789360"/>
            <a:ext cx="7272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l_fi" descr="http://projects.edte.utwente.nl/deeltjesmodel/watermodellen.gif"/>
          <p:cNvPicPr/>
          <p:nvPr/>
        </p:nvPicPr>
        <p:blipFill>
          <a:blip r:embed="rId2"/>
          <a:srcRect l="2573" t="10667" r="73218" b="42668"/>
          <a:stretch/>
        </p:blipFill>
        <p:spPr>
          <a:xfrm rot="2174400">
            <a:off x="4371840" y="479268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2" name="il_fi" descr="http://projects.edte.utwente.nl/deeltjesmodel/watermodellen.gif"/>
          <p:cNvPicPr/>
          <p:nvPr/>
        </p:nvPicPr>
        <p:blipFill>
          <a:blip r:embed="rId3"/>
          <a:srcRect l="2573" t="10667" r="73218" b="42668"/>
          <a:stretch/>
        </p:blipFill>
        <p:spPr>
          <a:xfrm rot="2295600">
            <a:off x="6171840" y="450864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3" name="il_fi" descr="http://projects.edte.utwente.nl/deeltjesmodel/watermodellen.gif"/>
          <p:cNvPicPr/>
          <p:nvPr/>
        </p:nvPicPr>
        <p:blipFill>
          <a:blip r:embed="rId4"/>
          <a:srcRect l="2573" t="10667" r="73218" b="42668"/>
          <a:stretch/>
        </p:blipFill>
        <p:spPr>
          <a:xfrm>
            <a:off x="5003640" y="465300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4" name="il_fi" descr="http://projects.edte.utwente.nl/deeltjesmodel/watermodellen.gif"/>
          <p:cNvPicPr/>
          <p:nvPr/>
        </p:nvPicPr>
        <p:blipFill>
          <a:blip r:embed="rId5"/>
          <a:srcRect l="2573" t="10667" r="73218" b="42668"/>
          <a:stretch/>
        </p:blipFill>
        <p:spPr>
          <a:xfrm rot="11617200">
            <a:off x="4549320" y="436068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5" name="il_fi" descr="http://projects.edte.utwente.nl/deeltjesmodel/watermodellen.gif"/>
          <p:cNvPicPr/>
          <p:nvPr/>
        </p:nvPicPr>
        <p:blipFill>
          <a:blip r:embed="rId6"/>
          <a:srcRect l="42675" t="2566" r="10669" b="73219"/>
          <a:stretch/>
        </p:blipFill>
        <p:spPr>
          <a:xfrm>
            <a:off x="5724360" y="4653000"/>
            <a:ext cx="505080" cy="638280"/>
          </a:xfrm>
          <a:prstGeom prst="rect">
            <a:avLst/>
          </a:prstGeom>
          <a:ln w="0">
            <a:noFill/>
          </a:ln>
        </p:spPr>
      </p:pic>
      <p:pic>
        <p:nvPicPr>
          <p:cNvPr id="66" name="il_fi" descr="http://projects.edte.utwente.nl/deeltjesmodel/watermodellen.gif"/>
          <p:cNvPicPr/>
          <p:nvPr/>
        </p:nvPicPr>
        <p:blipFill>
          <a:blip r:embed="rId7"/>
          <a:srcRect l="2573" t="10667" r="73218" b="42668"/>
          <a:stretch/>
        </p:blipFill>
        <p:spPr>
          <a:xfrm rot="20323800">
            <a:off x="5430960" y="4116240"/>
            <a:ext cx="712800" cy="505080"/>
          </a:xfrm>
          <a:prstGeom prst="rect">
            <a:avLst/>
          </a:prstGeom>
          <a:ln w="0">
            <a:noFill/>
          </a:ln>
        </p:spPr>
      </p:pic>
      <p:pic>
        <p:nvPicPr>
          <p:cNvPr id="67" name="il_fi" descr="http://projects.edte.utwente.nl/deeltjesmodel/watermodellen.gif"/>
          <p:cNvPicPr/>
          <p:nvPr/>
        </p:nvPicPr>
        <p:blipFill>
          <a:blip r:embed="rId8"/>
          <a:srcRect l="2573" t="10667" r="73218" b="42668"/>
          <a:stretch/>
        </p:blipFill>
        <p:spPr>
          <a:xfrm rot="8682000">
            <a:off x="4946400" y="3854160"/>
            <a:ext cx="637920" cy="504720"/>
          </a:xfrm>
          <a:prstGeom prst="rect">
            <a:avLst/>
          </a:prstGeom>
          <a:ln w="0">
            <a:noFill/>
          </a:ln>
        </p:spPr>
      </p:pic>
      <p:sp>
        <p:nvSpPr>
          <p:cNvPr id="68" name="Rechte verbindingslijn 19"/>
          <p:cNvSpPr/>
          <p:nvPr/>
        </p:nvSpPr>
        <p:spPr>
          <a:xfrm>
            <a:off x="611280" y="5877000"/>
            <a:ext cx="7345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hte verbindingslijn 24"/>
          <p:cNvSpPr/>
          <p:nvPr/>
        </p:nvSpPr>
        <p:spPr>
          <a:xfrm>
            <a:off x="539640" y="1341360"/>
            <a:ext cx="7201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>
                <a:solidFill>
                  <a:srgbClr val="ff0000"/>
                </a:solidFill>
                <a:latin typeface="Calibri"/>
              </a:rPr>
              <a:t>Verschillende moleculen,</a:t>
            </a:r>
            <a:br>
              <a:rPr sz="4000"/>
            </a:br>
            <a:r>
              <a:rPr b="0" i="1" lang="nl-NL" sz="4000" spc="-1" strike="noStrike">
                <a:solidFill>
                  <a:srgbClr val="ff0000"/>
                </a:solidFill>
                <a:latin typeface="Calibri"/>
              </a:rPr>
              <a:t>verschillende stoff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or steeds verschillende atomen met elkaar te combineren ontstaan er steeds verschillende moleculen en dus verschillende stoff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 – C – O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C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koolstofdioxi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 – O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zuursto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glucose)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één vetmolecuu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l_fi" descr="http://www.crsbooks.net/images/c1.gif"/>
          <p:cNvPicPr/>
          <p:nvPr/>
        </p:nvPicPr>
        <p:blipFill>
          <a:blip r:embed="rId1"/>
          <a:stretch/>
        </p:blipFill>
        <p:spPr>
          <a:xfrm>
            <a:off x="971640" y="465300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73" name="il_fi" descr="http://www.10voorbiologie.nl/afbfczw/3.5_vorming_vet_(custom).jpg"/>
          <p:cNvPicPr/>
          <p:nvPr/>
        </p:nvPicPr>
        <p:blipFill>
          <a:blip r:embed="rId2"/>
          <a:srcRect l="21837" t="43198" r="5499" b="0"/>
          <a:stretch/>
        </p:blipFill>
        <p:spPr>
          <a:xfrm>
            <a:off x="4284720" y="4581360"/>
            <a:ext cx="41529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14:08:43Z</dcterms:created>
  <dc:creator>Sandra Sloot</dc:creator>
  <dc:description/>
  <dc:language>en-US</dc:language>
  <cp:lastModifiedBy>stt</cp:lastModifiedBy>
  <dcterms:modified xsi:type="dcterms:W3CDTF">2014-08-25T13:40:05Z</dcterms:modified>
  <cp:revision>9</cp:revision>
  <dc:subject/>
  <dc:title>Stoffen, moleculen, atomen</dc:title>
</cp:coreProperties>
</file>