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0DDB-6E32-4674-9F14-F5F8B00FE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D2A0-893E-46E7-8204-0AADD1E0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52AD-B6E2-4F8D-B464-E2C94588B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F8E7-1AD5-447B-B1A7-989302B5B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DB642-D2AA-4404-B404-7FF6FEA63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EABB2-C948-4819-8D09-B13D1AE4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608A-6F17-4EFB-97A5-FB859D1F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F1B73-B524-40B5-9593-AB254FF3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6A5E3-D3D6-4F56-9813-AB68F550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B973-6D39-4989-A4F9-8A384BBBF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C00B-5FE8-447F-BA00-7B01141C3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0736-BA5C-4532-8CCF-B6B63EA43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12C3-94A2-45B1-91CC-197016E84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D8352-2707-42D7-A862-ECBCFE8D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D9116-C49B-47F9-8B99-6D6DA38AB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1F51-7A39-4B06-B5E3-A201DE930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2F1E-397D-4A98-A856-33F4D94DA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13F4-7EE3-416C-AD14-1EA258C5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E800-0AC5-44E3-9B86-677D5B4C0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76F3C-9752-475A-B672-767FC6C33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1629-2A95-45E4-9C5D-B9603A514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F94CB-6E02-4482-9289-4853AAEF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AE04-733B-4AA5-8585-2E5201E9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466A-56E6-4C47-9FDA-192107E0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64A7E-96B9-45EA-A9BF-323B8A006065}" type="slidenum">
              <a:rPr b="0" lang="nl-NL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FAC41-92AE-4618-B468-5A65A46B96CC}" type="slidenum">
              <a:rPr b="0" lang="nl-NL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8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560" y="34999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Het herkennen van ziekten en plagen in de groensecto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9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4" name="Picture 5" descr="Bladvlekkenziekte plataan"/>
          <p:cNvPicPr/>
          <p:nvPr/>
        </p:nvPicPr>
        <p:blipFill>
          <a:blip r:embed="rId1"/>
          <a:stretch/>
        </p:blipFill>
        <p:spPr>
          <a:xfrm>
            <a:off x="1476360" y="1835280"/>
            <a:ext cx="5975280" cy="43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0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6" name="Picture 5" descr="appelbloedluis"/>
          <p:cNvPicPr/>
          <p:nvPr/>
        </p:nvPicPr>
        <p:blipFill>
          <a:blip r:embed="rId1"/>
          <a:stretch/>
        </p:blipFill>
        <p:spPr>
          <a:xfrm>
            <a:off x="1332000" y="1922400"/>
            <a:ext cx="6192720" cy="42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1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8" name="Picture 5" descr="Elzehaantje"/>
          <p:cNvPicPr/>
          <p:nvPr/>
        </p:nvPicPr>
        <p:blipFill>
          <a:blip r:embed="rId1"/>
          <a:stretch/>
        </p:blipFill>
        <p:spPr>
          <a:xfrm>
            <a:off x="1547640" y="2009880"/>
            <a:ext cx="583272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2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Picture 5" descr="Honingzwam"/>
          <p:cNvPicPr/>
          <p:nvPr/>
        </p:nvPicPr>
        <p:blipFill>
          <a:blip r:embed="rId1"/>
          <a:stretch/>
        </p:blipFill>
        <p:spPr>
          <a:xfrm>
            <a:off x="1763640" y="1916280"/>
            <a:ext cx="5977080" cy="44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3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2" name="Picture 8" descr="Wortelknobbelaaltje"/>
          <p:cNvPicPr/>
          <p:nvPr/>
        </p:nvPicPr>
        <p:blipFill>
          <a:blip r:embed="rId1"/>
          <a:stretch/>
        </p:blipFill>
        <p:spPr>
          <a:xfrm>
            <a:off x="1332000" y="1844640"/>
            <a:ext cx="5041800" cy="38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4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4" name="Picture 4" descr="Langpootmug"/>
          <p:cNvPicPr/>
          <p:nvPr/>
        </p:nvPicPr>
        <p:blipFill>
          <a:blip r:embed="rId1"/>
          <a:stretch/>
        </p:blipFill>
        <p:spPr>
          <a:xfrm>
            <a:off x="250920" y="1628640"/>
            <a:ext cx="4195800" cy="30942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622760" y="1885680"/>
            <a:ext cx="4013280" cy="41720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emelten1-emelten1-1"/>
          <p:cNvPicPr/>
          <p:nvPr/>
        </p:nvPicPr>
        <p:blipFill>
          <a:blip r:embed="rId3"/>
          <a:stretch/>
        </p:blipFill>
        <p:spPr>
          <a:xfrm>
            <a:off x="5148360" y="1700280"/>
            <a:ext cx="295272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15 Naam aantaster kastanj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9" name="Picture 5" descr="stam_stip_3"/>
          <p:cNvPicPr/>
          <p:nvPr/>
        </p:nvPicPr>
        <p:blipFill>
          <a:blip r:embed="rId1"/>
          <a:stretch/>
        </p:blipFill>
        <p:spPr>
          <a:xfrm>
            <a:off x="5219640" y="2421000"/>
            <a:ext cx="2381400" cy="3333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druppel_1"/>
          <p:cNvPicPr/>
          <p:nvPr/>
        </p:nvPicPr>
        <p:blipFill>
          <a:blip r:embed="rId2"/>
          <a:stretch/>
        </p:blipFill>
        <p:spPr>
          <a:xfrm>
            <a:off x="826920" y="2781360"/>
            <a:ext cx="3333960" cy="25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6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Picture 7" descr="hagelschotziekte-2"/>
          <p:cNvPicPr/>
          <p:nvPr/>
        </p:nvPicPr>
        <p:blipFill>
          <a:blip r:embed="rId1"/>
          <a:stretch/>
        </p:blipFill>
        <p:spPr>
          <a:xfrm>
            <a:off x="971640" y="2060640"/>
            <a:ext cx="5832360" cy="3838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hagelschotziekte-1"/>
          <p:cNvPicPr/>
          <p:nvPr/>
        </p:nvPicPr>
        <p:blipFill>
          <a:blip r:embed="rId2"/>
          <a:stretch/>
        </p:blipFill>
        <p:spPr>
          <a:xfrm>
            <a:off x="5435640" y="4292640"/>
            <a:ext cx="261936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8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Picture 4" descr="Bacterievuur"/>
          <p:cNvPicPr/>
          <p:nvPr/>
        </p:nvPicPr>
        <p:blipFill>
          <a:blip r:embed="rId1"/>
          <a:stretch/>
        </p:blipFill>
        <p:spPr>
          <a:xfrm>
            <a:off x="1403280" y="2200320"/>
            <a:ext cx="5545080" cy="40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9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Picture 4" descr="Meikever"/>
          <p:cNvPicPr/>
          <p:nvPr/>
        </p:nvPicPr>
        <p:blipFill>
          <a:blip r:embed="rId1"/>
          <a:stretch/>
        </p:blipFill>
        <p:spPr>
          <a:xfrm>
            <a:off x="1692360" y="1987560"/>
            <a:ext cx="554364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Naam schadebeel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6" name="Picture 4" descr="AF4mineren"/>
          <p:cNvPicPr/>
          <p:nvPr/>
        </p:nvPicPr>
        <p:blipFill>
          <a:blip r:embed="rId1"/>
          <a:stretch/>
        </p:blipFill>
        <p:spPr>
          <a:xfrm>
            <a:off x="1476360" y="1859040"/>
            <a:ext cx="525636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20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5" descr="069%20echte%20meeldauw%20bij%20vele%20gewassen%20oa%20rosa%20roos%20a-069%20echte%20meeldauw%20bij%20vele%20gewassen%20oa%20rosa%20roos%20a-1"/>
          <p:cNvPicPr/>
          <p:nvPr/>
        </p:nvPicPr>
        <p:blipFill>
          <a:blip r:embed="rId1"/>
          <a:stretch/>
        </p:blipFill>
        <p:spPr>
          <a:xfrm>
            <a:off x="900000" y="1844640"/>
            <a:ext cx="666756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21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2" name="Picture 5" descr="eikenprocessierups-1"/>
          <p:cNvPicPr/>
          <p:nvPr/>
        </p:nvPicPr>
        <p:blipFill>
          <a:blip r:embed="rId1"/>
          <a:stretch/>
        </p:blipFill>
        <p:spPr>
          <a:xfrm>
            <a:off x="3492360" y="1916280"/>
            <a:ext cx="2341800" cy="42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2 naam van het schadebe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8" name="Picture 4" descr="AF7gallen"/>
          <p:cNvPicPr/>
          <p:nvPr/>
        </p:nvPicPr>
        <p:blipFill>
          <a:blip r:embed="rId1"/>
          <a:stretch/>
        </p:blipFill>
        <p:spPr>
          <a:xfrm>
            <a:off x="2612880" y="1886040"/>
            <a:ext cx="38671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3 naam van het schadebe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0" name="Picture 7" descr="bladluis-4"/>
          <p:cNvPicPr/>
          <p:nvPr/>
        </p:nvPicPr>
        <p:blipFill>
          <a:blip r:embed="rId1"/>
          <a:stretch/>
        </p:blipFill>
        <p:spPr>
          <a:xfrm>
            <a:off x="3276720" y="2133720"/>
            <a:ext cx="26193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4 naam van het schadebe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2" name="Picture 8" descr="taxuskever-1"/>
          <p:cNvPicPr/>
          <p:nvPr/>
        </p:nvPicPr>
        <p:blipFill>
          <a:blip r:embed="rId1"/>
          <a:stretch/>
        </p:blipFill>
        <p:spPr>
          <a:xfrm>
            <a:off x="3276720" y="2133720"/>
            <a:ext cx="2816280" cy="41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Arial Black"/>
              </a:rPr>
              <a:t>5 naam van het schadebe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4" name="Picture 4" descr="AF8spinsel"/>
          <p:cNvPicPr/>
          <p:nvPr/>
        </p:nvPicPr>
        <p:blipFill>
          <a:blip r:embed="rId1"/>
          <a:stretch/>
        </p:blipFill>
        <p:spPr>
          <a:xfrm>
            <a:off x="1619280" y="1905120"/>
            <a:ext cx="612144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6 Naam schadebeel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6" name="Picture 1028" descr="Wilgehoutrups2"/>
          <p:cNvPicPr/>
          <p:nvPr/>
        </p:nvPicPr>
        <p:blipFill>
          <a:blip r:embed="rId1"/>
          <a:stretch/>
        </p:blipFill>
        <p:spPr>
          <a:xfrm>
            <a:off x="468360" y="1557360"/>
            <a:ext cx="2709720" cy="41497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622760" y="1885680"/>
            <a:ext cx="4013280" cy="41720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34" descr="094%20wilgenhoutrups_%20aantasting,%20vlinder,%20rups%20c-094%20wilgenhoutrups_%20aantasting,%20vlinder,%20rups%20c-1"/>
          <p:cNvPicPr/>
          <p:nvPr/>
        </p:nvPicPr>
        <p:blipFill>
          <a:blip r:embed="rId3"/>
          <a:stretch/>
        </p:blipFill>
        <p:spPr>
          <a:xfrm>
            <a:off x="3780000" y="2143080"/>
            <a:ext cx="53640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7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0" name="Picture 5" descr="Bacterievuur3"/>
          <p:cNvPicPr/>
          <p:nvPr/>
        </p:nvPicPr>
        <p:blipFill>
          <a:blip r:embed="rId1"/>
          <a:stretch/>
        </p:blipFill>
        <p:spPr>
          <a:xfrm>
            <a:off x="2556000" y="1413000"/>
            <a:ext cx="343512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 Black"/>
              </a:rPr>
              <a:t>8 naam aantaste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2" name="Picture 5" descr="engerling"/>
          <p:cNvPicPr/>
          <p:nvPr/>
        </p:nvPicPr>
        <p:blipFill>
          <a:blip r:embed="rId1"/>
          <a:stretch/>
        </p:blipFill>
        <p:spPr>
          <a:xfrm>
            <a:off x="1763640" y="1981080"/>
            <a:ext cx="54007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13:28:35Z</dcterms:created>
  <dc:creator>whendrix</dc:creator>
  <dc:description/>
  <dc:language>en-US</dc:language>
  <cp:lastModifiedBy>Wilfred Wiggers</cp:lastModifiedBy>
  <dcterms:modified xsi:type="dcterms:W3CDTF">2012-05-08T13:28:59Z</dcterms:modified>
  <cp:revision>28</cp:revision>
  <dc:subject/>
  <dc:title>Het herkennen van ziekten en plagen in de groensector</dc:title>
</cp:coreProperties>
</file>