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E67A-650F-45AB-ABD7-D78A463F3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1CBA-D999-481B-AC0E-9C12F53B3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ECDA-B21D-42D8-B35C-D1EF95D4C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8F5A-FA29-41CB-8BB5-60150572E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34C8-570C-47D0-891A-BB2A85066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ADDED-9978-4B24-A240-DB90ACA9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DAAA-2658-4929-A9E0-E3390D12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1834-5B8B-44E4-BF65-34AD77E5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226A-DB91-4620-8C8B-D336A86D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4617-5655-472B-8C82-DB53A324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3980-62AB-42BE-B77C-70630EAF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46EA-E482-4625-9D37-3CF3C775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BD26-ED75-4DC5-86A7-F5D48E35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C0F9F-A1AD-469F-8AD4-52A6DF89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93367-F040-4024-B602-6B0DC96C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A9337-F22A-42EF-B639-52517D1DF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BD48-3C03-4080-8C77-7E6AC4F98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3C4D-53A0-4E54-8CA6-93EABA74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4F65-D408-4BBF-A829-9E77796F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FCF3-56DC-480D-A194-7C8C1287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D92D-047A-406D-8920-6D8A2583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51E2-61E9-45E6-B5FE-B5D6ED01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BA09-316C-4BF6-BC01-7DB98B7F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C571-CE61-4604-881D-02A91D97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D739-8C74-49DD-BE68-F5389FA6D339}" type="slidenum">
              <a:rPr b="0" lang="nl-NL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32F3-FCAE-43FA-B73A-91B8C92B101A}" type="slidenum">
              <a:rPr b="0" lang="nl-NL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8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6560" y="34999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Het herkennen van ziekten en plagen in de groensect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9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4" name="Picture 5" descr="Bladvlekkenziekte plataan"/>
          <p:cNvPicPr/>
          <p:nvPr/>
        </p:nvPicPr>
        <p:blipFill>
          <a:blip r:embed="rId1"/>
          <a:stretch/>
        </p:blipFill>
        <p:spPr>
          <a:xfrm>
            <a:off x="1476360" y="1835280"/>
            <a:ext cx="597528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0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6" name="Picture 5" descr="appelbloedluis"/>
          <p:cNvPicPr/>
          <p:nvPr/>
        </p:nvPicPr>
        <p:blipFill>
          <a:blip r:embed="rId1"/>
          <a:stretch/>
        </p:blipFill>
        <p:spPr>
          <a:xfrm>
            <a:off x="1332000" y="1922400"/>
            <a:ext cx="619272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1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8" name="Picture 5" descr="Elzehaantje"/>
          <p:cNvPicPr/>
          <p:nvPr/>
        </p:nvPicPr>
        <p:blipFill>
          <a:blip r:embed="rId1"/>
          <a:stretch/>
        </p:blipFill>
        <p:spPr>
          <a:xfrm>
            <a:off x="1547640" y="2009880"/>
            <a:ext cx="58327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2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Picture 5" descr="Honingzwam"/>
          <p:cNvPicPr/>
          <p:nvPr/>
        </p:nvPicPr>
        <p:blipFill>
          <a:blip r:embed="rId1"/>
          <a:stretch/>
        </p:blipFill>
        <p:spPr>
          <a:xfrm>
            <a:off x="1763640" y="1916280"/>
            <a:ext cx="5977080" cy="44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3</a:t>
            </a: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2" name="Picture 8" descr="Wortelknobbelaaltje"/>
          <p:cNvPicPr/>
          <p:nvPr/>
        </p:nvPicPr>
        <p:blipFill>
          <a:blip r:embed="rId1"/>
          <a:stretch/>
        </p:blipFill>
        <p:spPr>
          <a:xfrm>
            <a:off x="1332000" y="1844640"/>
            <a:ext cx="504180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4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4" name="Picture 4" descr="Langpootmug"/>
          <p:cNvPicPr/>
          <p:nvPr/>
        </p:nvPicPr>
        <p:blipFill>
          <a:blip r:embed="rId1"/>
          <a:stretch/>
        </p:blipFill>
        <p:spPr>
          <a:xfrm>
            <a:off x="250920" y="1628640"/>
            <a:ext cx="4195800" cy="3094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22760" y="1885680"/>
            <a:ext cx="4013280" cy="4172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emelten1-emelten1-1"/>
          <p:cNvPicPr/>
          <p:nvPr/>
        </p:nvPicPr>
        <p:blipFill>
          <a:blip r:embed="rId3"/>
          <a:stretch/>
        </p:blipFill>
        <p:spPr>
          <a:xfrm>
            <a:off x="5148360" y="1700280"/>
            <a:ext cx="2952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 Black"/>
              </a:rPr>
              <a:t>15 Naam aantaster kastanj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5" descr="stam_stip_3"/>
          <p:cNvPicPr/>
          <p:nvPr/>
        </p:nvPicPr>
        <p:blipFill>
          <a:blip r:embed="rId1"/>
          <a:stretch/>
        </p:blipFill>
        <p:spPr>
          <a:xfrm>
            <a:off x="5219640" y="2421000"/>
            <a:ext cx="2381400" cy="3333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druppel_1"/>
          <p:cNvPicPr/>
          <p:nvPr/>
        </p:nvPicPr>
        <p:blipFill>
          <a:blip r:embed="rId2"/>
          <a:stretch/>
        </p:blipFill>
        <p:spPr>
          <a:xfrm>
            <a:off x="826920" y="2781360"/>
            <a:ext cx="333396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6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Picture 7" descr="hagelschotziekte-2"/>
          <p:cNvPicPr/>
          <p:nvPr/>
        </p:nvPicPr>
        <p:blipFill>
          <a:blip r:embed="rId1"/>
          <a:stretch/>
        </p:blipFill>
        <p:spPr>
          <a:xfrm>
            <a:off x="971640" y="2060640"/>
            <a:ext cx="5832360" cy="3838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hagelschotziekte-1"/>
          <p:cNvPicPr/>
          <p:nvPr/>
        </p:nvPicPr>
        <p:blipFill>
          <a:blip r:embed="rId2"/>
          <a:stretch/>
        </p:blipFill>
        <p:spPr>
          <a:xfrm>
            <a:off x="5435640" y="4292640"/>
            <a:ext cx="261936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8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Picture 4" descr="Bacterievuur"/>
          <p:cNvPicPr/>
          <p:nvPr/>
        </p:nvPicPr>
        <p:blipFill>
          <a:blip r:embed="rId1"/>
          <a:stretch/>
        </p:blipFill>
        <p:spPr>
          <a:xfrm>
            <a:off x="1403280" y="2200320"/>
            <a:ext cx="554508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9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Picture 4" descr="Meikever"/>
          <p:cNvPicPr/>
          <p:nvPr/>
        </p:nvPicPr>
        <p:blipFill>
          <a:blip r:embed="rId1"/>
          <a:stretch/>
        </p:blipFill>
        <p:spPr>
          <a:xfrm>
            <a:off x="1692360" y="1987560"/>
            <a:ext cx="554364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Naam schadebeel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6" name="Picture 4" descr="AF4mineren"/>
          <p:cNvPicPr/>
          <p:nvPr/>
        </p:nvPicPr>
        <p:blipFill>
          <a:blip r:embed="rId1"/>
          <a:stretch/>
        </p:blipFill>
        <p:spPr>
          <a:xfrm>
            <a:off x="1476360" y="1859040"/>
            <a:ext cx="525636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20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5" descr="069%20echte%20meeldauw%20bij%20vele%20gewassen%20oa%20rosa%20roos%20a-069%20echte%20meeldauw%20bij%20vele%20gewassen%20oa%20rosa%20roos%20a-1"/>
          <p:cNvPicPr/>
          <p:nvPr/>
        </p:nvPicPr>
        <p:blipFill>
          <a:blip r:embed="rId1"/>
          <a:stretch/>
        </p:blipFill>
        <p:spPr>
          <a:xfrm>
            <a:off x="900000" y="1844640"/>
            <a:ext cx="66675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21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2" name="Picture 5" descr="eikenprocessierups-1"/>
          <p:cNvPicPr/>
          <p:nvPr/>
        </p:nvPicPr>
        <p:blipFill>
          <a:blip r:embed="rId1"/>
          <a:stretch/>
        </p:blipFill>
        <p:spPr>
          <a:xfrm>
            <a:off x="3492360" y="1916280"/>
            <a:ext cx="2341800" cy="42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 Black"/>
              </a:rPr>
              <a:t>2 naam van het schadebe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8" name="Picture 4" descr="AF7gallen"/>
          <p:cNvPicPr/>
          <p:nvPr/>
        </p:nvPicPr>
        <p:blipFill>
          <a:blip r:embed="rId1"/>
          <a:stretch/>
        </p:blipFill>
        <p:spPr>
          <a:xfrm>
            <a:off x="2612880" y="1886040"/>
            <a:ext cx="38671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 Black"/>
              </a:rPr>
              <a:t>3 naam van het schadebe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0" name="Picture 7" descr="bladluis-4"/>
          <p:cNvPicPr/>
          <p:nvPr/>
        </p:nvPicPr>
        <p:blipFill>
          <a:blip r:embed="rId1"/>
          <a:stretch/>
        </p:blipFill>
        <p:spPr>
          <a:xfrm>
            <a:off x="3276720" y="2133720"/>
            <a:ext cx="26193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 Black"/>
              </a:rPr>
              <a:t>4 naam van het schadebe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2" name="Picture 8" descr="taxuskever-1"/>
          <p:cNvPicPr/>
          <p:nvPr/>
        </p:nvPicPr>
        <p:blipFill>
          <a:blip r:embed="rId1"/>
          <a:stretch/>
        </p:blipFill>
        <p:spPr>
          <a:xfrm>
            <a:off x="3276720" y="2133720"/>
            <a:ext cx="281628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 Black"/>
              </a:rPr>
              <a:t>5 naam van het schadebe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4" name="Picture 4" descr="AF8spinsel"/>
          <p:cNvPicPr/>
          <p:nvPr/>
        </p:nvPicPr>
        <p:blipFill>
          <a:blip r:embed="rId1"/>
          <a:stretch/>
        </p:blipFill>
        <p:spPr>
          <a:xfrm>
            <a:off x="1619280" y="1905120"/>
            <a:ext cx="61214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6 Naam schadebeel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6" name="Picture 1028" descr="Wilgehoutrups2"/>
          <p:cNvPicPr/>
          <p:nvPr/>
        </p:nvPicPr>
        <p:blipFill>
          <a:blip r:embed="rId1"/>
          <a:stretch/>
        </p:blipFill>
        <p:spPr>
          <a:xfrm>
            <a:off x="468360" y="1557360"/>
            <a:ext cx="2709720" cy="4149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22760" y="1885680"/>
            <a:ext cx="4013280" cy="4172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34" descr="094%20wilgenhoutrups_%20aantasting,%20vlinder,%20rups%20c-094%20wilgenhoutrups_%20aantasting,%20vlinder,%20rups%20c-1"/>
          <p:cNvPicPr/>
          <p:nvPr/>
        </p:nvPicPr>
        <p:blipFill>
          <a:blip r:embed="rId3"/>
          <a:stretch/>
        </p:blipFill>
        <p:spPr>
          <a:xfrm>
            <a:off x="3780000" y="2143080"/>
            <a:ext cx="536400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7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0" name="Picture 5" descr="Bacterievuur3"/>
          <p:cNvPicPr/>
          <p:nvPr/>
        </p:nvPicPr>
        <p:blipFill>
          <a:blip r:embed="rId1"/>
          <a:stretch/>
        </p:blipFill>
        <p:spPr>
          <a:xfrm>
            <a:off x="2556000" y="1413000"/>
            <a:ext cx="343512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8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2" name="Picture 5" descr="engerling"/>
          <p:cNvPicPr/>
          <p:nvPr/>
        </p:nvPicPr>
        <p:blipFill>
          <a:blip r:embed="rId1"/>
          <a:stretch/>
        </p:blipFill>
        <p:spPr>
          <a:xfrm>
            <a:off x="1763640" y="1981080"/>
            <a:ext cx="540072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3:28:35Z</dcterms:created>
  <dc:creator>whendrix</dc:creator>
  <dc:description/>
  <dc:language>en-US</dc:language>
  <cp:lastModifiedBy>Wilfred Wiggers</cp:lastModifiedBy>
  <dcterms:modified xsi:type="dcterms:W3CDTF">2012-05-08T13:28:59Z</dcterms:modified>
  <cp:revision>28</cp:revision>
  <dc:subject/>
  <dc:title>Het herkennen van ziekten en plagen in de groensector</dc:title>
</cp:coreProperties>
</file>