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7C2-344B-4BE2-9FA5-D3A28109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CF2-C329-48BB-9543-3921C1E2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AB44-4DC3-4DB8-932B-3F2E9C4B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8CC-9C51-4EF3-AC1A-216681BF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5A4A-2DA4-4FD4-97CF-F5A74921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1FC1-381F-403E-A351-689A40D0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59C2-4FE9-4175-B167-E9320335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3FB2-4937-4E4F-B544-C27920ED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2C76-F44A-4589-85DE-E8C41365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1DF7-1A31-4DB4-BE4B-75169D19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DA46-3F4F-415A-AF1D-B03B1E9D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8D9-A754-4118-9F42-9FE25A31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778A-79B0-4ACD-9923-EBC5DAB4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2E26-B4AF-4015-BF98-40DEDA36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4E49-8261-4046-8B0A-CF157895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D60A-5806-4020-9153-438844CD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279C-9AC6-497C-AC84-FEC9A0DC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3C164-7DBD-4AD9-8216-1BE3B45C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CD2A3-3BDE-47E1-AEEE-69048D6D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D1E71-39C7-43A8-AA4C-DF5A5399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982FF-81FC-4C33-9048-40C0CEFA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E424E-6D33-4914-B3AF-45364E81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D3F-E7C6-4163-BE7B-1E9E1B6C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FCB28-906B-4D32-8D88-CF7B611F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A3739-0C07-4810-8CA1-1935CCCF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E9A07-FEA9-40F2-A088-2848D304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219E2-20AF-4D6C-9FEE-F5331A03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55DCE-02F2-4A3F-A1D3-4ABF54B9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FEAEA-0164-4D17-BD31-9701D2DE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4890-9253-4A65-80E1-13C55130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63B5-9CF2-44C8-A217-9CCB3837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4BDF-87ED-4854-9497-84356BB2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418-C756-4BAD-85ED-6036C66C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6A0D-E70E-466C-8A93-28D07F7C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CE8-BA86-4F70-8EA1-7A67AD1F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393-97E0-4130-9AD1-AAEDA2C3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0B14-3332-4DD2-8554-0906B4D613A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48C4-BA1C-4090-9820-D3BE56FFCB3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B618-44A0-4EF2-8D13-A01EDF57A26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-25560" y="0"/>
            <a:ext cx="3668760" cy="162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227640" y="2970360"/>
            <a:ext cx="2916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 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voetbalveld als de lengte 10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perceel als de lengte 15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Officiëel certifica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50920" y="1138320"/>
            <a:ext cx="8642160" cy="5753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14040" y="1600200"/>
            <a:ext cx="50259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349200"/>
            <a:ext cx="91695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1700280"/>
            <a:ext cx="8839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-30240" y="2454120"/>
            <a:ext cx="91742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Dick van der Neut</cp:lastModifiedBy>
  <dcterms:modified xsi:type="dcterms:W3CDTF">2013-09-15T19:09:23Z</dcterms:modified>
  <cp:revision>6</cp:revision>
  <dc:subject/>
  <dc:title>Uitvoeren gewasbescherming</dc:title>
</cp:coreProperties>
</file>