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D662-D794-4A14-ACC7-09D29CD63F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59B-C3C1-4718-B509-68BB2EE019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2C08-44CB-4CB7-9511-B0A6A2D94A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D47-0972-44B2-A4EA-B8F2B3C194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681C-751C-4939-A107-13E1C7E52A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537C-4AE0-4470-AB27-196DFEA5D8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2FC9-7024-4374-B9B7-74B5125879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07C-2463-4BA1-A5E7-CC00BEA4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8BF-056B-4B26-92B5-BDFED6C6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53D-6F87-4977-A77B-F6B8A54B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446-C44B-4207-A238-5FD9A7ED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6332-1E23-4467-AB8A-39D08810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E518-F7A6-4B01-BE81-9B0444CB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BC29-D6F3-4EA8-8C7A-3F5DDB82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7FAD-7758-4C9E-B340-D7533DA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89A-8563-4D41-8DBA-FCEA5A0F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6359-822F-4BDB-BA42-76092F4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1E1E-5919-491A-B26C-2685FA0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B6F-804A-4F81-BEA5-989EF699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77D2-2C9E-4924-98CC-79AD8D8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B62A-2239-4D98-BB94-197D5B3A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F52-CA1E-4D93-B239-FA50A31E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E538-B072-4F8C-8B85-634537A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58D5-E566-4772-A862-71418BA7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B9F-2ED2-48AB-88D5-85E3FD82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9AF-0042-4FD2-932D-CE90EEA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ADB-D39A-4090-9279-EC42241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9F1-6B71-48DE-95E3-F43CE23E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734-946B-473A-ADBB-D35943B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A76-9082-4506-B51F-E6381D35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EAD-1054-4FA5-A9B0-E10CA95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8E34-0891-443A-A32B-081808973AA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C831-03F3-41EA-B640-AD0D6646F41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Woordsoorte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eling van woorden in soorten of klass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 op kenmerk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verzicht woordsoor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elfstandig naamwo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dwoor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kwo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jvoeglijk naamwo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elfstandig naamwoord (ZN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standige naamwoorden zijn namen van mensen, dieren, 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standige naamwoorden zijn concreet [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het hu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 of abstract [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de relat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n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k/m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kleinvor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-je/-tje/-pje/-k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at lidwoord v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v. 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fiets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en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/ fiets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je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/ </a:t>
            </a:r>
            <a:br>
              <a:rPr sz="2400"/>
            </a:b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de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 fi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idwoor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ijd in combinatie met een zelfstandig naamwoordDe = mannelijk/vrouwelij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t= onzijd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= meervo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paald: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De h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bepaald: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[un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rkwoor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gt wat iets/iemand ‘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et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chillende vor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voeg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e werkwoord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onsvorm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tooid deelwo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v. 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Wandelen;wandel/  wandelde/gewande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jvoeglijk naamwoord (BN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telt iets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st. Naamwo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at ervoor of erach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v.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De 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mooie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 tafel/ De tafel is 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mooi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rte en lange v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groot/gro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ppen van vergelijking</a:t>
            </a:r>
            <a:br>
              <a:rPr sz="2400"/>
            </a:b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groot/groter/groot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47:04Z</dcterms:created>
  <dc:creator>DEGENAAR</dc:creator>
  <dc:description/>
  <dc:language>en-US</dc:language>
  <cp:lastModifiedBy>Huizenga, J.</cp:lastModifiedBy>
  <dcterms:modified xsi:type="dcterms:W3CDTF">2018-10-01T08:36:45Z</dcterms:modified>
  <cp:revision>14</cp:revision>
  <dc:subject/>
  <dc:title>woordsoorten</dc:title>
</cp:coreProperties>
</file>