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24A-A2C5-499F-88E3-3C8A0253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A08-1EDA-4479-A725-BE8CF1F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26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D06-2691-4828-9B8C-16AB91D4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738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59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738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59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E27-461C-4194-BD5A-D9F452BA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208-A82A-4B8F-94A5-CBAE5B3C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068-BBDD-483B-8D9B-37A68865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0B5-7504-4EB3-BB83-A677D9C9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AC2-A0F6-4712-BDBA-D085E2BF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9A7-1C00-4B14-BEDA-27242E3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57-1248-47F6-97BB-A8EB15B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26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480-9A8D-4CAE-8310-47FD0CDB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9C0-E1A5-4D6D-8978-B790A68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68ae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124080" y="629712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724280" y="62971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65530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CB5E-0C23-42E2-BFDB-1E7ACF490062}" type="slidenum">
              <a:rPr b="1" lang="en-US" sz="13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f6eb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Woordbenoeming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Elk woord krijgt een naam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Zet je er onder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Zinsdeelbenoeming (ontleden)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Elk zinsdeel krijgt een naam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Zet je er boven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6e4af4"/>
                </a:solidFill>
                <a:latin typeface="Trebuchet MS"/>
              </a:rPr>
              <a:t>Zinsdeelbenoeming!</a:t>
            </a:r>
            <a:endParaRPr b="0" lang="en-US" sz="5400" spc="-1" strike="noStrike">
              <a:solidFill>
                <a:srgbClr val="25114a"/>
              </a:solidFill>
              <a:latin typeface="Trebuchet MS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6e4af4"/>
                </a:solidFill>
                <a:latin typeface="Trebuchet MS"/>
              </a:rPr>
              <a:t>(Ontleden)</a:t>
            </a:r>
            <a:endParaRPr b="0" lang="en-US" sz="5400" spc="-1" strike="noStrike">
              <a:solidFill>
                <a:srgbClr val="25114a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114a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Altijd in een vaste volgorde!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c015b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c015b"/>
                </a:solidFill>
                <a:latin typeface="Trebuchet MS"/>
              </a:rPr>
              <a:t>Persoonsvorm (PV) onderstrepen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4c829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J/N-vraag maken, PV vooraan</a:t>
            </a: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Tijd veranderen, het woord dat verandert is PV</a:t>
            </a: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rebuchet MS"/>
              </a:rPr>
              <a:t>Zinsdeel opzoeken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Kan voor de PV zonder dat de betekenis van de zin verandert.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Hulpvragen: Hoe, wat, wanneer, waar, waarom, wie ……</a:t>
            </a: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Voor de PV één zinsdeel.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Elk ww is een zinsdeel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5114a"/>
              </a:buClr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Onderwerp (O)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4c829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Antwoord op de vraag: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      </a:t>
            </a: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Wie/wat + PV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22268"/>
                </a:solidFill>
                <a:latin typeface="Trebuchet MS"/>
              </a:rPr>
              <a:t>Het Ond doet </a:t>
            </a:r>
            <a:r>
              <a:rPr b="1" lang="nl-NL" sz="2800" spc="-1" strike="noStrike">
                <a:solidFill>
                  <a:srgbClr val="ff0000"/>
                </a:solidFill>
                <a:latin typeface="Trebuchet MS"/>
              </a:rPr>
              <a:t>of</a:t>
            </a: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222268"/>
                </a:solidFill>
                <a:latin typeface="Trebuchet MS"/>
              </a:rPr>
              <a:t>is iets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34920" y="1557000"/>
            <a:ext cx="6995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0c015b"/>
              </a:buClr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Gezegde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Geeft aan wat het onderwerp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c015b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Doet (WG)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c015b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alle werkwoorden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08720" y="3429000"/>
            <a:ext cx="297504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Persoonsvorm (PV)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onderstrepen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Zinsdeel opzoeken 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verticale strepen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Onderwerp (Ond)   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erboven zetten 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Werkwoordelijk Gezegde (WG)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erboven zetten 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7:22:58Z</dcterms:created>
  <dc:creator>HAJ</dc:creator>
  <dc:description/>
  <dc:language>en-US</dc:language>
  <cp:lastModifiedBy>Huizenga, J.</cp:lastModifiedBy>
  <dcterms:modified xsi:type="dcterms:W3CDTF">2018-10-01T08:40:12Z</dcterms:modified>
  <cp:revision>27</cp:revision>
  <dc:subject/>
  <dc:title>Grammatica</dc:title>
</cp:coreProperties>
</file>