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87D5-626F-4ADA-A381-4C7542C3F1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3520-C5E7-47CB-A40C-36E9B59C3C3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5695-3F37-412B-B6E6-C891B6FB1CD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E637-9A4A-4433-9F4C-B87577389F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EC91-DDA8-463C-9278-A99B1586FB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45C6-2C4A-4C95-859A-0BCF0D89B9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F246-4268-436C-8689-2062BE4848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F4B-F6D8-4524-BAD4-816F178C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B1A-2E37-4397-B901-BD13A3FB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26D-C1F5-4FAC-9EF0-CFF6383D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2AC-4011-45A5-8C5B-FD587329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93B2-2759-4741-AFDC-7D8BED9F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0E51-C009-4E17-9F2A-F6425CAC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24F2-CA47-4DCE-A4FA-CD86A7A8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5ED2-65B8-4177-AD71-B82B87CD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C768-C4EE-428E-A291-7660B79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4E15-B2CD-40F3-A12C-558837FA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3B96-82F7-4F37-BECA-C22C0B70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C09-A428-452A-AC1A-F6C92E60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A96-FE4D-4D19-B5E2-0044F8EE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4AAA-D981-4631-84E1-AFBDAB4B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4DB1-1B47-4C1E-9F56-EFFE172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AECA-1DDE-4EBF-A804-BB77E622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92F3-658F-422B-A090-052BBE60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398-475A-4A12-BB4F-89DBC35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FB5-0986-4294-B19B-EAA8D64F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992-C5E1-4CAA-BDC5-FA4A677F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5DA-2AFB-4EBB-8464-3B827E8D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78B-D652-4BE1-92D5-EB4C64F4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125-BAA6-45C9-9B47-26A3F61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170-655E-4C6A-A9C0-77D0DE6F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5EDA-E0C1-44D4-8A06-02ED6633B2B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8F3E-7ECB-4862-BA83-D87F0D972AB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Woordsoorte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eling van woorden in soorten of klass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 op kenmerk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verzicht woordsoor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elfstandig naamwo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dwoor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rkwo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jvoeglijk naamwo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elfstandig naamwoord (ZN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eken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lfstandige naamwoorden zijn namen van mensen, dieren, 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lfstandige naamwoorden zijn concreet [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het hu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 of abstract [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de relati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n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r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k/m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kleinvor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-je/-tje/-pje/-k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at lidwoord v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v.  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fiets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en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/ fiets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je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/ </a:t>
            </a:r>
            <a:br>
              <a:rPr sz="2400"/>
            </a:b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de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 fi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idwoor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eken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ijd in combinatie met een zelfstandig naamwoordDe = mannelijk/vrouwelij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t= onzijd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= meervo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paald: 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De h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bepaald: 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[un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rkwoor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eken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gt wat iets/iemand ‘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oet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schillende vorm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voeg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e werkwoord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onsvorm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tooid deelwo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v. 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Wandelen;wandel/  wandelde/gewande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ijvoeglijk naamwoord (BN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ekeni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telt iets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lfst. Naamwo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at ervoor of erach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v. 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De 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mooie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 tafel/ De tafel is </a:t>
            </a:r>
            <a:r>
              <a:rPr b="0" i="1" lang="en-US" sz="2400" spc="-1" strike="noStrike">
                <a:solidFill>
                  <a:srgbClr val="990033"/>
                </a:solidFill>
                <a:latin typeface="Verdana"/>
              </a:rPr>
              <a:t>mooi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r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rte en lange vo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groot/gro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ppen van vergelijking</a:t>
            </a:r>
            <a:br>
              <a:rPr sz="2400"/>
            </a:br>
            <a:r>
              <a:rPr b="0" lang="en-US" sz="2400" spc="-1" strike="noStrike">
                <a:solidFill>
                  <a:srgbClr val="990033"/>
                </a:solidFill>
                <a:latin typeface="Verdana"/>
              </a:rPr>
              <a:t>groot/groter/groot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47:04Z</dcterms:created>
  <dc:creator>DEGENAAR</dc:creator>
  <dc:description/>
  <dc:language>en-US</dc:language>
  <cp:lastModifiedBy>Huizenga, J.</cp:lastModifiedBy>
  <dcterms:modified xsi:type="dcterms:W3CDTF">2018-10-01T08:36:45Z</dcterms:modified>
  <cp:revision>14</cp:revision>
  <dc:subject/>
  <dc:title>woordsoorten</dc:title>
</cp:coreProperties>
</file>