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E5C6-67C2-4639-99E9-F53E53064A6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5962-5A9B-4090-845A-4F6595A7F24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48EE-8FDF-432D-A364-3588B7EC0DB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BF4C-AACC-4B09-B606-C961D3FD815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43A0-AAAD-4228-B0EA-0F6384DA4F0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1E7D-56C3-47D6-BEDD-16FDAAC175D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617C-A73A-4EDB-A99C-BFEEE82065A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2C4E-5CF2-409C-8219-85A573368ED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B890-383F-4230-BF47-8CA33349413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D1FE-F2A9-4476-99B7-3DB3EC0EC75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DFF-81D6-4FA1-90BF-10AB4DD7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3AC-5F9E-4DDA-A78E-B39BF77F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B5A-3E4B-44B5-91B0-AEF98DF2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F086-1942-4DE5-8BD1-BE37816F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48E3-4DC3-4D6C-B3B1-AA9019F0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A4E-F83C-455F-A2B2-EBF80FA9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128-EECE-47C4-B1EE-FC21C2EC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1B13-8B8F-48FC-831B-CC31D11A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18A9-1460-4E94-A547-67BD59F6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1474-2DB5-4934-A4D2-44C76743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896-2F31-4DD0-B84D-089544D9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DC6F-AF07-40C3-A122-EDBBACA7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98CA-2F4E-4268-AF28-BC12182E3B7E}" type="datetime">
              <a:rPr b="0" lang="nl-NL" sz="1400" spc="-1" strike="noStrike">
                <a:solidFill>
                  <a:srgbClr val="000000"/>
                </a:solidFill>
                <a:latin typeface="Arial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A1AC-5317-4FA8-B7AC-FC558E1BD0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421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RSUS BEGROT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4581000"/>
            <a:ext cx="7848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L44 groep (15-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DBA3-8E72-4DC1-A767-3FE613AC20F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00200" y="383760"/>
            <a:ext cx="77580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 welke wijze maakt u veelal een planning van de werkzaamhe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 en noodzaak van een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eren van pl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ing in d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FDA3-DBEF-4AA3-AEA1-0E5C1F1FCA0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86000" y="476280"/>
            <a:ext cx="77580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-administrati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nacalcul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e voert u uw projectadministrati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akt u ook nacalculati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 en noodzaak van administr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emkeu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lp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BCEC-64B9-4BCD-AF01-709E3F7D737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ar haalt u uw normen voornamelijk vanda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925B-2193-4D8D-8C02-946D1F7AF25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lke normen beschikba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lseviers normen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MAG- normen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p andere wijze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igen normen obv nacalcu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9F96-02B4-4EE2-A698-F8FC2EB7172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ut en beperk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nderscheid vaste- / variabele kos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sis bi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kend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at zit wel en wat niet in de n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edenk, …u zit er altijd naast !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AFFB-E01C-4DB3-8CB6-9EF0EB520DD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drijfsnor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reef naar eigen norm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fgestemd op jouw omstan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ereist goede projectadministratie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acalcu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E5AD-A9B2-45DD-8D31-46F820BDC0A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drac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tarief van arb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tarief trek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tarief maai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ROTE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VOORCALCUL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e begroot u zelf binnen uw bedrij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en van uit een bes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en van kleinere werken / regie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032D-6F02-439D-AD07-1188DEEE91E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RO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VOORCALCUL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roten vanuit een 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 en in-directe kosten 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otaal + staartkosten = aanneem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BCCB-ADBB-494F-867B-ED573B88768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6560" y="333360"/>
            <a:ext cx="777708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RO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VOORCALCUL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42960" y="1571400"/>
            <a:ext cx="77724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 kosten (productiekos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jn direct toe te delen aan onderdelen van het 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litsen i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hinekos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b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ranties en werk door de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e kosten per bestekpost bereke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en door aantal eenheden = eenheidsprij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6F70-AC1C-49C3-94CD-A364F4C9113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9A83-199A-447E-A576-4E813BBA664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1280" y="3429000"/>
            <a:ext cx="7921440" cy="19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PROCES VAN DE PRIJSAANBI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3348000" y="549360"/>
            <a:ext cx="459576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rotingsformul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zoek bestand voorbeeld begrotingsformulier 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k zelf een begroting (opdrac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B3C0-32DE-4216-96C7-254A54CB5C3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8640" y="307800"/>
            <a:ext cx="77580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artkos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4296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 overzicht kenmerken staartko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malige kos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ncl. kortingen en verrekening correct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itvoeringskos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emene kos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st en ris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lpos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venteel bijdragen RAW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5EB7-67E2-40BE-9C29-D75623096A1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8640" y="307440"/>
            <a:ext cx="77580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JSAANBIED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CHRIJ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ls volgens de ARW 200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anbeste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ek + 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chrijf-eisen en gunnings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chiktheids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C81E-0088-4A0F-BF4E-7223BC35CC8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REKENPRIJ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eenheidsprijs naar verrekenprij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e voorbeeld berekening verrekenprij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E5C4-52ED-48C3-84BC-D66184B4724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R- EN MINDERWE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55640" y="155736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wordt meer- en minderwerk verreke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verrekenbare hoeveelhed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i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errekenbare hoeveelhe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stelpost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“andere hoeveelheden”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182D-0B64-4394-A488-83EDDD39CB2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OFFER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LEINERE WERK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1604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inhoud van de off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oort normen en prij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elijke klanten versus partic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ijzing naar leverings- en betalingsvoorwa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regie van het prijsvormingspr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780C-8620-463C-9721-6F405009BB5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OFF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DR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l een offerte samen voor het werk waarvoor u een werkbeschrijving heeft gemaa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651F-4821-44F0-B3C3-37CBCC949C8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OFF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dachtspunten bij een offer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ekaartj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taal- en stijlfout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schrijving en prijzen held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w-gegevens klant juist? check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naw gegevens van uw bedrijf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3A57-8E60-4133-B374-F404EE0DD1C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OFFERTE (vervol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digheidsduur aangegev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bedrijfsinformatie toegevoeg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lingsregeling hel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ezen naar leverings- 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lingsvoorwaarden ?toegevoeg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voeringstermijn aangegev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C616-5A1C-4F25-B34C-23E3071FB9D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OFFERTE (vervol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leveringsdatum aangegev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anties helder beschrev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volgstappen aangegev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briefpapier afgedruk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u onderteken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riftelijke opdracht ? kopi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gevoegd ? retourenvelopp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C19E-DD70-43BF-B731-F8C882E07FE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60D0-31E8-4D26-B6A0-7BE344917AB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84692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wer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trekken hoeveel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en / voorcalcu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te en onderhan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ings en betalingsvoorw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-administratie en nacalcu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VERINGS- EN BETALINGSVOORWAARD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t u uw eigen leverings- en betalingsvoorwaarden? (bespre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 dat de offerte hierop aan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 rekening met zakelijke en particuliere k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eg deze ook t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51B1-F152-434F-9A84-EA52903B79B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INGS- EN BETALING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WAARDEN (vervol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at mag je in rekening brengen aan uren bij regiewerken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. Moet een offerte altijd worden bijgevoegd 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AF56-C13B-41A1-B9CA-4DE1BEE3958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INGS- EN BETALING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WAARDEN (vervol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3. Moet het moment van aanvang en oplevering in de offerte  worden opgenomen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4. Mogen wijzigingen in de CAO automatisch worden doorberekend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63D8-5E15-40AC-B056-D1A55A3C982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INGS- EN BETALING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WAARDEN (vervol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ebben al jouw medewerkers vanzelf procuratie; kunnen zij (aanvullende) overeenkomsten aangaan 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6. Kun je bij niet betalen materialen uit de tuin terughalen. ? Leg ui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952F-7FB2-4B62-9BDF-31EB55E993C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775836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JECTADMINISTRATIE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NA-CALCULAT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4360" y="1988640"/>
            <a:ext cx="7772400" cy="36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welke wijze voert je nu na-calculaties u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king ko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king van de planning / voortg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 op produktiv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nstellen van nor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preking van deze punt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, noodzaak en wijze waarop / doel waarvo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D479-107C-4C67-950D-AF8196BAD84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jdelijke aanduiding voor voettekst 4"/>
          <p:cNvSpPr/>
          <p:nvPr/>
        </p:nvSpPr>
        <p:spPr>
          <a:xfrm>
            <a:off x="684360" y="5950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5934-43DE-4F33-8890-E14ED5C8C89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itrekken hoeveelhed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name / inventar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hulp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van lijsten / form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ing ordenen en archi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s uitvo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B0B0-460E-4DB2-B232-0F5AFB04238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aar haalt je normen voornamelijk vandaan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en beschik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 en beperk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drijfsnor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9B7A-F7C0-46B8-9315-940A048B713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86000" y="404280"/>
            <a:ext cx="775800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roten / voorcalcul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 ervaart je als het meest lastige probleem bij het begro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gr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lp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van lijsten en form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len van de aanneem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3739-67DE-40DC-A64D-B829809E7D8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95640" y="549000"/>
            <a:ext cx="775800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erkschema / uitvoeringspl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796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staat er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 en noodz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un bij het begr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lp bij de uitvo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6964-4F24-4F15-8F19-59D8C60827D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775800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ferte en onderhand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ke problemen kom je vooral tegen tijdens het offertepro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oud van een off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ekaartj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e van het pr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voorwaarden / bepa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elijke klanten versus consu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3490-796E-40FE-9CD8-422799C8DE4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383760"/>
            <a:ext cx="77580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rings en betalingsvoorwaa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n je uw eigen voorwaarden eigenlij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staat hier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t u hiervan afwijk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jn deze altijd van toepas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8:12:33Z</dcterms:created>
  <dc:creator>Helicon Opleidingen</dc:creator>
  <dc:description/>
  <dc:language>en-US</dc:language>
  <cp:lastModifiedBy>Peter Hofstede</cp:lastModifiedBy>
  <dcterms:modified xsi:type="dcterms:W3CDTF">2015-09-10T20:40:12Z</dcterms:modified>
  <cp:revision>11</cp:revision>
  <dc:subject/>
  <dc:title>Dia 1</dc:title>
</cp:coreProperties>
</file>