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D44-8E00-40E5-B8D3-948BE688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902-AA0E-4C2C-81E5-A2E62E35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6C7-B0E6-44A8-A88F-2FB2B2B5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EEA-76BC-4430-87D2-C73CCC58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1B4-D8E3-4DC5-925D-343665FC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AC1-692D-4D4A-A9D8-E31A5CA7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932-91F4-4AE7-965C-1EE6E557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50A-A7BA-470E-A3EE-E83CEAC7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784-231A-41A3-8690-FD3CA745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E43-9B75-4756-A407-47411924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113-5B32-4027-8A30-0FD03E85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C67-5B71-4EAB-BAE0-4717D516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D679-494A-4C45-80CF-96270D57A552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639A-8EA3-421C-BF32-0524EE627CB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DRACH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l een offerte samen voor het werk waarvoor u een werkbeschrijving heeft gema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507-E2AC-45FF-B700-9D3D27A2A7B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andachtspunten bij een offer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ekaartj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en taal- en stijlfout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schrijving en prijzen helde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w-gegevens klant juist? check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naw gegevens van uw bedrijf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BCCB-8DFC-45B1-BB07-4DC74428F4A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 (vervol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ldigheidsduur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ok bedrijfsinformatie toegevoegd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lingsregeling hel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wezen naar leverings- 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lingsvoorwaarden ?toegevoeg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voeringstermijn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C080-78D5-4C98-8CA6-6EC1FAFE878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 (vervol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leveringsdatum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ranties helder beschr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volgstappen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 briefpapier afgedruk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or u ondertekend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iftelijke opdracht ? kopi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jgevoegd ? retourenvelopp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C715-CE84-40F0-85ED-A72ED97D277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VERINGS- EN BETALINGSVOORWAAR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nt u uw eigen leverings- en betalingsvoorwaarden? (besprek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org dat de offerte hierop aansl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 rekening met zakelijke 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uliere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eg deze ook to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F9FD-3545-4315-B107-C7BEECB7731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Hofstede</dc:creator>
  <dc:description/>
  <dc:language>en-US</dc:language>
  <cp:lastModifiedBy>Peter Hofstede</cp:lastModifiedBy>
  <dcterms:modified xsi:type="dcterms:W3CDTF">2015-10-01T22:06:10Z</dcterms:modified>
  <cp:revision>2</cp:revision>
  <dc:subject/>
  <dc:title>DE OFFERTE</dc:title>
</cp:coreProperties>
</file>