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82416E-B18F-416F-9333-89ADA8218C9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B00A1E-FE3E-4C20-B94A-DA082CD0436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DF1AAD-DF56-4ACA-B4B1-20E020F3BBF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3B3945-BF19-413D-9857-3F0F2E32187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2643D5-69CE-4FDA-8D9D-F173E4367A0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CB2E44-9629-48EC-BCE1-D62CC1CA9CF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1CF397-5F6C-43F1-8545-C1F83C382E6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C91E8F-2B5A-4E9F-96B2-A2F0061EB5E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CFEF49-4B3D-4851-85B9-EA7B3555376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0ECD0C-4DEC-465E-B97E-918ACBA7807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ECE5-7D95-453B-8060-F08379CFF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6E5E-8DDB-421E-8186-68E4AC917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DAC4-1701-444B-8627-4DCBFD32B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FCA4-D9B0-4E79-A596-B3879BA20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EA40-3EBB-49DD-ABD0-8441D890B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0856-5BC3-4069-A831-A8FBC48EB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64E9-C38C-4AB9-BE71-D69965B49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EEFD-28EB-4AC7-B7D0-98D74DB34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7EF5-6F82-486E-84D6-0E2C29CC1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7A03-1FA1-44AD-8306-92B63CBE2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0E0C-B914-454C-A70F-CFD8A80C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0977-66F5-443A-9EFF-2397475A1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C840-B612-459D-8EDC-CC808FC79AD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:/Onderwijsmodule%20portrait%20Afwijkingen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Tijdelijke aanduiding voor dianummer 4"/>
          <p:cNvSpPr/>
          <p:nvPr/>
        </p:nvSpPr>
        <p:spPr>
          <a:xfrm>
            <a:off x="7380360" y="6237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BB86-229D-495C-8711-2D60235B737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Picture 2" descr="P:\MIJN DOCUMENTEN\Plaatjes\CDRAWY2K.jpg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1504440"/>
            <a:ext cx="815328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ONDERDELEN 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0000"/>
                </a:solidFill>
                <a:uFillTx/>
                <a:latin typeface="Arial"/>
              </a:rPr>
              <a:t>Standaard RAW Bepalingen 20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4E8-E5C3-4F1D-A6AA-71192D8D3FA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499760"/>
            <a:ext cx="830592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neer oplever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tingen te late oplev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ere (tussentijdse) tijdstip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v. Deeloplever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nderhoudsterm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BESCHRIJVING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aaruit bestaat het werk globa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2F2E-CF1D-44FE-9D86-0FC608A9726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ken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ilen en hoofdafmet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waliteitsborg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ijla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21.03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17.04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14F-7B00-4E59-A5D2-174E3EFFAC2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1"/>
              </a:rPr>
              <a:t>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samenvatting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75CD-A6EB-4931-B691-D54BFFEB29D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521-0E18-4D38-9F4B-AD1D82F5919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DA2-B265-4A22-A041-7FE68D0B35C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B4CC-4C78-4011-864C-01B2682C7724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2181240" y="4667400"/>
            <a:ext cx="282600" cy="458640"/>
          </a:xfrm>
          <a:custGeom>
            <a:avLst/>
            <a:gdLst>
              <a:gd name="textAreaLeft" fmla="*/ 0 w 282600"/>
              <a:gd name="textAreaRight" fmla="*/ 282960 w 282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7CE-6B74-4DC4-8D3E-49FDC1CEFB1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90480" y="1295280"/>
            <a:ext cx="8148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A1B-38A1-4499-8113-FE8233DC8FE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990720" y="863640"/>
            <a:ext cx="907920" cy="374760"/>
          </a:xfrm>
          <a:custGeom>
            <a:avLst/>
            <a:gdLst>
              <a:gd name="textAreaLeft" fmla="*/ 0 w 907920"/>
              <a:gd name="textAreaRight" fmla="*/ 908280 w 907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5EE-6DA3-4B26-A861-7D82DD3691D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704760" y="4410000"/>
            <a:ext cx="426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rond ontgraven uit </a:t>
            </a:r>
            <a:r>
              <a:rPr b="1" lang="nl-NL" sz="2400" spc="-1" strike="noStrike">
                <a:solidFill>
                  <a:srgbClr val="ffffaf"/>
                </a:solidFill>
                <a:latin typeface="Arial"/>
              </a:rPr>
              <a:t>cunet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6D6-B3BA-4A62-92E7-C225A67486FE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BESTEK VOLGENS </a:t>
            </a:r>
            <a:r>
              <a:rPr b="1" lang="nl-NL" sz="2800" spc="-1" strike="noStrike" u="sng">
                <a:solidFill>
                  <a:srgbClr val="ff0000"/>
                </a:solidFill>
                <a:uFillTx/>
                <a:latin typeface="Arial"/>
              </a:rPr>
              <a:t>UAV 1989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8AE-2C61-43E0-B899-1960D2AD676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 : 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11" name="Line 15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>
                <a:gd name="textAreaLeft" fmla="*/ 0 w 8582040"/>
                <a:gd name="textAreaRight" fmla="*/ 8582400 w 8582040"/>
                <a:gd name="textAreaTop" fmla="*/ 0 h 4724280"/>
                <a:gd name="textAreaBottom" fmla="*/ 4724640 h 4724280"/>
              </a:gdLst>
              <a:ahLst/>
              <a:rect l="textAreaLeft" t="textAreaTop" r="textAreaRight" b="textAreaBottom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26" name="Rectangle 30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119-533B-40AF-92BF-D14088935AA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6C2-1E40-453B-A912-33410CEEDE98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D1F-0DFD-4610-8F2D-E3854B4A39F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382-163B-4B09-872C-545AEC6CABB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SOORTEN BEPAL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ze altijd afstemmen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B42D-5509-4BB7-8243-EAD78B36E5F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8A4-5C1C-407A-8EBD-2A0255BFCF84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60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876240" y="121428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76240" y="280188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352680" y="216864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076560" y="563868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555-A444-4C8B-8FDD-C93C65FE281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13096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ij aanbesteding -  uitvoering -  eventuele geschil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Informatie 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raming  kosten -  calculatie -  toetsing  aanbiedingen  - besturing / bewaking bouwpro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99240" indent="0">
              <a:lnSpc>
                <a:spcPts val="2798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prestatiebeschrijving -  leidraad bij uitvoering  -  controlemid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9F9F-D19D-4BFE-A892-927538C60623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EF5-03A1-4E5F-A645-F6B00E19D72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24040" y="1905120"/>
            <a:ext cx="56275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01800" y="990720"/>
            <a:ext cx="7315200" cy="761760"/>
          </a:xfrm>
          <a:prstGeom prst="rect">
            <a:avLst/>
          </a:prstGeom>
          <a:noFill/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789120" y="1035000"/>
            <a:ext cx="7567200" cy="596880"/>
            <a:chOff x="789120" y="1035000"/>
            <a:chExt cx="7567200" cy="596880"/>
          </a:xfrm>
        </p:grpSpPr>
        <p:sp>
          <p:nvSpPr>
            <p:cNvPr id="73" name="Rectangle 6"/>
            <p:cNvSpPr/>
            <p:nvPr/>
          </p:nvSpPr>
          <p:spPr>
            <a:xfrm>
              <a:off x="798840" y="103500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89120" y="116532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nl-NL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5" name="Rectangle 8"/>
          <p:cNvSpPr/>
          <p:nvPr/>
        </p:nvSpPr>
        <p:spPr>
          <a:xfrm>
            <a:off x="3656160" y="19018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938240" y="2413080"/>
            <a:ext cx="5205600" cy="184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85920" y="5715000"/>
            <a:ext cx="6497640" cy="533520"/>
          </a:xfrm>
          <a:prstGeom prst="rect">
            <a:avLst/>
          </a:prstGeom>
          <a:noFill/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287320" y="4786200"/>
            <a:ext cx="3534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Picture 12" descr="C:\Program Files\Microsoft Office\Clipart\Populair\HNDDRUK1.WMF"/>
          <p:cNvPicPr/>
          <p:nvPr/>
        </p:nvPicPr>
        <p:blipFill>
          <a:blip r:embed="rId1"/>
          <a:stretch/>
        </p:blipFill>
        <p:spPr>
          <a:xfrm>
            <a:off x="4206960" y="480060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80" name="Line 13"/>
          <p:cNvSpPr/>
          <p:nvPr/>
        </p:nvSpPr>
        <p:spPr>
          <a:xfrm>
            <a:off x="507960" y="1447920"/>
            <a:ext cx="0" cy="76176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09760" y="1447920"/>
            <a:ext cx="39816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09760" y="2209680"/>
            <a:ext cx="1217520" cy="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899640" y="5715000"/>
            <a:ext cx="422280" cy="0"/>
          </a:xfrm>
          <a:prstGeom prst="line">
            <a:avLst/>
          </a:prstGeom>
          <a:ln w="12600">
            <a:solidFill>
              <a:srgbClr val="00f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898560" y="3149640"/>
            <a:ext cx="0" cy="2565360"/>
          </a:xfrm>
          <a:prstGeom prst="line">
            <a:avLst/>
          </a:prstGeom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900000" y="3149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900000" y="34862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143840" y="3200400"/>
            <a:ext cx="98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8128080" y="3200400"/>
            <a:ext cx="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>
            <a:off x="7354800" y="4495680"/>
            <a:ext cx="77328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1938240" y="291456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38240" y="336240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898560" y="2781360"/>
            <a:ext cx="0" cy="45720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900000" y="2771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4470480" y="990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8228160" y="1371600"/>
            <a:ext cx="28080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>
            <a:off x="8508960" y="1371600"/>
            <a:ext cx="0" cy="167652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7365960" y="3048120"/>
            <a:ext cx="1160640" cy="0"/>
          </a:xfrm>
          <a:prstGeom prst="line">
            <a:avLst/>
          </a:prstGeom>
          <a:ln w="12600">
            <a:solidFill>
              <a:srgbClr val="fff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845B-5C40-4797-B614-C5944F869BC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71680" y="857160"/>
            <a:ext cx="449892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oor proces van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bested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71680" y="3571920"/>
            <a:ext cx="4498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2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ken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ilen, hoofdafme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la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429160" y="2214720"/>
            <a:ext cx="3490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3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429160" y="3571920"/>
            <a:ext cx="3490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71680" y="2214720"/>
            <a:ext cx="4498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1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obaal inzicht in het we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F6A-CE50-4E8B-9BC4-0C9D5E90456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62120" y="1125360"/>
            <a:ext cx="7842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1  AANBESTEDENDE DIENST</a:t>
            </a:r>
            <a:br>
              <a:rPr sz="20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2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jze van aanbesteden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3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LICH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, wanneer? (</a:t>
            </a:r>
            <a:r>
              <a:rPr b="1" lang="nl-NL" sz="14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) -  nota van inlichtinge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4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VING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jze van prijsaanbieding  -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gen verklaring -   BOBOB advies - zekerheidstelling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4E82-0950-40E4-822A-6D47AA7B58C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5.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FST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totaal /prijs klopt? -  hoe prijs gesplits – specifioceren eenmalige kost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6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ANBESTED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openbaar / onderhands enz. - volgens </a:t>
            </a:r>
            <a:r>
              <a:rPr b="1" lang="nl-NL" sz="1400" spc="-1" strike="noStrike" u="sng">
                <a:solidFill>
                  <a:srgbClr val="ff0000"/>
                </a:solidFill>
                <a:uFillTx/>
                <a:latin typeface="Arial"/>
              </a:rPr>
              <a:t>ARW 2005 -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laats, datum, tij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7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Indien verrekenprijzen gunningscriterium  dan …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unningscriterium bijv.  meest  voordelige  aanbie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EL 0  AANBESTEDING (vervol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3D4-315A-4C8D-A6AE-C52B28C7821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1754280"/>
            <a:ext cx="7118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PDRACHTGE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DIRECT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LOCAT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adre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Peter Hofstede</cp:lastModifiedBy>
  <cp:lastPrinted>2001-01-05T12:37:35Z</cp:lastPrinted>
  <dcterms:modified xsi:type="dcterms:W3CDTF">2016-01-06T23:30:30Z</dcterms:modified>
  <cp:revision>88</cp:revision>
  <dc:subject/>
  <dc:title>Onderwijsmodule</dc:title>
</cp:coreProperties>
</file>