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D1F4-96F6-44B9-92D0-621DF767050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F974-C154-4E07-85ED-DDAEAC23DC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2CA-996E-4047-A452-62AA0B48ED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BCD-28DF-4E7F-802F-6850117CFC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984C-6606-4820-A9E5-CACC44B240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9C4-D1CF-4932-BFC6-18F9C931F4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103-6A17-44BD-B4BE-8EB21A72FB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99F1-2D6B-4EB2-A743-3DC7EB5728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375-D40A-4AC9-AFA5-9EB46B612C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3AE-F8EA-4C92-AFAF-FD91B5E376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7E0-9DB7-4159-90ED-26291C72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387-96B2-42A0-967D-BB7BC6A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FD9-C6D4-4BD4-93B9-6AB4D9B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746-01A5-42EF-B78D-F6D6B93D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913-DF68-41CD-A029-702B1C10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1E7-521A-47EB-8AFA-E74C88E9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104-F6DC-4807-8A24-604DA406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851-AF52-48EC-9BF0-FB0F9DA9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401-8AA6-4C7E-BB9B-D160695E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DD3-E33C-411B-8F3D-B8FD7FE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211-BB52-47C9-8484-FA5164B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F25-7541-4781-A877-A8E1964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BC0-3FCC-4439-A4C8-9D132A5C3266}" type="datetime">
              <a:rPr b="0" lang="nl-NL" sz="14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8FD-F296-47D2-8B81-D340E780B1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SUS BEGRO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581000"/>
            <a:ext cx="784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L44 groep (15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5F8-717D-4F9E-AC19-27935D422F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welke wijze maakt u veelal een planning van de werkzaam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ee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eren van pl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ing in d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B66-DAC7-4943-89C4-4E0C1244BB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6000" y="476280"/>
            <a:ext cx="77580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-administrat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voert u uw projectadministr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akt u ook nacalcul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administr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em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F22-B641-4A82-A7A4-6526002DC0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ar haalt u uw normen voornamelijk vanda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2F8-803E-496E-A5CB-E494A9B633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ke normen beschi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seviers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MAG-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 andere wijze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igen normen obv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BF2-1256-4644-AC8C-D188E538A6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derscheid vaste- / variabel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is 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end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zit wel en wat niet in d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denk, …u zit er altijd naast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499-1A10-41FE-BCCF-0C24B21C68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rijfs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eef naar eigen norm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gestemd op jouw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reist goede projectadministrati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3A01-1598-48D9-B3F0-2CADB948CA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van arb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maai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begroot u zelf binnen uw bedrij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uit een bes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kleinere werken / regie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D4E0-BE9D-4629-B7B3-847FA29758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roten vanuit een 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en in-directe kosten 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taal + staartkosten =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16A1-CEEF-47C4-AD93-73898D0926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333360"/>
            <a:ext cx="7777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960" y="157140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kosten (productiekos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jn direct toe te delen aan onderdelen van het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litsen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ko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ranties en werk door d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e kosten per bestekpost berek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n door aantal eenheden = eenheidspr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85B-E58C-489A-9CCE-FA0310D50FC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1B4-4DB5-43D9-ADA3-DE552629D8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9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PROCES VAN DE PRIJSAANBI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348000" y="54936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ingsformu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oek bestand voorbeeld begrotingsformulier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zelf een begroting (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45C1-21DB-4B25-8CB3-8B3F9774C9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7580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artko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verzicht kenmerken staart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malige ko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cl. kortingen en verrekening correc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voerings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mene 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st en ri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lp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venteel bijdragen R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821-450F-497C-9F4E-79AABC520A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30744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JSAANBIE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volgens de ARW 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anbeste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k +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hrijf-eisen en gunnings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212-25D9-4377-A34D-99748042F2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REKENPR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eenheidsprijs naar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e voorbeeld berekening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DC6-B0A0-41F1-9914-9453D6F7DD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R- EN MINDER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15573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wordt meer- en minderwerk verreke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verrekenbare hoeveelhe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rekenbare hoeveel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stelpos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“andere hoeveelheden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D36C-E747-41AB-BA1E-4ED09B3F89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EINERE WERK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60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inhoud van de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ort normen en prij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partic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ijzing naar leverings- en betalingsvoor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regie van het prijsvormings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878-EF5A-4D19-BB74-B64ABB98AE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47CB-6B61-4567-BEC5-A447B4A9BF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DFD8-87E2-4993-A84C-686ABB5A2E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A80B-7114-4483-A0AD-04A48058B2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B728-5775-4158-8D47-D767739AE4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7A8-D385-4E14-A82A-0FCA9BE479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-administratie en na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VERINGS- EN BETALINGS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 rekening met zakelijke en particuliere k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A5B2-CDE7-4162-AA50-6F6ED4029F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 mag je in rekening brengen aan uren bij regiewerk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Moet een offerte altijd worden bijgevoegd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382-82A9-4118-A36D-080D104F28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Moet het moment van aanvang en oplevering in de offerte  worden opgenom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Mogen wijzigingen in de CAO automatisch worden doorbereken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5919-F247-4A58-B9EB-029717A324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bben al jouw medewerkers vanzelf procuratie; kunnen zij (aanvullende) overeenkomsten aangaan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. Kun je bij niet betalen materialen uit de tuin terughalen. ? Leg u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719-0DBB-4DFE-BF3D-7EAD727181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7583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ADMINISTRATI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NA-CALCUL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4360" y="198864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welke wijze voert je nu na-calculaties u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van de planning / 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op produktiv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va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preking van deze pun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, noodzaak en wijze waarop / doel waarv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F71-19B0-46B0-845D-402D772A9A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4"/>
          <p:cNvSpPr/>
          <p:nvPr/>
        </p:nvSpPr>
        <p:spPr>
          <a:xfrm>
            <a:off x="684360" y="5950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CD37-E1A5-4BC2-8412-CCDC42E5D6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name /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/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ing ordenen en arch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s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E02E-1D47-4529-80E7-613C79491E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ar haalt je normen voornamelijk vandaa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n beschik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rijfsnor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4BEF-E236-4F54-87FF-326C75F0F8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86000" y="40428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 ervaart je als het meest lastige probleem bij het begro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en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de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202-07D0-4A2B-A2C2-41E85C6816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rkschema / uitvoerings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un bij het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 bij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48A-2C25-4FB7-8F05-C7A1029EB07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ke problemen kom je vooral tegen tijdens het offertepr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 van een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 van het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voorwaarden /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cons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8FC9-3BC6-4761-A172-F747A13958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je uw eigen voorwaarden eigen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hi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t u hiervan afwij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jn deze altijd van toepa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12:33Z</dcterms:created>
  <dc:creator>Helicon Opleidingen</dc:creator>
  <dc:description/>
  <dc:language>en-US</dc:language>
  <cp:lastModifiedBy>Peter Hofstede</cp:lastModifiedBy>
  <dcterms:modified xsi:type="dcterms:W3CDTF">2015-09-10T20:40:12Z</dcterms:modified>
  <cp:revision>11</cp:revision>
  <dc:subject/>
  <dc:title>Dia 1</dc:title>
</cp:coreProperties>
</file>