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B05-3FC7-499D-ACE9-D0EB094F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01E-CADF-44A3-82AF-825689F1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E04-DF9A-4158-828A-31F9E74E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753-BC7B-4D55-9C7F-CAEBE944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7D3-6014-450B-BCA6-516BEB72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A10-45B7-40D8-A752-1AADA541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BFA-C136-4816-903A-C79368F0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3A1-63C5-465E-B544-3676501B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D12-6CFE-4807-B120-9AEF491D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4D7-AD86-40A0-B131-010D0F6F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FE8-7E95-4594-A747-5CD15916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4DF-4046-4E3F-8E60-62B92904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E2F5-17BD-4215-880E-A7CBBA1F8F4E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B435-8EFF-42D4-A788-A0C9845474B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DRACH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l een offerte samen voor het werk waarvoor u een werkbeschrijving heeft gemaak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6E33-09F3-46CA-9019-18C8A1929AE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andachtspunten bij een offer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ekaartje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en taal- en stijlfoute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schrijving en prijzen helde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w-gegevens klant juist? check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 naw gegevens van uw bedrijf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B3F3-3758-4155-A274-AD8495A0244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 (vervol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ldigheidsduur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ok bedrijfsinformatie toegevoegd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lingsregeling hel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wezen naar leverings- 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lingsvoorwaarden ?toegevoeg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voeringstermijn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ED1D-6373-407A-8A83-682F4B65B31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 (vervol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leveringsdatum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ranties helder beschr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volgstappen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 briefpapier afgedruk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or u ondertekend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riftelijke opdracht ? kopi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jgevoegd ? retourenvelopp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7EBB-99AB-41E8-978E-FA9539AAF62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VERINGS- EN BETALINGSVOORWAAR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nt u uw eigen leverings- en betalingsvoorwaarden? (besprek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org dat de offerte hierop aansl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 rekening met zakelijke 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uliere klan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eg deze ook to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489A-B2D8-43DD-9A24-8CB8E25CBAD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Hofstede</dc:creator>
  <dc:description/>
  <dc:language>en-US</dc:language>
  <cp:lastModifiedBy>Peter Hofstede</cp:lastModifiedBy>
  <dcterms:modified xsi:type="dcterms:W3CDTF">2015-10-01T22:06:10Z</dcterms:modified>
  <cp:revision>2</cp:revision>
  <dc:subject/>
  <dc:title>DE OFFERTE</dc:title>
</cp:coreProperties>
</file>