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0E4A3F-ED4F-439E-9501-0E4994441EF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16FF58-979D-4B45-9FCC-02F79DE7620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16D5DA-458E-4AEC-B68D-9AE4B992E6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417D82-3514-4C01-838B-4F587091173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3D0E85-9F96-4757-A8B4-B92554A120E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AA41C4-D254-43F0-BEE2-65F4A70D148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EB422D-6441-43AA-B5BF-3E0A9218BC9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89EF17-A190-4FAD-8579-30A3426B441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55C3C1-3CD2-4617-8260-28F0B68E9C4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C04A79-B737-40AB-A832-53914E8B0D8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0E19-9657-40C6-8D40-C3EF38F53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F05B-ACCE-432E-9DE2-161700122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07C5-BADF-4A99-8471-70D244F1A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9404-553E-4FD6-AB67-83B9AB800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31EC-C50F-45F7-9B50-DAC92830F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71D2-103A-46BE-AFE7-0829DCED8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B354-5762-4FEE-8338-303199439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EDA1-A9E6-4959-A701-15D813A18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32C1-7BB1-4C6A-9AF3-D217F6261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EA34-6B1C-4772-9665-028A2CCC0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2C4E-A3E7-456A-AE64-7B3F59B5D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5D56-D114-423C-94AE-32A26F00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D23-926B-4E27-A99F-F11FCA46695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:/Onderwijsmodule%20portrait%20Afwijkingen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Tijdelijke aanduiding voor dianummer 4"/>
          <p:cNvSpPr/>
          <p:nvPr/>
        </p:nvSpPr>
        <p:spPr>
          <a:xfrm>
            <a:off x="7380360" y="6237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338-683D-4B8E-B9D0-A5137555D37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Picture 2" descr="P:\MIJN DOCUMENTEN\Plaatjes\CDRAWY2K.jpg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1504440"/>
            <a:ext cx="815328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ONDERDELEN 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0000"/>
                </a:solidFill>
                <a:uFillTx/>
                <a:latin typeface="Arial"/>
              </a:rPr>
              <a:t>Standaard RAW Bepalingen 20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4BFE-FEFA-4BD4-9CAF-7692E4A2B944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499760"/>
            <a:ext cx="830592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neer oplever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tingen te late oplev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ere (tussentijdse) tijdstip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v. Deeloplever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nderhoudsterm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BESCHRIJVING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aaruit bestaat het werk globa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A98-AC13-4875-93B0-DCC4B8543D9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ken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ilen en hoofdafmet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waliteitsborg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ijla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21.03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17.04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010-BFD5-4FE0-9DA2-31C0F973910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1"/>
              </a:rPr>
              <a:t>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samenvatting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0FE-AF1E-45FC-8F64-B8E3AEE9226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DDC-18B2-4F17-8D0B-FEFE6BF4553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F90-2519-45F6-87A6-035E5D96F82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82D-F291-4009-8B20-D953450282F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2181240" y="4667400"/>
            <a:ext cx="282600" cy="458640"/>
          </a:xfrm>
          <a:custGeom>
            <a:avLst/>
            <a:gdLst>
              <a:gd name="textAreaLeft" fmla="*/ 0 w 282600"/>
              <a:gd name="textAreaRight" fmla="*/ 282960 w 282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973-2554-4D06-AC65-8AED919B4AA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90480" y="1295280"/>
            <a:ext cx="8148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87A1-010A-456C-B0BD-1565C7A6404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990720" y="863640"/>
            <a:ext cx="907920" cy="374760"/>
          </a:xfrm>
          <a:custGeom>
            <a:avLst/>
            <a:gdLst>
              <a:gd name="textAreaLeft" fmla="*/ 0 w 907920"/>
              <a:gd name="textAreaRight" fmla="*/ 908280 w 907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7BA-D4C0-46D9-8411-1CC5A2C9CCC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704760" y="4410000"/>
            <a:ext cx="426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rond ontgraven uit </a:t>
            </a:r>
            <a:r>
              <a:rPr b="1" lang="nl-NL" sz="2400" spc="-1" strike="noStrike">
                <a:solidFill>
                  <a:srgbClr val="ffffaf"/>
                </a:solidFill>
                <a:latin typeface="Arial"/>
              </a:rPr>
              <a:t>cunet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0BA-072B-4D09-AD70-8EFE40336AD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BESTEK VOLGENS </a:t>
            </a:r>
            <a:r>
              <a:rPr b="1" lang="nl-NL" sz="2800" spc="-1" strike="noStrike" u="sng">
                <a:solidFill>
                  <a:srgbClr val="ff0000"/>
                </a:solidFill>
                <a:uFillTx/>
                <a:latin typeface="Arial"/>
              </a:rPr>
              <a:t>UAV 1989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FCD-E48B-488E-B102-475D9A03876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 : 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11" name="Line 15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>
                <a:gd name="textAreaLeft" fmla="*/ 0 w 8582040"/>
                <a:gd name="textAreaRight" fmla="*/ 8582400 w 8582040"/>
                <a:gd name="textAreaTop" fmla="*/ 0 h 4724280"/>
                <a:gd name="textAreaBottom" fmla="*/ 4724640 h 4724280"/>
              </a:gdLst>
              <a:ahLst/>
              <a:rect l="textAreaLeft" t="textAreaTop" r="textAreaRight" b="textAreaBottom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26" name="Rectangle 30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4F5-7C50-4B8C-B5E1-F19723E11C4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5A8-059F-4E4A-BE22-E043D7F603C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A061-AA22-4761-A1A9-2E5E3FF96EE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7CEB-13FE-4231-A527-E09CFDF2221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SOORTEN BEPAL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ze altijd afstemmen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CF92-2A75-4CB4-A74A-11A01F03B61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C8B-F141-426E-BAD7-CE58E1AD4E6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60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876240" y="121428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76240" y="280188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352680" y="216864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076560" y="563868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03E-0A10-466A-B54B-D3B9DDE371B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13096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ij aanbesteding -  uitvoering -  eventuele geschil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Informatie 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raming  kosten -  calculatie -  toetsing  aanbiedingen  - besturing / bewaking bouwpro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99240" indent="0">
              <a:lnSpc>
                <a:spcPts val="2798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prestatiebeschrijving -  leidraad bij uitvoering  -  controlemid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B1AE-9635-46AA-8CD5-E63AD8ACA55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3B9-1D85-4207-9ADA-0949D168399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24040" y="1905120"/>
            <a:ext cx="56275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01800" y="990720"/>
            <a:ext cx="7315200" cy="761760"/>
          </a:xfrm>
          <a:prstGeom prst="rect">
            <a:avLst/>
          </a:prstGeom>
          <a:noFill/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789120" y="1035000"/>
            <a:ext cx="7567200" cy="596880"/>
            <a:chOff x="789120" y="1035000"/>
            <a:chExt cx="7567200" cy="596880"/>
          </a:xfrm>
        </p:grpSpPr>
        <p:sp>
          <p:nvSpPr>
            <p:cNvPr id="73" name="Rectangle 6"/>
            <p:cNvSpPr/>
            <p:nvPr/>
          </p:nvSpPr>
          <p:spPr>
            <a:xfrm>
              <a:off x="798840" y="103500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89120" y="116532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nl-NL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5" name="Rectangle 8"/>
          <p:cNvSpPr/>
          <p:nvPr/>
        </p:nvSpPr>
        <p:spPr>
          <a:xfrm>
            <a:off x="3656160" y="19018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938240" y="2413080"/>
            <a:ext cx="5205600" cy="184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85920" y="5715000"/>
            <a:ext cx="6497640" cy="533520"/>
          </a:xfrm>
          <a:prstGeom prst="rect">
            <a:avLst/>
          </a:prstGeom>
          <a:noFill/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287320" y="4786200"/>
            <a:ext cx="3534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Picture 12" descr="C:\Program Files\Microsoft Office\Clipart\Populair\HNDDRUK1.WMF"/>
          <p:cNvPicPr/>
          <p:nvPr/>
        </p:nvPicPr>
        <p:blipFill>
          <a:blip r:embed="rId1"/>
          <a:stretch/>
        </p:blipFill>
        <p:spPr>
          <a:xfrm>
            <a:off x="4206960" y="480060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80" name="Line 13"/>
          <p:cNvSpPr/>
          <p:nvPr/>
        </p:nvSpPr>
        <p:spPr>
          <a:xfrm>
            <a:off x="507960" y="1447920"/>
            <a:ext cx="0" cy="76176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09760" y="1447920"/>
            <a:ext cx="39816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09760" y="2209680"/>
            <a:ext cx="1217520" cy="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899640" y="5715000"/>
            <a:ext cx="422280" cy="0"/>
          </a:xfrm>
          <a:prstGeom prst="line">
            <a:avLst/>
          </a:prstGeom>
          <a:ln w="12600">
            <a:solidFill>
              <a:srgbClr val="00f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898560" y="3149640"/>
            <a:ext cx="0" cy="2565360"/>
          </a:xfrm>
          <a:prstGeom prst="line">
            <a:avLst/>
          </a:prstGeom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900000" y="3149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900000" y="34862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143840" y="3200400"/>
            <a:ext cx="98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8128080" y="3200400"/>
            <a:ext cx="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>
            <a:off x="7354800" y="4495680"/>
            <a:ext cx="77328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1938240" y="291456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38240" y="336240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898560" y="2781360"/>
            <a:ext cx="0" cy="45720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900000" y="2771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4470480" y="990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8228160" y="1371600"/>
            <a:ext cx="28080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>
            <a:off x="8508960" y="1371600"/>
            <a:ext cx="0" cy="167652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7365960" y="3048120"/>
            <a:ext cx="1160640" cy="0"/>
          </a:xfrm>
          <a:prstGeom prst="line">
            <a:avLst/>
          </a:prstGeom>
          <a:ln w="12600">
            <a:solidFill>
              <a:srgbClr val="fff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CA8-27CA-4BC7-B5A0-F2782BBCC3B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71680" y="857160"/>
            <a:ext cx="449892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oor proces van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bested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71680" y="3571920"/>
            <a:ext cx="4498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2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ken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ilen, hoofdafme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la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429160" y="2214720"/>
            <a:ext cx="3490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3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429160" y="3571920"/>
            <a:ext cx="3490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71680" y="2214720"/>
            <a:ext cx="4498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1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obaal inzicht in het we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AF05-BFAC-4DF2-9BF4-9D06B782A0D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62120" y="1125360"/>
            <a:ext cx="7842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1  AANBESTEDENDE DIENST</a:t>
            </a:r>
            <a:br>
              <a:rPr sz="20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2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jze van aanbesteden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3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LICH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, wanneer? (</a:t>
            </a:r>
            <a:r>
              <a:rPr b="1" lang="nl-NL" sz="14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) -  nota van inlichtinge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4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VING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jze van prijsaanbieding  -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gen verklaring -   BOBOB advies - zekerheidstelling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DAE-BF0B-414C-8E2D-A2C2DBFE7D1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5.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FST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totaal /prijs klopt? -  hoe prijs gesplits – specifioceren eenmalige kost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6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ANBESTED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openbaar / onderhands enz. - volgens </a:t>
            </a:r>
            <a:r>
              <a:rPr b="1" lang="nl-NL" sz="1400" spc="-1" strike="noStrike" u="sng">
                <a:solidFill>
                  <a:srgbClr val="ff0000"/>
                </a:solidFill>
                <a:uFillTx/>
                <a:latin typeface="Arial"/>
              </a:rPr>
              <a:t>ARW 2005 -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laats, datum, tij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7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Indien verrekenprijzen gunningscriterium  dan …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unningscriterium bijv.  meest  voordelige  aanbie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EL 0  AANBESTEDING (vervol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A48B-8E67-4C4B-AB20-C125D13A5AF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1754280"/>
            <a:ext cx="7118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PDRACHTGE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DIRECT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LOCAT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adre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Peter Hofstede</cp:lastModifiedBy>
  <cp:lastPrinted>2001-01-05T12:37:35Z</cp:lastPrinted>
  <dcterms:modified xsi:type="dcterms:W3CDTF">2016-01-06T23:30:30Z</dcterms:modified>
  <cp:revision>88</cp:revision>
  <dc:subject/>
  <dc:title>Onderwijsmodule</dc:title>
</cp:coreProperties>
</file>