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41A2-DBFA-460D-ABFD-6C89666435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6D34-7D57-46CE-8C52-02373CC6E7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6A08-BF3B-4CB8-9132-3657D09C0E1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5435-255F-41A5-8BBC-354BEB0C3F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FEAC-8EFD-4B45-BC65-5F946A400A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CD92-13DF-4BB6-862E-CADC0ABCA5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70E1-DA03-4A98-ABCE-B83BC71F2C7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07EC-13EF-4658-8888-438C14D812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B42E-5DE2-48D3-AB35-1A03E444A15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0A11-F291-4555-BD67-252E2A1EDBB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E78-BBEE-41FE-96A1-B9B570E4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0EE-1C14-45B7-8031-F17BB5A6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B96-692D-4557-9852-D4463D91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285-D3C5-451A-9FD2-C20D5736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512-70AA-49E1-8D9D-19E3FC22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D77-930C-462F-955E-C9AFAFFE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864-7B72-4B62-927D-EEB44726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7F8-7A76-4ED2-AAF3-45087CDC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D00-7395-409F-AB07-27F2F0BF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E60-89AC-42EF-B497-F3C44685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F2C-EAA7-4EF5-955E-89847D8E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8CF-DA8F-4B1D-8903-CD576D68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9DF0-497B-46C5-B20F-F0094A4094A4}" type="datetime">
              <a:rPr b="0" lang="nl-NL" sz="14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B488-EF38-488A-BB4D-C3012B8598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SUS BEGRO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581000"/>
            <a:ext cx="7848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L44 groep (15-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64D5-88C8-4008-943C-163663E2082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0200" y="38376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 welke wijze maakt u veelal een planning van de werkzaamhe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 van ee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eren van pl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ing in d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ED46-183C-40FB-BAD9-6388D410B9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86000" y="476280"/>
            <a:ext cx="77580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-administrati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na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e voert u uw projectadministra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akt u ook nacalcula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 van administr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emke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F20D-0355-4A87-B39C-D9542B0107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ar haalt u uw normen voornamelijk vanda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7B2D-929C-4FC9-89D1-F29FDC3F53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lke normen beschikba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lseviers normen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MAG- normen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p andere wijze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igen normen obv na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4079-D8F9-42C5-AB43-384AA5E7B0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t en beperk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nderscheid vaste- / variabele ko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sis bi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end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t zit wel en wat niet in de n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edenk, …u zit er altijd naast !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B061-CDE8-438E-9E08-0191BCA315F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drijfs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eef naar eigen norm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fgestemd op jouw 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ereist goede projectadministratie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5019-90E2-4545-B093-6D38E06A828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dra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van arb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maai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e begroot u zelf binnen uw bedrij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van uit een bes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van kleinere werken / regie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B1FC-EDC1-4A5D-A3E1-F836E92C44B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roten vanuit een 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en in-directe kosten 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otaal + staartkosten = aanneem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C1C8-3773-44EC-9733-F6D836B95C4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6560" y="333360"/>
            <a:ext cx="77770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2960" y="157140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kosten (productiekos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jn direct toe te delen aan onderdelen van het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litsen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hinekos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b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ranties en werk door d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e kosten per bestekpost berek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en door aantal eenheden = eenheidspr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B4E5-FC53-4212-94D0-2DE65F748A5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AACA-053B-47C9-8AFF-3ED616EB3E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1280" y="3429000"/>
            <a:ext cx="7921440" cy="19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PROCES VAN DE PRIJSAANBI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3348000" y="549360"/>
            <a:ext cx="45957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ingsformu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zoek bestand voorbeeld begrotingsformulier 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zelf een begroting (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7D5A-AA07-4332-9938-90BB8E7EBAC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8640" y="307800"/>
            <a:ext cx="77580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artko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29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verzicht kenmerken staart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malige kos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cl. kortingen en verrekening correc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tvoeringsk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mene k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st en ris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lp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venteel bijdragen RAW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CA68-9C9B-4DD4-A1E0-A110AF0AD35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8640" y="30744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JSAANBIE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CHRIJ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s volgens de ARW 20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anbeste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ek + 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hrijf-eisen en gunnings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345C-7F37-4291-90EA-47A5777E6D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REKENPRIJ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eenheidsprijs naar verrekenpr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e voorbeeld berekening verrekenpr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BE20-A064-4598-85EF-20825460FA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R- EN MINDERWE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55640" y="155736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wordt meer- en minderwerk verreke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verrekenbare hoeveelhed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errekenbare hoeveelhe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stelpost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“andere hoeveelheden”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ECE5-FA32-4EBA-BB41-87D8626041D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EINERE WERK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1604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inhoud van de off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oort normen en prij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elijke klanten versus partic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ijzing naar leverings- en betalingsvoorwa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regie van het prijsvormings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10F2-89AA-4BB7-BE35-7E1C0C48F0B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DR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l een offerte samen voor het werk waarvoor u een werkbeschrijving heeft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385A-16FE-4617-AA86-A661C48BD00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dachtspunten bij een offer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kaartj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taal- en stijlfout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schrijving en prijzen held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w-gegevens klant juist? chec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naw gegevens van uw bedrij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0C4B-4BE3-40E6-838D-955CF4D5E91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 (vervol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digheidsduur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bedrijfsinformatie toegevoeg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lingsregeling hel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ezen naar leverings- 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lingsvoorwaarden ?toegevoe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voeringstermijn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B1F2-478B-43A4-98D3-710ED9EE91B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 (vervol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sdatum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anties helder beschr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olgstappen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briefpapier afgedruk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u onderteken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iftelijke opdracht ? kopi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gevoegd ? retourenvelopp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FCB8-8D57-4E43-B973-59868D316DA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4BE3-AA36-48E7-A3FE-F1E0B593CD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wer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rekken hoeveel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/ voorcal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te en onderhan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 en betalingsvoor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-administratie en nacal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VERINGS- EN BETALINGS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t u uw eigen leverings- en betalingsvoorwaarden? (bespr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 dat de offerte hierop aan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 rekening met zakelijke en particuliere k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g deze ook t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C663-DE57-4AAB-90E4-C983F6F44B9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t mag je in rekening brengen aan uren bij regiewerke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 Moet een offerte altijd worden bijgevoegd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1890-D8F4-490B-89E4-4BCD307944C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. Moet het moment van aanvang en oplevering in de offerte  worden opgenome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. Mogen wijzigingen in de CAO automatisch worden doorberekend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D3B7-A0CC-4B9E-923F-1DDFFC14FFA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bben al jouw medewerkers vanzelf procuratie; kunnen zij (aanvullende) overeenkomsten aangaan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. Kun je bij niet betalen materialen uit de tuin terughalen. ? Leg ui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6FF6-9CA0-49AA-9870-7B91543B345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775836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ADMINISTRATIE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NA-CALCUL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4360" y="198864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welke wijze voert je nu na-calculaties u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king 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king van de planning / voort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 op produktiv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stellen van n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preking van deze pun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, noodzaak en wijze waarop / doel waarv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740C-EEFF-4F8B-B441-D3160019FBE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jdelijke aanduiding voor voettekst 4"/>
          <p:cNvSpPr/>
          <p:nvPr/>
        </p:nvSpPr>
        <p:spPr>
          <a:xfrm>
            <a:off x="684360" y="5950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B242-5CF0-4D47-BF5C-21E91D1CC48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itrekken hoeveelhe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name / 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van lijsten / 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ing ordenen en arch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s uit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8AF3-90D2-4FB6-B57A-5657EACDF7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ar haalt je normen voornamelijk vandaa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en beschik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beperk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rijfsnor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64E9-052A-4F7E-A245-8CD63B5300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86000" y="40428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 /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 ervaart je als het meest lastige probleem bij het begro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gr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van lijsten en 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len van de aanneem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25B6-504C-45DA-90D5-AA7E410DEEF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95640" y="54900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rkschema / uitvoerings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796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staat er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un bij het begr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 bij de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C141-CFEA-4D69-AE17-070C123B40C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erte en onderhan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ke problemen kom je vooral tegen tijdens het offertepro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oud van een off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kaartj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e van het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voorwaarden / bepa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elijke klanten versus cons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44BF-2088-4447-B20B-B3846B81EC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38376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ings en betalingsvoorwaa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 je uw eigen voorwaarden eigen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staat hier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t u hiervan afwij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jn deze altijd van toepa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12:33Z</dcterms:created>
  <dc:creator>Helicon Opleidingen</dc:creator>
  <dc:description/>
  <dc:language>en-US</dc:language>
  <cp:lastModifiedBy>Peter Hofstede</cp:lastModifiedBy>
  <dcterms:modified xsi:type="dcterms:W3CDTF">2015-09-10T20:40:12Z</dcterms:modified>
  <cp:revision>11</cp:revision>
  <dc:subject/>
  <dc:title>Dia 1</dc:title>
</cp:coreProperties>
</file>