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2D3-641B-4778-A8E1-C1088C69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A7D-ED1C-4AB2-9A3A-FDF51330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180-FB19-4D09-85F3-96C6BF9F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84F-C8E9-4B28-B331-98B75289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6A5-1EC3-4D34-A39D-DE3DFE8A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DD5-1847-4C8D-AE0C-0CD99DA5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51C-829A-41F5-A91D-C51BA5A6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750-2C5C-4F30-9A54-AA59A76E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DCC-9B8C-4C41-A43B-989E892D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BFB-82CD-44BB-87EF-4E9A474A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EFD-3914-4465-98F8-80200E3F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65E-DB33-49F0-9BBE-BB09D360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9A02-0587-43E6-A7E1-A9D8DEE72D3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B94D-F4BA-42EA-B501-5F45C3275B0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DRACH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l een offerte samen voor het werk waarvoor u een werkbeschrijving heeft gema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E9EB-778D-4A59-924F-84FE40329A9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andachtspunten bij een offer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ekaartj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en taal- en stijlfout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schrijving en prijzen helde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w-gegevens klant juist? check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naw gegevens van uw bedrijf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BA49-36D4-4303-AF01-8D495E2010E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 (vervol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ldigheidsduur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ok bedrijfsinformatie toegevoegd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lingsregeling hel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wezen naar leverings- 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lingsvoorwaarden ?toegevoeg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voeringstermijn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BA64-CE33-48CB-82DF-DA990346A44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 (vervol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leveringsdatum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ranties helder beschr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volgstappen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 briefpapier afgedruk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or u ondertekend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iftelijke opdracht ? kopi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jgevoegd ? retourenvelopp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F603-D2E5-42BE-AC3D-59340EEDC45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VERINGS- EN BETALINGSVOORWAAR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nt u uw eigen leverings- en betalingsvoorwaarden? (besprek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org dat de offerte hierop aansl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 rekening met zakelijke 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uliere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eg deze ook to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4282-2EBA-4906-A5AB-A8DBB427BF8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Hofstede</dc:creator>
  <dc:description/>
  <dc:language>en-US</dc:language>
  <cp:lastModifiedBy>Peter Hofstede</cp:lastModifiedBy>
  <dcterms:modified xsi:type="dcterms:W3CDTF">2015-10-01T22:06:10Z</dcterms:modified>
  <cp:revision>2</cp:revision>
  <dc:subject/>
  <dc:title>DE OFFERTE</dc:title>
</cp:coreProperties>
</file>