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3800" y="747360"/>
            <a:ext cx="489276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4D81A4-1203-42B1-B388-49660466A91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E5579F-3408-43A4-90E4-1FF15AD31B9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E9B65C-329A-49A5-948A-257284D0DE2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3600D4-7E9E-4BEA-926C-8B83C67E3F5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A91234-69AF-44ED-8A16-0518C955ECD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betervoorstel doorgevoerd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vervangen door ‘niet zijnd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8436C6-EC9E-40B6-863B-D03CE685717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831D26-D695-45EC-9FAB-9162B2BECC4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B4F1AE-42EA-4BD6-AB2E-B5C3EDAE926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A80839-FBD1-4D4A-BB28-3951D633777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73007D-AF64-4DA3-946D-F96B0416400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0C1D-8F91-4C94-A6B6-52E3D9259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1E26-89B1-460A-ABF0-AD5530F33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DDE8-9EA4-468B-9B95-89764BDF6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303B-8313-4C5E-9692-42E8B67874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494D-EC6F-4383-BB7A-D83D02F1C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6619-4843-4054-9A12-4FB84AAA1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EA1F-3A77-4C93-832C-4E1CB3F87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41AA-00CC-4935-8C3A-24B81DE03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CF75-8516-4971-ACA1-306457120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54D0-5419-4E09-8FA9-3933350EF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74E6E-76BF-41F4-AB45-B5CCB1987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CD67-13CE-4FB3-859B-A2DCDFB66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91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483D-E854-440D-9280-305CB72DBE4A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12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E:/Onderwijsmodule%20portrait%20Afwijkingen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Tijdelijke aanduiding voor dianummer 4"/>
          <p:cNvSpPr/>
          <p:nvPr/>
        </p:nvSpPr>
        <p:spPr>
          <a:xfrm>
            <a:off x="7380360" y="6237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3B62-0F69-4417-8C27-055D2EE890CE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0" name="Picture 2" descr="P:\MIJN DOCUMENTEN\Plaatjes\CDRAWY2K.jpg"/>
          <p:cNvPicPr/>
          <p:nvPr/>
        </p:nvPicPr>
        <p:blipFill>
          <a:blip r:embed="rId1"/>
          <a:stretch/>
        </p:blipFill>
        <p:spPr>
          <a:xfrm>
            <a:off x="7434360" y="2577960"/>
            <a:ext cx="14540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1504440"/>
            <a:ext cx="8153280" cy="33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ONDERDELEN RAW-SYST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talogus met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leiding RAW-systematiek (spelreg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0000"/>
                </a:solidFill>
                <a:uFillTx/>
                <a:latin typeface="Arial"/>
              </a:rPr>
              <a:t>Standaard RAW Bepalingen 20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 met keuze- en invulbepalingen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Besteksbestand RAW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2120" y="2858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INLEIDI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1924-B431-4272-A5F6-D21FDAC8F369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1499760"/>
            <a:ext cx="830592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ijdsbepal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nneer oplever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rtingen te late oplev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ere (tussentijdse) tijdstipp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v. Deeloplever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Onderhoudsterm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ALGEMENE BESCHRIJVING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Waaruit bestaat het werk globa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F2A9-3524-487D-A2AB-531F346B836E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26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1</a:t>
            </a: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120" y="1557360"/>
            <a:ext cx="8458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eken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eilen en hoofdafmet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Kwaliteitsborg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(indien ISO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oppunten vermelde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Bijla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horend tot bestek bijv. V&amp;G-plan, grondbalans,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gevens t.b.v. bemaling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art. 21.03.01 Standaard 2010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Ter informatie bijv. rapport bodem- en wateronderzoek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art. 17.04.01 Standaard 2010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0FC1-3E92-40E2-9097-5016A56AA89C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28548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2  Vaste pagi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41240" y="1195560"/>
            <a:ext cx="80218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JURIDISCHE VERANTWOOR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klaring van de hierna volgende sta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resultaatsverplichting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Wingdings"/>
                <a:ea typeface="Wingdings"/>
                <a:hlinkClick r:id="rId1"/>
              </a:rPr>
              <a:t>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samenvatting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enzen van de situer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57CD-7B4D-4A71-852D-98F94C47849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2820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HOEVEELHEID TER INLICH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50444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’ uitsluitend ter inlichting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nzij af te leiden uit resultaatsverp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levert bouwsto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gever stelt bouwstof ter beschikk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 het werk komende bouwstoff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rkomst in kolom ‘omschrijving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 (calculatiegegeven)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is inclusief verwerk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ter in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5075280" y="2743200"/>
            <a:ext cx="301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7467480" y="4559400"/>
            <a:ext cx="62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7408800" y="322596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9544-79BC-452C-A55B-09169085EAAD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46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"/>
              </a:rPr>
              <a:t>DEEL 2.2  BESTEKSPOSTNUM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0344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62120" y="1352520"/>
            <a:ext cx="831204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alle benodigde ‘klussen’ in besteks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gevolg van betaling naar productie en kostenhomogeniteit kan het aantal posten groot word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aarom indeling belangrij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Indeling besteksposten door bestekschrijv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66C4-83C8-409A-B785-B54484CE315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MOGELIJKE INDELING BESTEKSP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42720" indent="-3427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werkcatego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ha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asering i.v.m. verkeer e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27640" y="1676520"/>
            <a:ext cx="31305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constr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dhoo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ij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k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92DC-C84F-42A4-A6BD-545911319FCA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749160" y="604800"/>
            <a:ext cx="504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ESTEKSPOSTNUMMER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61040" y="1527120"/>
            <a:ext cx="995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61400" y="4727520"/>
            <a:ext cx="140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Freeform 5"/>
          <p:cNvSpPr/>
          <p:nvPr/>
        </p:nvSpPr>
        <p:spPr>
          <a:xfrm>
            <a:off x="2181240" y="1467000"/>
            <a:ext cx="282600" cy="26683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68320"/>
              <a:gd name="textAreaBottom" fmla="*/ 2668680 h 2668320"/>
            </a:gdLst>
            <a:ahLst/>
            <a:rect l="textAreaLeft" t="textAreaTop" r="textAreaRight" b="textAreaBottom"/>
            <a:pathLst>
              <a:path w="193" h="1681">
                <a:moveTo>
                  <a:pt x="0" y="0"/>
                </a:moveTo>
                <a:lnTo>
                  <a:pt x="192" y="0"/>
                </a:lnTo>
                <a:lnTo>
                  <a:pt x="192" y="1680"/>
                </a:lnTo>
                <a:lnTo>
                  <a:pt x="0" y="16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Freeform 6"/>
          <p:cNvSpPr/>
          <p:nvPr/>
        </p:nvSpPr>
        <p:spPr>
          <a:xfrm>
            <a:off x="2181240" y="4667400"/>
            <a:ext cx="282600" cy="458640"/>
          </a:xfrm>
          <a:custGeom>
            <a:avLst/>
            <a:gdLst>
              <a:gd name="textAreaLeft" fmla="*/ 0 w 282600"/>
              <a:gd name="textAreaRight" fmla="*/ 282960 w 28260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193" h="289">
                <a:moveTo>
                  <a:pt x="0" y="0"/>
                </a:moveTo>
                <a:lnTo>
                  <a:pt x="192" y="0"/>
                </a:lnTo>
                <a:lnTo>
                  <a:pt x="192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517840" y="2517840"/>
            <a:ext cx="185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-4 cijfers  =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02080" y="2146320"/>
            <a:ext cx="303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ije teks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.b.v. onderverdeling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657160" y="4651200"/>
            <a:ext cx="166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6 cijfers   =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404240" y="4292640"/>
            <a:ext cx="39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stell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m.b.v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2A6-C4B3-4616-855B-A411E1977E2D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3080" y="475920"/>
            <a:ext cx="775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2  HOOFDCO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90480" y="1295280"/>
            <a:ext cx="81486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OOP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NTREINIGDE GROND EN VERONTR. WAT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M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AIN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EUF- EN SLEUFLOZE TECHNIE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BEL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UNDERINGSL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ovoort t/m 8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3836-10AC-4DF4-9515-0D3F990436CF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952560" y="13129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384120"/>
            <a:ext cx="7256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voe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scheiden, verdichten en profile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Freeform 4"/>
          <p:cNvSpPr/>
          <p:nvPr/>
        </p:nvSpPr>
        <p:spPr>
          <a:xfrm>
            <a:off x="990720" y="863640"/>
            <a:ext cx="907920" cy="374760"/>
          </a:xfrm>
          <a:custGeom>
            <a:avLst/>
            <a:gdLst>
              <a:gd name="textAreaLeft" fmla="*/ 0 w 907920"/>
              <a:gd name="textAreaRight" fmla="*/ 908280 w 9079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577" h="289">
                <a:moveTo>
                  <a:pt x="0" y="288"/>
                </a:move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Freeform 5"/>
          <p:cNvSpPr/>
          <p:nvPr/>
        </p:nvSpPr>
        <p:spPr>
          <a:xfrm>
            <a:off x="1371600" y="5181480"/>
            <a:ext cx="1162080" cy="53028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673" h="241">
                <a:moveTo>
                  <a:pt x="0" y="0"/>
                </a:moveTo>
                <a:lnTo>
                  <a:pt x="0" y="240"/>
                </a:lnTo>
                <a:lnTo>
                  <a:pt x="672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BA45-364F-45A6-9A80-8DB52AA69B20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170360" y="630360"/>
            <a:ext cx="228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2145600" y="1209600"/>
            <a:ext cx="262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128760" y="1743120"/>
            <a:ext cx="191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numm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952640" y="3060720"/>
            <a:ext cx="690480" cy="273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936880" y="3594240"/>
            <a:ext cx="692280" cy="219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66960" y="2527200"/>
            <a:ext cx="691920" cy="32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85800" y="519444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85800" y="435600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89640" y="3648240"/>
            <a:ext cx="247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704760" y="4410000"/>
            <a:ext cx="426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rond ontgraven uit </a:t>
            </a:r>
            <a:r>
              <a:rPr b="1" lang="nl-NL" sz="2400" spc="-1" strike="noStrike">
                <a:solidFill>
                  <a:srgbClr val="ffffaf"/>
                </a:solidFill>
                <a:latin typeface="Arial"/>
              </a:rPr>
              <a:t>cunet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3684600" y="524844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Grond ontgraven uit ophog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08756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207180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305748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207180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305748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108756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08756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207180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1087560" y="25812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3282840" y="2216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Rectangle 23"/>
          <p:cNvSpPr/>
          <p:nvPr/>
        </p:nvSpPr>
        <p:spPr>
          <a:xfrm>
            <a:off x="3691080" y="258120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2297160" y="16826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1312920" y="11494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ABC0-89A2-4EAD-AB38-FA34473A77CB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BESTEK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62120" y="1508040"/>
            <a:ext cx="7119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BESTEK VOLGENS </a:t>
            </a:r>
            <a:r>
              <a:rPr b="1" lang="nl-NL" sz="2800" spc="-1" strike="noStrike" u="sng">
                <a:solidFill>
                  <a:srgbClr val="ff0000"/>
                </a:solidFill>
                <a:uFillTx/>
                <a:latin typeface="Arial"/>
              </a:rPr>
              <a:t>UAV 1989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het 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behorende teken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ende voorwaard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s-verbaal van aanwijz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2F39-F65C-41AB-BAC5-F21991D5B69C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09564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00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94200" y="1566720"/>
            <a:ext cx="3235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 ontgraven uit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unet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eiligheidsklasse: basisklass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Situering: Ketelstraat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: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klei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0,40 m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604 m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een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0,50 m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756 m3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sbepaling: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aan de hand van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meting in het werk in profiel van ontgrav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en gescheiden ontgraven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hoogte gemiddeld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0,90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breedte op bodem gemiddel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5,40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luds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1 : 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oegestane positieve en negatieve afwijking 0,03 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21213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2010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32952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136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4062240" y="858960"/>
            <a:ext cx="106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13680" y="630360"/>
            <a:ext cx="50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680256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785952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35160" y="641520"/>
            <a:ext cx="779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11" name="Line 15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2" name="Line 16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>
                <a:gd name="textAreaLeft" fmla="*/ 0 w 8582040"/>
                <a:gd name="textAreaRight" fmla="*/ 8582400 w 8582040"/>
                <a:gd name="textAreaTop" fmla="*/ 0 h 4724280"/>
                <a:gd name="textAreaBottom" fmla="*/ 4724640 h 4724280"/>
              </a:gdLst>
              <a:ahLst/>
              <a:rect l="textAreaLeft" t="textAreaTop" r="textAreaRight" b="textAreaBottom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0" name="Line 24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2" name="Line 26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3" name="Line 27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4" name="Line 28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5" name="Line 29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26" name="Rectangle 30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1829520" y="1566720"/>
            <a:ext cx="10810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1206360" y="614520"/>
            <a:ext cx="1940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2404-778C-48B6-B9F2-109874F018D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t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va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voorwaar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hoeveelhe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: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m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17FC-5C91-48FA-981D-BA59934F4900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DEEL 2.2 BIJZONDERHED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400" y="1238040"/>
            <a:ext cx="67644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CIJFER IN DEFI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tekst op positie in catalo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st door bestekschrijver niet gebrui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er mag geen informatie ontbre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 ‘9’ IN DEFICODE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(eigen tek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juiste keuze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oegen twee defi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204-DDEB-49C4-B881-A0214298D09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3 BEPALIN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schei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 be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geldend i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Standaard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jectgebond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6D6B-7BDC-4936-97D4-DC4D89938FD1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6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SOORTEN BEPALI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Keuze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Indien ...; …tenzij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vul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t bestek vermeldt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Eigen 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ze altijd afstemmen op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anvulling op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fwijking van 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3395-8A40-49CC-BAF7-F1FBC7AF8B02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INSCHRIJVINGSDOCUMENT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182680" y="3241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v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099880" y="4089240"/>
            <a:ext cx="600660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TLEDING VAN DE AANNEMINGSSO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2084400" y="3009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1219320" y="3009960"/>
            <a:ext cx="23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671F-E1DC-4BE0-8356-328EF35EFC4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60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876240" y="1214280"/>
            <a:ext cx="8115480" cy="793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Productiegebonden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oeveelheid met prijs per eenheid of bedrag in euro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876240" y="2801880"/>
            <a:ext cx="8115480" cy="26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aartkosten in bedragen in eur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352680" y="2168640"/>
            <a:ext cx="243864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UBTOTAA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076560" y="5638680"/>
            <a:ext cx="299412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NEMINGSSO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7A4D-1762-4BDC-B668-0EA8ACF58102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DOEL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813096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3580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Contract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Bij aanbesteding -  uitvoering -  eventuele geschil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3600"/>
              </a:lnSpc>
              <a:buNone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Informatie dr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conom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raming  kosten -  calculatie -  toetsing  aanbiedingen  - besturing / bewaking bouwpro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99240" indent="0">
              <a:lnSpc>
                <a:spcPts val="2798"/>
              </a:lnSpc>
              <a:buNone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prestatiebeschrijving -  leidraad bij uitvoering  -  controlemid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A8C0-56C5-4C1B-B3DE-A200233C4262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ESSENTIËLE INFORM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v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voorwaa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hoeveelhe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43120" y="4556160"/>
            <a:ext cx="771840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Alle kostenbeïnvloedende factoren moeten voor-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zover mogelijk in het bestek tot uitdrukking kom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649E-DBD2-4D9E-82AD-1D5F9B4D6ADC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24040" y="1905120"/>
            <a:ext cx="5627520" cy="274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901800" y="990720"/>
            <a:ext cx="7315200" cy="761760"/>
          </a:xfrm>
          <a:prstGeom prst="rect">
            <a:avLst/>
          </a:prstGeom>
          <a:noFill/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TANDAARD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789120" y="1035000"/>
            <a:ext cx="7567200" cy="596880"/>
            <a:chOff x="789120" y="1035000"/>
            <a:chExt cx="7567200" cy="596880"/>
          </a:xfrm>
        </p:grpSpPr>
        <p:sp>
          <p:nvSpPr>
            <p:cNvPr id="73" name="Rectangle 6"/>
            <p:cNvSpPr/>
            <p:nvPr/>
          </p:nvSpPr>
          <p:spPr>
            <a:xfrm>
              <a:off x="798840" y="1035000"/>
              <a:ext cx="7557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789120" y="1165320"/>
              <a:ext cx="748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Arial"/>
                </a:rPr>
                <a:t>Standaardteksten (</a:t>
              </a:r>
              <a:r>
                <a:rPr b="1" lang="nl-NL" sz="2000" spc="-1" strike="noStrike">
                  <a:solidFill>
                    <a:srgbClr val="ffffff"/>
                  </a:solidFill>
                  <a:latin typeface="Arial"/>
                </a:rPr>
                <a:t>ABB</a:t>
              </a:r>
              <a:r>
                <a:rPr b="0" lang="nl-NL" sz="2400" spc="-1" strike="noStrike">
                  <a:solidFill>
                    <a:srgbClr val="ffffff"/>
                  </a:solidFill>
                  <a:latin typeface="Arial"/>
                </a:rPr>
                <a:t>)   Resultaatsbeschrijvingen</a:t>
              </a: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75" name="Rectangle 8"/>
          <p:cNvSpPr/>
          <p:nvPr/>
        </p:nvSpPr>
        <p:spPr>
          <a:xfrm>
            <a:off x="3656160" y="19018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938240" y="2413080"/>
            <a:ext cx="5205600" cy="184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0  AANBESTE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2  BESCHRIJVING (posten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285920" y="5715000"/>
            <a:ext cx="6497640" cy="533520"/>
          </a:xfrm>
          <a:prstGeom prst="rect">
            <a:avLst/>
          </a:prstGeom>
          <a:noFill/>
          <a:ln w="12600">
            <a:solidFill>
              <a:srgbClr val="00f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STANDAARD 2010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5287320" y="4786200"/>
            <a:ext cx="3534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9" name="Picture 12" descr="C:\Program Files\Microsoft Office\Clipart\Populair\HNDDRUK1.WMF"/>
          <p:cNvPicPr/>
          <p:nvPr/>
        </p:nvPicPr>
        <p:blipFill>
          <a:blip r:embed="rId1"/>
          <a:stretch/>
        </p:blipFill>
        <p:spPr>
          <a:xfrm>
            <a:off x="4206960" y="480060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80" name="Line 13"/>
          <p:cNvSpPr/>
          <p:nvPr/>
        </p:nvSpPr>
        <p:spPr>
          <a:xfrm>
            <a:off x="507960" y="1447920"/>
            <a:ext cx="0" cy="76176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 flipH="1">
            <a:off x="509760" y="1447920"/>
            <a:ext cx="398160" cy="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509760" y="2209680"/>
            <a:ext cx="1217520" cy="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H="1">
            <a:off x="899640" y="5715000"/>
            <a:ext cx="422280" cy="0"/>
          </a:xfrm>
          <a:prstGeom prst="line">
            <a:avLst/>
          </a:prstGeom>
          <a:ln w="12600">
            <a:solidFill>
              <a:srgbClr val="00f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 flipV="1">
            <a:off x="898560" y="3149640"/>
            <a:ext cx="0" cy="2565360"/>
          </a:xfrm>
          <a:prstGeom prst="line">
            <a:avLst/>
          </a:prstGeom>
          <a:ln w="12600">
            <a:solidFill>
              <a:srgbClr val="00f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900000" y="31496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900000" y="34862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7143840" y="3200400"/>
            <a:ext cx="9842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8128080" y="3200400"/>
            <a:ext cx="0" cy="1295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 flipH="1">
            <a:off x="7354800" y="4495680"/>
            <a:ext cx="773280" cy="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1938240" y="2914560"/>
            <a:ext cx="5205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1938240" y="3362400"/>
            <a:ext cx="5205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 flipV="1">
            <a:off x="898560" y="2781360"/>
            <a:ext cx="0" cy="457200"/>
          </a:xfrm>
          <a:prstGeom prst="line">
            <a:avLst/>
          </a:prstGeom>
          <a:ln w="12600">
            <a:solidFill>
              <a:srgbClr val="00f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900000" y="27716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4470480" y="990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8228160" y="1371600"/>
            <a:ext cx="280800" cy="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Line 29"/>
          <p:cNvSpPr/>
          <p:nvPr/>
        </p:nvSpPr>
        <p:spPr>
          <a:xfrm>
            <a:off x="8508960" y="1371600"/>
            <a:ext cx="0" cy="167652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7365960" y="3048120"/>
            <a:ext cx="1160640" cy="0"/>
          </a:xfrm>
          <a:prstGeom prst="line">
            <a:avLst/>
          </a:prstGeom>
          <a:ln w="12600">
            <a:solidFill>
              <a:srgbClr val="ffff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35C1-AF8E-47EB-B753-F773045C4755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STANDAARD BESTEKSINDE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71680" y="857160"/>
            <a:ext cx="449892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0  Aanbeste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gevens voor proces van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anbested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71680" y="3571920"/>
            <a:ext cx="4498920" cy="269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2 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eken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eilen, hoofdafmet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la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.2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aat van bestekspost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429160" y="2214720"/>
            <a:ext cx="3490920" cy="125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3 Bep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429160" y="3571920"/>
            <a:ext cx="3490920" cy="269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Vaste bijl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V&amp;G-pla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rondbala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71680" y="2214720"/>
            <a:ext cx="4498920" cy="125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1 Algeme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gevens van belang vóór gunn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lobaal inzicht in het wer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B325-3F8C-4938-92FA-D6D30EE5A492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"/>
              </a:rPr>
              <a:t>DEEL 0  AANBESTED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62120" y="1125360"/>
            <a:ext cx="78422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1  AANBESTEDENDE DIENST</a:t>
            </a:r>
            <a:br>
              <a:rPr sz="20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2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ijze van aanbesteden?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3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LICHT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ar, wanneer? (</a:t>
            </a:r>
            <a:r>
              <a:rPr b="1" lang="nl-NL" sz="14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) -  nota van inlichtinge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4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SCHRIJVING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jze van prijsaanbieding  -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gen verklaring -   BOBOB advies - zekerheidstelling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3FAA-1E66-4B18-9A79-A7EB27DD2EEB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1409400"/>
            <a:ext cx="824688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5.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SCHRIJFSTA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ndtotaal /prijs klopt? -  hoe prijs gesplits – specifioceren eenmalige kost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6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AANBESTED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openbaar / onderhands enz. - volgens </a:t>
            </a:r>
            <a:r>
              <a:rPr b="1" lang="nl-NL" sz="1400" spc="-1" strike="noStrike" u="sng">
                <a:solidFill>
                  <a:srgbClr val="ff0000"/>
                </a:solidFill>
                <a:uFillTx/>
                <a:latin typeface="Arial"/>
              </a:rPr>
              <a:t>ARW 2005 -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laats, datum, tij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7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Indien verrekenprijzen gunningscriterium  dan …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unningscriterium bijv.  meest  voordelige  aanbie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EL 0  AANBESTEDING (vervol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829E-7181-4F24-AF7B-562AF0F78C2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62120" y="1754280"/>
            <a:ext cx="7118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1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OPDRACHTGEV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2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DIRECT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3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LOCAT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, adres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4:17:12Z</dcterms:created>
  <dc:creator>Henk Deenik</dc:creator>
  <dc:description/>
  <dc:language>en-US</dc:language>
  <cp:lastModifiedBy>Peter Hofstede</cp:lastModifiedBy>
  <cp:lastPrinted>2001-01-05T12:37:35Z</cp:lastPrinted>
  <dcterms:modified xsi:type="dcterms:W3CDTF">2016-01-06T23:30:30Z</dcterms:modified>
  <cp:revision>88</cp:revision>
  <dc:subject/>
  <dc:title>Onderwijsmodule</dc:title>
</cp:coreProperties>
</file>