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36D9-509B-4DC6-A23A-F51A87748EB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0DA4-4202-4B81-8C83-1491F365DB9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E345-DC28-4ADD-B094-B57FEC7F243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298A-5E78-4AB7-AF39-4212F3F16DA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1D6F-39E0-4240-B208-6E0D9B48D20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E2D9-3A69-4842-A711-2401CB85DB8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EAE3-94F8-4E03-A83F-568AFFFA5C2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5748-0D75-4BE3-92EB-1A88AFAB93E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AAC3-666A-45EF-9004-735572E1C82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2DEE-F408-4A4B-92E7-D6A7CE0056F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5BB1-5FE5-4A2D-9D21-2336A746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757F-BCD6-4CBF-AEEB-116CF514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DE7-1C42-4F8F-8D83-0236C432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388-54F1-45D7-AA29-60B338E3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1139-23A0-421E-BC8A-972C7F51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E749-F694-4D60-8C06-64200049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DC2-F361-4937-B6D2-9ADBE9E6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42D5-12CC-4299-98F0-801D5156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2AF-5BE4-4806-AFB0-83106489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82E-B48F-4213-BB29-71150757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56DC-1B41-4545-9C40-48ED3F54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3B7D-AACF-498A-9D7C-A9781AFF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C04E-05AE-402D-91CE-034F697D89C8}" type="datetime">
              <a:rPr b="0" lang="nl-NL" sz="1400" spc="-1" strike="noStrike">
                <a:solidFill>
                  <a:srgbClr val="000000"/>
                </a:solidFill>
                <a:latin typeface="Arial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C379-215C-44A3-B71E-F17538D378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421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RSUS BEGROT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4581000"/>
            <a:ext cx="78483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L44 groep (15-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0A1A-219E-4125-AA90-8AB5CE698EB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00200" y="383760"/>
            <a:ext cx="77580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 welke wijze maakt u veelal een planning van de werkzaamhe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 en noodzaak van een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eren van pl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ing in d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8EB6-8FCF-4E8A-9F22-CAE1EAB2075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86000" y="476280"/>
            <a:ext cx="77580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-administrati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nacalcul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e voert u uw projectadministrati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akt u ook nacalculati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 en noodzaak van administr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emkeu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lp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9F27-D0B7-4C24-BACD-95EAD7A434B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ar haalt u uw normen voornamelijk vanda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8E7A-DE3A-457B-ACE7-6829363478D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lke normen beschikba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lseviers normen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MAG- normen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op andere wijze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igen normen obv nacalcu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24E0-07FC-4B45-88DB-035A35FDF54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ut en beperk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onderscheid vaste- / variabele kos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sis bi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kend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at zit wel en wat niet in de n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edenk, …u zit er altijd naast !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6603-49CD-4174-9959-2FBF1FEA389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drijfsnor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reef naar eigen norm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fgestemd op jouw omstan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ereist goede projectadministratie 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acalcu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DE7F-B0A9-4459-B282-1C330AA7BA3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drac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tarief van arb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tarief trek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tarief maai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ROTE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VOORCALCUL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e begroot u zelf binnen uw bedrij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en van uit een bes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en van kleinere werken / regie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DF52-D840-4E9A-9197-EF9513AEC38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RO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VOORCALCUL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roten vanuit een 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 en in-directe kosten 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otaal + staartkosten = aanneem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84E1-D821-4D8A-A574-C3C294FBC61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6560" y="333360"/>
            <a:ext cx="777708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RO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VOORCALCUL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42960" y="1571400"/>
            <a:ext cx="77724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 kosten (productiekos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jn direct toe te delen aan onderdelen van het 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litsen i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hinekos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b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ranties en werk door de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e kosten per bestekpost bereke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en door aantal eenheden = eenheidsprij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C017-7CFC-47FA-92BF-9C87334F64E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4AF1-C322-4BE0-B711-2E7A310961D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1280" y="3429000"/>
            <a:ext cx="7921440" cy="19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PROCES VAN DE PRIJSAANBI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Program Files\Common Files\Microsoft Shared\Clipart\cagcat50\BS00559_.wmf"/>
          <p:cNvPicPr/>
          <p:nvPr/>
        </p:nvPicPr>
        <p:blipFill>
          <a:blip r:embed="rId1"/>
          <a:stretch/>
        </p:blipFill>
        <p:spPr>
          <a:xfrm>
            <a:off x="3348000" y="549360"/>
            <a:ext cx="459576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rotingsformul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zoek bestand voorbeeld begrotingsformulier 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k zelf een begroting (opdrac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BBF3-237E-489D-8B03-C31E0643D83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8640" y="307800"/>
            <a:ext cx="77580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artkos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4296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 overzicht kenmerken staartko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malige kost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ncl. kortingen en verrekening correct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itvoeringskos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emene kos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st en ris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lpos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venteel bijdragen RAW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1301-5C35-4A07-8A3E-7361F4CE7CD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8640" y="307440"/>
            <a:ext cx="77580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JSAANBIED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CHRIJ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ls volgens de ARW 200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anbeste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ek + 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chrijf-eisen en gunnings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chiktheids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32CD-C409-4FB7-9C0E-AF4FD4E64F4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REKENPRIJ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eenheidsprijs naar verrekenprij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e voorbeeld berekening verrekenprij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CE1C-3793-4ABE-843D-95B5C9414A9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R- EN MINDERWE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55640" y="155736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wordt meer- en minderwerk verreke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verrekenbare hoeveelhed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i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errekenbare hoeveelhe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stelpost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“andere hoeveelheden”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508D-BC75-4A5D-A2F1-2301990AE76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OFFER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LEINERE WERK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1604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inhoud van de off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oort normen en prij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elijke klanten versus partic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wijzing naar leverings- en betalingsvoorwa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regie van het prijsvormingspr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C2E1-3C2F-4A78-86BF-5F5BDBE7093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OFF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DR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l een offerte samen voor het werk waarvoor u een werkbeschrijving heeft gemaa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17D3-BE78-4E90-A023-71D90CB258F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OFF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dachtspunten bij een offer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ekaartj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taal- en stijlfout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schrijving en prijzen held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w-gegevens klant juist? check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naw gegevens van uw bedrijf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6FAE-5F4F-4BE6-8582-D4B0F01FA17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OFFERTE (vervol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digheidsduur aangegev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bedrijfsinformatie toegevoeg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lingsregeling hel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wezen naar leverings- 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lingsvoorwaarden ?toegevoeg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voeringstermijn aangegev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C9C5-7B32-4132-B259-11BAEC533FF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OFFERTE (vervol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leveringsdatum aangegev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anties helder beschrev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volgstappen aangegev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briefpapier afgedruk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u onderteken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riftelijke opdracht ? kopi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gevoegd ? retourenvelopp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DD6F-FB39-43E3-B12F-BE882779242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58E0-D9D7-4D14-A131-F162340E2E2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84692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wer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trekken hoeveel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en / voorcalcu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te en onderhan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ings en betalingsvoorw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-administratie en nacalcu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VERINGS- EN BETALINGSVOORWAARD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t u uw eigen leverings- en betalingsvoorwaarden? (bespre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 dat de offerte hierop aan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 rekening met zakelijke en particuliere k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eg deze ook t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6AC2-10FD-4FC5-8FB6-B2DD2211F39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INGS- EN BETALING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WAARDEN (vervol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at mag je in rekening brengen aan uren bij regiewerken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. Moet een offerte altijd worden bijgevoegd 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E935-0B5D-471D-9DE1-5994700F3E9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INGS- EN BETALING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WAARDEN (vervol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3. Moet het moment van aanvang en oplevering in de offerte  worden opgenomen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4. Mogen wijzigingen in de CAO automatisch worden doorberekend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7A54-8C0E-4BCA-AACA-17E8FDAD284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INGS- EN BETALING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WAARDEN (vervol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ebben al jouw medewerkers vanzelf procuratie; kunnen zij (aanvullende) overeenkomsten aangaan 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6. Kun je bij niet betalen materialen uit de tuin terughalen. ? Leg ui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A602-6774-4DAB-9AD9-EB70026825D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775836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JECTADMINISTRATIE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 NA-CALCULAT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4360" y="1988640"/>
            <a:ext cx="7772400" cy="36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welke wijze voert je nu na-calculaties ui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king ko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king van de planning / voortg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 op produktiv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nstellen van nor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preking van deze punt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, noodzaak en wijze waarop / doel waarvo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jdelijke aanduiding voor dianumm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E24E-BA99-4E2B-A858-DFAA2D624BD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jdelijke aanduiding voor voettekst 4"/>
          <p:cNvSpPr/>
          <p:nvPr/>
        </p:nvSpPr>
        <p:spPr>
          <a:xfrm>
            <a:off x="684360" y="5950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F5CD-DA3F-4E72-8355-D7B5CFF018C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itrekken hoeveelhed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name / inventar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hulp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van lijsten / form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ing ordenen en archi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s uitvo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E970-0BEF-4668-AAD7-30C3F74D87A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0200" y="316080"/>
            <a:ext cx="7758000" cy="99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even en nor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aar haalt je normen voornamelijk vandaan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en beschik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 en beperk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drijfsnor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67D6-35C1-4294-A965-02B21A493D3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86000" y="404280"/>
            <a:ext cx="775800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roten / voorcalcul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 ervaart je als het meest lastige probleem bij het begro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gr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lp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van lijsten en form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len van de aanneem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D25D-5112-45E1-A14B-AF7DE67FE2A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95640" y="549000"/>
            <a:ext cx="775800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erkschema / uitvoeringspl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796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staat er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 en noodz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un bij het begr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lp bij de uitvo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2DDA-0524-4399-9292-B44AF4AB4A3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775800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ferte en onderhand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ke problemen kom je vooral tegen tijdens het offertepro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oud van een off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ekaartj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e van het pr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voorwaarden / bepa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elijke klanten versus consu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voettekst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OC Oost GL44 Begroten van wer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E572-8FD9-47B7-A9A3-A91426BC4AF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0200" y="383760"/>
            <a:ext cx="77580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rings en betalingsvoorwaa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n je uw eigen voorwaarden eigenlij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staat hier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t u hiervan afwijk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jn deze altijd van toepas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8:12:33Z</dcterms:created>
  <dc:creator>Helicon Opleidingen</dc:creator>
  <dc:description/>
  <dc:language>en-US</dc:language>
  <cp:lastModifiedBy>Peter Hofstede</cp:lastModifiedBy>
  <dcterms:modified xsi:type="dcterms:W3CDTF">2015-09-10T20:40:12Z</dcterms:modified>
  <cp:revision>11</cp:revision>
  <dc:subject/>
  <dc:title>Dia 1</dc:title>
</cp:coreProperties>
</file>