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3800" y="747360"/>
            <a:ext cx="489276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197717-A65A-4CB6-8D2E-4EC9A1C59ED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01ACCF-1D0E-43B0-92D7-A00CE76B173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7809B8-F1B9-4823-A46E-CAC30A21B89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185B76-0DB8-448A-B9A7-B5D509360C87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303A57-BB2B-4342-A073-24A8AAD19C8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betervoorstel doorgevoerd: 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 vervangen door ‘niet zijnd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B70CFA-2D6E-4D08-A5C7-2646A3B09C2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80920" y="74448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631469-FA49-4E6E-896E-B59E961070D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80920" y="74448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799EE8-EFD2-4690-966D-FFFE4EB4FFE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86578B-CE89-4A42-B247-26D56CD9F621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21567B-1763-42F5-B482-852BB69ABA1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5B11E-FF3B-4C04-94A7-B41BC5AB9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550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7C79C-DACA-4C44-AEEE-68446DBBC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7D65A-A0F0-49DC-ACAC-1C7B7C88B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6B4CE-AA26-4E9F-8FE4-505CB280AC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C03D8-D131-4428-9A54-644DAC3DF3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139E1-5D48-4373-B300-89AEBB113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37754-F497-493D-AB54-0820B524B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D0B8C-FF18-4649-A851-BE810F937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7744F-57AF-419D-9B28-5575F836D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975E-2AA6-4B5E-9CF9-9AD37E493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AA613-6497-46EB-8F19-C5099F662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BDC08-F832-4B7F-941B-2E3C68C4A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91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B6D5-5C11-434B-91E5-32AC2E4D5930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304920" cy="12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E:/Onderwijsmodule%20portrait%20Afwijkingen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Tijdelijke aanduiding voor dianummer 4"/>
          <p:cNvSpPr/>
          <p:nvPr/>
        </p:nvSpPr>
        <p:spPr>
          <a:xfrm>
            <a:off x="7380360" y="6237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A4A4-3D93-4850-97CC-70B8E1274E34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0" name="Picture 2" descr="P:\MIJN DOCUMENTEN\Plaatjes\CDRAWY2K.jpg"/>
          <p:cNvPicPr/>
          <p:nvPr/>
        </p:nvPicPr>
        <p:blipFill>
          <a:blip r:embed="rId1"/>
          <a:stretch/>
        </p:blipFill>
        <p:spPr>
          <a:xfrm>
            <a:off x="7434360" y="2577960"/>
            <a:ext cx="145404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1504440"/>
            <a:ext cx="8153280" cy="33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ONDERDELEN RAW-SYSTEMATI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atalogus met resultaatsbeschrijv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andleiding RAW-systematiek (spelreg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0000"/>
                </a:solidFill>
                <a:uFillTx/>
                <a:latin typeface="Arial"/>
              </a:rPr>
              <a:t>Standaard RAW Bepalingen 20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and met keuze- en invulbepalingen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Besteksbestand RAW (</a:t>
            </a:r>
            <a:r>
              <a:rPr b="1" lang="nl-NL" sz="20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62120" y="28584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INLEIDING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B26C-5497-4FC4-B243-64FF835602C7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1499760"/>
            <a:ext cx="830592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5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Tijdsbepal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nneer oplever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rtingen te late oplev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ere (tussentijdse) tijdstipp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v. Deeloplever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076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6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Onderhoudsterm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4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ALGEMENE BESCHRIJVING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Waaruit bestaat het werk globa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AAE4-11B3-4747-A89B-90A85BB9D775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285480"/>
            <a:ext cx="82645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2.1</a:t>
            </a: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Algemene gegeve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762120" y="1557360"/>
            <a:ext cx="84582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Teken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nl-NL" sz="20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Peilen en hoofdafmet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nl-NL" sz="20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Kwaliteitsborg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nl-NL" sz="20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(indien ISO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oppunten vermelde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Bijla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nl-NL" sz="20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horend tot bestek bijv. V&amp;G-plan, grondbalans,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egevens t.b.v. bemaling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art. 21.03.01 Standaard 2010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Ter informatie bijv. rapport bodem- en wateronderzoek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art. 17.04.01 Standaard 2010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CD77-38BC-44FA-BC1F-78FB6E6C8DBE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0720" y="285480"/>
            <a:ext cx="79660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2.2  Vaste pagin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41240" y="1195560"/>
            <a:ext cx="802188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JURIDISCHE VERANTWOORD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klaring van de hierna volgende sta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enmerk resultaatsverplichting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Wingdings"/>
                <a:ea typeface="Wingdings"/>
                <a:hlinkClick r:id="rId1"/>
              </a:rPr>
              <a:t>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samenvatting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enzen van de situer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D024-DB4A-47FA-AFAC-719BADDF260D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628200"/>
            <a:ext cx="7772400" cy="4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1"/>
                </a:solidFill>
                <a:latin typeface="Arial"/>
              </a:rPr>
              <a:t>HOEVEELHEID TER INLICH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504440"/>
            <a:ext cx="8229600" cy="43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’ uitsluitend ter inlichting,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nzij af te leiden uit resultaatsverp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levert bouwstof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gever stelt bouwstof ter beschikk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 het werk komende bouwstoff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herkomst in kolom ‘omschrijving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 (calculatiegegeven)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verplichting is inclusief verwerk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ter in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5075280" y="2743200"/>
            <a:ext cx="3019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7467480" y="4559400"/>
            <a:ext cx="627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7408800" y="322596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E4AF-BA4C-415C-8F6A-0865FED87981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46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Arial"/>
              </a:rPr>
              <a:t>DEEL 2.2  BESTEKSPOSTNUMM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0344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62120" y="1352520"/>
            <a:ext cx="8312040" cy="41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adere beschrijv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 van alle benodigde ‘klussen’ in besteksp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s gevolg van betaling naar productie en kostenhomogeniteit kan het aantal posten groot word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aarom indeling belangrij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Indeling besteksposten door bestekschrijv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02A0-FCD3-4C3C-9AC1-B6A021C76810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MOGELIJKE INDELING BESTEKSPOS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572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42720" indent="-34272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ar werkcatego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har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envoorzien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ar 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asering i.v.m. verkeer e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27640" y="1676520"/>
            <a:ext cx="313056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ar constru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andhoo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ij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k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p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64A1-2FA8-477A-BA91-A6617CBA5C79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749160" y="604800"/>
            <a:ext cx="504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BESTEKSPOSTNUMMERIN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761040" y="1527120"/>
            <a:ext cx="995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761400" y="4727520"/>
            <a:ext cx="140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Freeform 5"/>
          <p:cNvSpPr/>
          <p:nvPr/>
        </p:nvSpPr>
        <p:spPr>
          <a:xfrm>
            <a:off x="2181240" y="1467000"/>
            <a:ext cx="282600" cy="2668320"/>
          </a:xfrm>
          <a:custGeom>
            <a:avLst/>
            <a:gdLst>
              <a:gd name="textAreaLeft" fmla="*/ 0 w 282600"/>
              <a:gd name="textAreaRight" fmla="*/ 282960 w 282600"/>
              <a:gd name="textAreaTop" fmla="*/ 0 h 2668320"/>
              <a:gd name="textAreaBottom" fmla="*/ 2668680 h 2668320"/>
            </a:gdLst>
            <a:ahLst/>
            <a:rect l="textAreaLeft" t="textAreaTop" r="textAreaRight" b="textAreaBottom"/>
            <a:pathLst>
              <a:path w="193" h="1681">
                <a:moveTo>
                  <a:pt x="0" y="0"/>
                </a:moveTo>
                <a:lnTo>
                  <a:pt x="192" y="0"/>
                </a:lnTo>
                <a:lnTo>
                  <a:pt x="192" y="1680"/>
                </a:lnTo>
                <a:lnTo>
                  <a:pt x="0" y="168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Freeform 6"/>
          <p:cNvSpPr/>
          <p:nvPr/>
        </p:nvSpPr>
        <p:spPr>
          <a:xfrm>
            <a:off x="2181240" y="4667400"/>
            <a:ext cx="282600" cy="458640"/>
          </a:xfrm>
          <a:custGeom>
            <a:avLst/>
            <a:gdLst>
              <a:gd name="textAreaLeft" fmla="*/ 0 w 282600"/>
              <a:gd name="textAreaRight" fmla="*/ 282960 w 28260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193" h="289">
                <a:moveTo>
                  <a:pt x="0" y="0"/>
                </a:moveTo>
                <a:lnTo>
                  <a:pt x="192" y="0"/>
                </a:lnTo>
                <a:lnTo>
                  <a:pt x="192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517840" y="2517840"/>
            <a:ext cx="185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-4 cijfers  =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402080" y="2146320"/>
            <a:ext cx="3031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rije teks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.b.v. onderverdeling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sp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657160" y="4651200"/>
            <a:ext cx="1669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6 cijfers   =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404240" y="4292640"/>
            <a:ext cx="3962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stell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verplichting m.b.v.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beschrijv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0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0D8E-54A0-4362-A1E3-78F4CEEAE0EF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3080" y="475920"/>
            <a:ext cx="7754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2.2  HOOFDCO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90480" y="1295280"/>
            <a:ext cx="81486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RKCATEGORI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OOPWER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NTREINIGDE GROND EN VERONTR. WAT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MALIN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RAINAG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EUF- EN SLEUFLOZE TECHNIEK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INGWER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ABELWER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8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UNDERINGSLA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nzovoort t/m 8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C760-88D4-482E-A263-2A6BBFCF2617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952560" y="13129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384120"/>
            <a:ext cx="72565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Werkcategori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ontgrav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vervoer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verwerk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scheiden, verdichten en profiler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ubwerkcategori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8" name="Freeform 4"/>
          <p:cNvSpPr/>
          <p:nvPr/>
        </p:nvSpPr>
        <p:spPr>
          <a:xfrm>
            <a:off x="990720" y="863640"/>
            <a:ext cx="907920" cy="374760"/>
          </a:xfrm>
          <a:custGeom>
            <a:avLst/>
            <a:gdLst>
              <a:gd name="textAreaLeft" fmla="*/ 0 w 907920"/>
              <a:gd name="textAreaRight" fmla="*/ 908280 w 90792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577" h="289">
                <a:moveTo>
                  <a:pt x="0" y="288"/>
                </a:moveTo>
                <a:lnTo>
                  <a:pt x="0" y="0"/>
                </a:lnTo>
                <a:lnTo>
                  <a:pt x="57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9" name="Freeform 5"/>
          <p:cNvSpPr/>
          <p:nvPr/>
        </p:nvSpPr>
        <p:spPr>
          <a:xfrm>
            <a:off x="1371600" y="5181480"/>
            <a:ext cx="1162080" cy="53028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673" h="241">
                <a:moveTo>
                  <a:pt x="0" y="0"/>
                </a:moveTo>
                <a:lnTo>
                  <a:pt x="0" y="240"/>
                </a:lnTo>
                <a:lnTo>
                  <a:pt x="672" y="2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1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7BCC-70A7-44D1-AEF6-670BAA8E1106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170360" y="630360"/>
            <a:ext cx="228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erkcategori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2145600" y="1209600"/>
            <a:ext cx="262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ubwerkcategori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3128760" y="1743120"/>
            <a:ext cx="191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lgnumm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952640" y="3060720"/>
            <a:ext cx="690480" cy="273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936880" y="3594240"/>
            <a:ext cx="692280" cy="2197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966960" y="2527200"/>
            <a:ext cx="691920" cy="3264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685800" y="5194440"/>
            <a:ext cx="800100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685800" y="4356000"/>
            <a:ext cx="800100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3689640" y="3648240"/>
            <a:ext cx="247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ontgrav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704760" y="4410000"/>
            <a:ext cx="4269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Grond ontgraven uit </a:t>
            </a:r>
            <a:r>
              <a:rPr b="1" lang="nl-NL" sz="2400" spc="-1" strike="noStrike">
                <a:solidFill>
                  <a:srgbClr val="ffffaf"/>
                </a:solidFill>
                <a:latin typeface="Arial"/>
              </a:rPr>
              <a:t>cunet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3684600" y="5248440"/>
            <a:ext cx="458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ff00"/>
                </a:solidFill>
                <a:latin typeface="Arial"/>
              </a:rPr>
              <a:t>Grond ontgraven uit ophog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108756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ff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207180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305748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ff00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207180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305748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108756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1087560" y="36482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Rectangle 20"/>
          <p:cNvSpPr/>
          <p:nvPr/>
        </p:nvSpPr>
        <p:spPr>
          <a:xfrm>
            <a:off x="2071800" y="36482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Rectangle 21"/>
          <p:cNvSpPr/>
          <p:nvPr/>
        </p:nvSpPr>
        <p:spPr>
          <a:xfrm>
            <a:off x="1087560" y="25812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3282840" y="221616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Rectangle 23"/>
          <p:cNvSpPr/>
          <p:nvPr/>
        </p:nvSpPr>
        <p:spPr>
          <a:xfrm>
            <a:off x="3691080" y="2581200"/>
            <a:ext cx="265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>
            <a:off x="2297160" y="1682640"/>
            <a:ext cx="0" cy="1295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1312920" y="114948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4733-1A86-43FB-A6E1-A9FAFE64420D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BESTEK ALGEME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33cc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62120" y="1508040"/>
            <a:ext cx="71197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6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01"/>
                </a:solidFill>
                <a:latin typeface="Arial"/>
              </a:rPr>
              <a:t>BESTEK VOLGENS </a:t>
            </a:r>
            <a:r>
              <a:rPr b="1" lang="nl-NL" sz="2800" spc="-1" strike="noStrike" u="sng">
                <a:solidFill>
                  <a:srgbClr val="ff0000"/>
                </a:solidFill>
                <a:uFillTx/>
                <a:latin typeface="Arial"/>
              </a:rPr>
              <a:t>UAV 1989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 van het wer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behorende tekenin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dende voorwaard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ichtin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s-verbaal van aanwijz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5F93-9100-4699-9999-CFA708284A20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3095640" y="5565600"/>
            <a:ext cx="32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ff00"/>
                </a:solidFill>
                <a:latin typeface="Arial"/>
              </a:rPr>
              <a:t>Besteksposten niet compleet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094200" y="1566720"/>
            <a:ext cx="3235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 ontgraven uit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cunet.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Veiligheidsklasse: basisklasse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Situering: Ketelstraat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soort: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klei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ca. 0,40 m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ca. 604 m3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veen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ca. 0,50 m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ca. 756 m3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sbepaling:</a:t>
            </a: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aan de hand van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meting in het werk in profiel van ontgraving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soorten gescheiden ontgraven.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ntgravingshoogte gemiddeld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0,90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ntgravingsbreedte op bodem gemiddeld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5,40</a:t>
            </a: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luds 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1 : 0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oegestane positieve en negatieve afwijking 0,03 m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212130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20101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329520" y="1566720"/>
            <a:ext cx="49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1360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4062240" y="858960"/>
            <a:ext cx="106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13680" y="630360"/>
            <a:ext cx="507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6802560" y="630360"/>
            <a:ext cx="1035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7859520" y="630360"/>
            <a:ext cx="1035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335160" y="641520"/>
            <a:ext cx="7794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10" name="Group 14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211" name="Line 15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2" name="Line 16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6" name="Line 20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7" name="Line 21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8" name="Line 22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19" name="Freeform 23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>
                <a:gd name="textAreaLeft" fmla="*/ 0 w 8582040"/>
                <a:gd name="textAreaRight" fmla="*/ 8582400 w 8582040"/>
                <a:gd name="textAreaTop" fmla="*/ 0 h 4724280"/>
                <a:gd name="textAreaBottom" fmla="*/ 4724640 h 4724280"/>
              </a:gdLst>
              <a:ahLst/>
              <a:rect l="textAreaLeft" t="textAreaTop" r="textAreaRight" b="textAreaBottom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0" name="Line 24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1" name="Line 25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2" name="Line 26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3" name="Line 27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4" name="Line 28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25" name="Line 29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226" name="Rectangle 30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1829520" y="1566720"/>
            <a:ext cx="108108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9" name="Rectangle 33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Text Box 34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1206360" y="614520"/>
            <a:ext cx="194076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code       1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E8F4-B73D-4841-A0B4-64924DAC3966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RESULTAATSBESCHRIJV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409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t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ar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arva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lke voorwaard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lke hoeveelhed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: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m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o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C674-2B89-4576-B407-7A3C8732881B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324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Arial"/>
              </a:rPr>
              <a:t>DEEL 2.2 BIJZONDERHEDE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400" y="1238040"/>
            <a:ext cx="6764400" cy="48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GEEN CIJFER IN DEFI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tekst op positie in catalo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st door bestekschrijver niet gebrui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er mag geen informatie ontbre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CIJFER ‘9’ IN DEFICODE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(eigen tek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juiste keuze mogel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voegen twee defic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53A7-0790-4E44-AF06-05094A90739F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3 BEPALING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nderschei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en administr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chnis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 be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geldend i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Standaard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jectgebonden in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5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6436-A223-45C4-9EE4-173AE93F52FA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61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SOORTEN BEPALIN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Keuzebepalingen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Indien ...; …tenzij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vulbepalingen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Het bestek vermeldt 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Eigen bepalingen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ze altijd afstemmen op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aanvulling op ....... (art. / § ...  van  ...) 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afwijking van  ....... (art. / § ...  van  ...) 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7ECA-F87E-4F2E-B193-7DD2AB49DB28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3240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Arial"/>
              </a:rPr>
              <a:t>INSCHRIJVINGSDOCUMENTE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2182680" y="324180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v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099880" y="4089240"/>
            <a:ext cx="600660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TLEDING VAN DE AANNEMINGSSOM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 flipV="1">
            <a:off x="2084400" y="300960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1219320" y="3009960"/>
            <a:ext cx="230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7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10A5-7BEF-4B19-BE40-842D29752A8D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603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876240" y="1214280"/>
            <a:ext cx="8115480" cy="793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Productiegebonden k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Hoeveelheid met prijs per eenheid of bedrag in euro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876240" y="2801880"/>
            <a:ext cx="8115480" cy="265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taartkosten in bedragen in euro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malige k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sk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k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nst en risico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elpost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80880" indent="-3808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352680" y="2168640"/>
            <a:ext cx="243864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UBTOTAA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076560" y="5638680"/>
            <a:ext cx="299412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ANNEMINGSSOM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53F3-4BA3-4C29-80E3-11271F3324F5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DOEL BES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8130960" cy="29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 marL="23580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Contract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800" indent="-23580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Bij aanbesteding -  uitvoering -  eventuele geschill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5800" indent="0">
              <a:lnSpc>
                <a:spcPts val="3600"/>
              </a:lnSpc>
              <a:buNone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5800" indent="0">
              <a:lnSpc>
                <a:spcPts val="2798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Informatie dr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800" indent="0">
              <a:lnSpc>
                <a:spcPts val="2798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800" indent="-23580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conomisch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raming  kosten -  calculatie -  toetsing  aanbiedingen  - besturing / bewaking bouwpro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299240" indent="0">
              <a:lnSpc>
                <a:spcPts val="2798"/>
              </a:lnSpc>
              <a:buNone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5800" indent="-23580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chnisch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prestatiebeschrijving -  leidraad bij uitvoering  -  controlemidd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580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FE3B-14E8-4736-B0AC-5B4F6E8F2B9A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762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ESSENTIËLE INFORMAT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7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v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voorwaar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hoeveelhe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43120" y="4556160"/>
            <a:ext cx="7718400" cy="824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Alle kostenbeïnvloedende factoren moeten voor-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zover mogelijk in het bestek tot uitdrukking kom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1042-0782-4F59-ADD1-0B27D6164977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724040" y="1905120"/>
            <a:ext cx="5627520" cy="274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901800" y="990720"/>
            <a:ext cx="7315200" cy="761760"/>
          </a:xfrm>
          <a:prstGeom prst="rect">
            <a:avLst/>
          </a:prstGeom>
          <a:noFill/>
          <a:ln w="12600">
            <a:solidFill>
              <a:srgbClr val="ff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STANDAARD BES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789120" y="1035000"/>
            <a:ext cx="7567200" cy="596880"/>
            <a:chOff x="789120" y="1035000"/>
            <a:chExt cx="7567200" cy="596880"/>
          </a:xfrm>
        </p:grpSpPr>
        <p:sp>
          <p:nvSpPr>
            <p:cNvPr id="73" name="Rectangle 6"/>
            <p:cNvSpPr/>
            <p:nvPr/>
          </p:nvSpPr>
          <p:spPr>
            <a:xfrm>
              <a:off x="798840" y="1035000"/>
              <a:ext cx="7557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>
              <a:off x="789120" y="1165320"/>
              <a:ext cx="7480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Arial"/>
                </a:rPr>
                <a:t>Standaardteksten (</a:t>
              </a:r>
              <a:r>
                <a:rPr b="1" lang="nl-NL" sz="2000" spc="-1" strike="noStrike">
                  <a:solidFill>
                    <a:srgbClr val="ffffff"/>
                  </a:solidFill>
                  <a:latin typeface="Arial"/>
                </a:rPr>
                <a:t>ABB</a:t>
              </a:r>
              <a:r>
                <a:rPr b="0" lang="nl-NL" sz="2400" spc="-1" strike="noStrike">
                  <a:solidFill>
                    <a:srgbClr val="ffffff"/>
                  </a:solidFill>
                  <a:latin typeface="Arial"/>
                </a:rPr>
                <a:t>)   Resultaatsbeschrijvingen</a:t>
              </a:r>
              <a:endParaRPr b="0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75" name="Rectangle 8"/>
          <p:cNvSpPr/>
          <p:nvPr/>
        </p:nvSpPr>
        <p:spPr>
          <a:xfrm>
            <a:off x="3656160" y="1901880"/>
            <a:ext cx="162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BESTE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1938240" y="2413080"/>
            <a:ext cx="5205600" cy="184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0  AANBESTED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1  ALGEME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2  BESCHRIJVING (posten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3  BEPALIN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1285920" y="5715000"/>
            <a:ext cx="6497640" cy="533520"/>
          </a:xfrm>
          <a:prstGeom prst="rect">
            <a:avLst/>
          </a:prstGeom>
          <a:noFill/>
          <a:ln w="12600">
            <a:solidFill>
              <a:srgbClr val="00f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STANDAARD 2010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5287320" y="4786200"/>
            <a:ext cx="35348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9" name="Picture 12" descr="C:\Program Files\Microsoft Office\Clipart\Populair\HNDDRUK1.WMF"/>
          <p:cNvPicPr/>
          <p:nvPr/>
        </p:nvPicPr>
        <p:blipFill>
          <a:blip r:embed="rId1"/>
          <a:stretch/>
        </p:blipFill>
        <p:spPr>
          <a:xfrm>
            <a:off x="4206960" y="480060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80" name="Line 13"/>
          <p:cNvSpPr/>
          <p:nvPr/>
        </p:nvSpPr>
        <p:spPr>
          <a:xfrm>
            <a:off x="507960" y="1447920"/>
            <a:ext cx="0" cy="761760"/>
          </a:xfrm>
          <a:prstGeom prst="line">
            <a:avLst/>
          </a:prstGeom>
          <a:ln w="12600">
            <a:solidFill>
              <a:srgbClr val="ff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 flipH="1">
            <a:off x="509760" y="1447920"/>
            <a:ext cx="398160" cy="0"/>
          </a:xfrm>
          <a:prstGeom prst="line">
            <a:avLst/>
          </a:prstGeom>
          <a:ln w="12600">
            <a:solidFill>
              <a:srgbClr val="ff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>
            <a:off x="509760" y="2209680"/>
            <a:ext cx="1217520" cy="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Line 16"/>
          <p:cNvSpPr/>
          <p:nvPr/>
        </p:nvSpPr>
        <p:spPr>
          <a:xfrm flipH="1">
            <a:off x="899640" y="5715000"/>
            <a:ext cx="422280" cy="0"/>
          </a:xfrm>
          <a:prstGeom prst="line">
            <a:avLst/>
          </a:prstGeom>
          <a:ln w="12600">
            <a:solidFill>
              <a:srgbClr val="00f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 flipV="1">
            <a:off x="898560" y="3149640"/>
            <a:ext cx="0" cy="2565360"/>
          </a:xfrm>
          <a:prstGeom prst="line">
            <a:avLst/>
          </a:prstGeom>
          <a:ln w="12600">
            <a:solidFill>
              <a:srgbClr val="00f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>
            <a:off x="900000" y="3149640"/>
            <a:ext cx="1038240" cy="0"/>
          </a:xfrm>
          <a:prstGeom prst="line">
            <a:avLst/>
          </a:prstGeom>
          <a:ln w="12600">
            <a:solidFill>
              <a:srgbClr val="00f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900000" y="3486240"/>
            <a:ext cx="1038240" cy="0"/>
          </a:xfrm>
          <a:prstGeom prst="line">
            <a:avLst/>
          </a:prstGeom>
          <a:ln w="12600">
            <a:solidFill>
              <a:srgbClr val="00f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7143840" y="3200400"/>
            <a:ext cx="98424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Line 21"/>
          <p:cNvSpPr/>
          <p:nvPr/>
        </p:nvSpPr>
        <p:spPr>
          <a:xfrm>
            <a:off x="8128080" y="3200400"/>
            <a:ext cx="0" cy="1295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Line 22"/>
          <p:cNvSpPr/>
          <p:nvPr/>
        </p:nvSpPr>
        <p:spPr>
          <a:xfrm flipH="1">
            <a:off x="7354800" y="4495680"/>
            <a:ext cx="773280" cy="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Line 23"/>
          <p:cNvSpPr/>
          <p:nvPr/>
        </p:nvSpPr>
        <p:spPr>
          <a:xfrm>
            <a:off x="1938240" y="2914560"/>
            <a:ext cx="52056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1938240" y="3362400"/>
            <a:ext cx="52056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Line 25"/>
          <p:cNvSpPr/>
          <p:nvPr/>
        </p:nvSpPr>
        <p:spPr>
          <a:xfrm flipV="1">
            <a:off x="898560" y="2781360"/>
            <a:ext cx="0" cy="457200"/>
          </a:xfrm>
          <a:prstGeom prst="line">
            <a:avLst/>
          </a:prstGeom>
          <a:ln w="12600">
            <a:solidFill>
              <a:srgbClr val="00f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>
            <a:off x="900000" y="2771640"/>
            <a:ext cx="1038240" cy="0"/>
          </a:xfrm>
          <a:prstGeom prst="line">
            <a:avLst/>
          </a:prstGeom>
          <a:ln w="12600">
            <a:solidFill>
              <a:srgbClr val="00f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Line 27"/>
          <p:cNvSpPr/>
          <p:nvPr/>
        </p:nvSpPr>
        <p:spPr>
          <a:xfrm>
            <a:off x="4470480" y="990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Line 28"/>
          <p:cNvSpPr/>
          <p:nvPr/>
        </p:nvSpPr>
        <p:spPr>
          <a:xfrm>
            <a:off x="8228160" y="1371600"/>
            <a:ext cx="280800" cy="0"/>
          </a:xfrm>
          <a:prstGeom prst="line">
            <a:avLst/>
          </a:prstGeom>
          <a:ln w="12600">
            <a:solidFill>
              <a:srgbClr val="ff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Line 29"/>
          <p:cNvSpPr/>
          <p:nvPr/>
        </p:nvSpPr>
        <p:spPr>
          <a:xfrm>
            <a:off x="8508960" y="1371600"/>
            <a:ext cx="0" cy="1676520"/>
          </a:xfrm>
          <a:prstGeom prst="line">
            <a:avLst/>
          </a:prstGeom>
          <a:ln w="12600">
            <a:solidFill>
              <a:srgbClr val="ff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7365960" y="3048120"/>
            <a:ext cx="1160640" cy="0"/>
          </a:xfrm>
          <a:prstGeom prst="line">
            <a:avLst/>
          </a:prstGeom>
          <a:ln w="12600">
            <a:solidFill>
              <a:srgbClr val="ffff0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DF12-0D56-47F9-AB40-85CDAFB5F8E9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1"/>
                </a:solidFill>
                <a:latin typeface="Arial"/>
              </a:rPr>
              <a:t>STANDAARD BESTEKSINDE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71680" y="857160"/>
            <a:ext cx="4498920" cy="1258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DEEL 0  Aanbested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gevens voor proces van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anbested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71680" y="3571920"/>
            <a:ext cx="4498920" cy="269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DEEL 2 Beschrijv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2.1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LGEMENE GEGEVE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71600">
              <a:buClr>
                <a:srgbClr val="ffffff"/>
              </a:buClr>
              <a:buFont typeface="Arial"/>
              <a:buChar char="-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ekening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71600">
              <a:buClr>
                <a:srgbClr val="ffffff"/>
              </a:buClr>
              <a:buFont typeface="Arial"/>
              <a:buChar char="-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eilen, hoofdafmeting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71600">
              <a:buClr>
                <a:srgbClr val="ffffff"/>
              </a:buClr>
              <a:buFont typeface="Arial"/>
              <a:buChar char="-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kwaliteitsborg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71600">
              <a:buClr>
                <a:srgbClr val="ffffff"/>
              </a:buClr>
              <a:buFont typeface="Arial"/>
              <a:buChar char="-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ijlag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2.2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ADERE BESCHRIJV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71600">
              <a:buClr>
                <a:srgbClr val="ffffff"/>
              </a:buClr>
              <a:buFont typeface="Arial"/>
              <a:buChar char="-"/>
              <a:tabLst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taat van bestekspost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429160" y="2214720"/>
            <a:ext cx="3490920" cy="125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DEEL 3 Bepalin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lgemeen en administratief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429160" y="3571920"/>
            <a:ext cx="3490920" cy="269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Vaste bijlag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V&amp;G-pla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Grondbala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71680" y="2214720"/>
            <a:ext cx="4498920" cy="125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DEEL 1 Algeme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gevens van belang vóór gunn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lobaal inzicht in het werk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A267-FF77-4A51-80E0-C3213ACEF8F6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37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Arial"/>
              </a:rPr>
              <a:t>DEEL 0  AANBESTED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762120" y="1125360"/>
            <a:ext cx="784224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1  AANBESTEDENDE DIENST</a:t>
            </a:r>
            <a:br>
              <a:rPr sz="20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ie en waar?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2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ijze van aanbesteden?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3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INLICHTINGE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aar, wanneer? (</a:t>
            </a:r>
            <a:r>
              <a:rPr b="1" lang="nl-NL" sz="1400" spc="-1" strike="noStrike">
                <a:solidFill>
                  <a:srgbClr val="00f000"/>
                </a:solidFill>
                <a:latin typeface="Arial"/>
              </a:rPr>
              <a:t>ABB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) -  nota van inlichtingen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4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INSCHRIJVING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jze van prijsaanbieding  -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igen verklaring -   BOBOB advies - zekerheidstelling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6663-28ED-4E2B-8704-68710B5E97B2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1409400"/>
            <a:ext cx="824688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5.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INSCHRIJFSTA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indtotaal /prijs klopt? -  hoe prijs gesplits – specifioceren eenmalige kost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6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AANBESTEDIN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openbaar / onderhands enz. - volgens </a:t>
            </a:r>
            <a:r>
              <a:rPr b="1" lang="nl-NL" sz="1400" spc="-1" strike="noStrike" u="sng">
                <a:solidFill>
                  <a:srgbClr val="ff0000"/>
                </a:solidFill>
                <a:uFillTx/>
                <a:latin typeface="Arial"/>
              </a:rPr>
              <a:t>ARW 2005 - </a:t>
            </a:r>
            <a:r>
              <a:rPr b="0" lang="nl-NL" sz="14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laats, datum, tij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0.07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OPDRA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Indien verrekenprijzen gunningscriterium  dan …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unningscriterium bijv.  meest  voordelige  aanbie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EL 0  AANBESTEDING (vervol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voettekst 3"/>
          <p:cNvSpPr/>
          <p:nvPr/>
        </p:nvSpPr>
        <p:spPr>
          <a:xfrm>
            <a:off x="201924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Onderwijsmodul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739152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4FF7-E7F5-4349-9BBA-1B0A1D909592}" type="slidenum">
              <a:rPr b="0" lang="nl-N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(van 59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37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1  ALGEME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62120" y="1754280"/>
            <a:ext cx="7118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1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OPDRACHTGEV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 en waar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2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DIRECTI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.03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LOCATI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, adres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8T14:17:12Z</dcterms:created>
  <dc:creator>Henk Deenik</dc:creator>
  <dc:description/>
  <dc:language>en-US</dc:language>
  <cp:lastModifiedBy>Peter Hofstede</cp:lastModifiedBy>
  <cp:lastPrinted>2001-01-05T12:37:35Z</cp:lastPrinted>
  <dcterms:modified xsi:type="dcterms:W3CDTF">2016-01-06T23:30:30Z</dcterms:modified>
  <cp:revision>88</cp:revision>
  <dc:subject/>
  <dc:title>Onderwijsmodule</dc:title>
</cp:coreProperties>
</file>