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6EF-20F0-4296-8630-B020B404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F13-26D4-4868-AD8C-1A20D94C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EBB-F88F-453D-94CF-6EA3FF9F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321-7239-41FD-A26E-471FDF0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ACA-2903-4EEA-ADF2-778A11C4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3FF-27BC-436A-8CC3-9CFE996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7FD-33F5-4A11-91B8-5351FCB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A89-176B-4763-AEDE-7D7DC34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22E-5E6A-447A-9FC8-99ED692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CD3-ED7B-43D3-86B7-030A176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E5E-0719-4736-8151-77E349B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CDD-6615-43AC-8F7A-2A1260F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A476-B489-4590-9644-E1D8287BBCEF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C1DD-3D01-412F-9DF4-976371ACD1D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DRACH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l een offerte samen voor het werk waarvoor u een werkbeschrijving heeft gema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9A39-DE87-408F-BE07-7D2ACCA13DD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andachtspunten bij een offer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ekaartj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en taal- en stijlfoute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schrijving en prijzen helde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w-gegevens klant juist? check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naw gegevens van uw bedrijf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4A19-BCEE-4AE6-A342-32720A07345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digheidsduur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ok bedrijfsinformatie toegevoeg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regeling hel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wezen naar leverings-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lingsvoorwaarden ?toegevoeg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voeringstermij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B97-82E0-47EF-846C-DC3F700B3CF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OFFERTE (vervol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leveringsdatum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ranties helder beschr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volgstappen aangegeve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 briefpapier afgedruk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or u ondertekend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iftelijke opdracht ? kopi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jgevoegd ? retourenvelopp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0F64-60DA-4BB1-BF26-3DAB01E0A34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VERINGS- EN BETALINGSVOORWAAR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nt u uw eigen leverings- en betalingsvoorwaarden? (besprek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org dat de offerte hierop aan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 rekening met zakelijke 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uliere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eg deze ook to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AOC Oost GL44 2015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2789-1387-4077-A6ED-BB554E1B0A1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Hofstede</dc:creator>
  <dc:description/>
  <dc:language>en-US</dc:language>
  <cp:lastModifiedBy>Peter Hofstede</cp:lastModifiedBy>
  <dcterms:modified xsi:type="dcterms:W3CDTF">2015-10-01T22:06:10Z</dcterms:modified>
  <cp:revision>2</cp:revision>
  <dc:subject/>
  <dc:title>DE OFFERTE</dc:title>
</cp:coreProperties>
</file>