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85BB-69A0-41B2-A312-6AEBE5DDF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D7D7-ACFB-428E-8C33-CF8FDAE1E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0B90-7179-46D7-A002-9E9F08617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B066-C200-4E46-8A99-071F714B8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775F5-5DFA-4857-95C7-F8550D347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F033A-FBA2-4C33-AFEF-062FE642F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B7A6C-F655-4104-8111-D81A0C32B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E41D5-58EC-4B96-BE00-A289E48EA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ECA0E-5BE5-42F2-863D-5FB765D50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5029D-3934-4EE3-950E-A9AA89D60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1F938-738C-4385-AB2E-3B8650C75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1208-60C8-4E7D-AB80-B28C68A51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4642D-31A5-4775-B8F5-C1B040796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61710-2F3C-4584-93AA-709AB5C19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335DB-B237-4393-877C-241AD4030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501E8-2EA2-41DC-B0C4-56FE499FB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A2FED-2CEB-42B0-B149-35568A0EC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5A83-BBB2-4D5A-ACC1-745C0BB7C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8066-D205-46AA-8EA9-2ED3BDEA3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27D9-6185-4043-AFB5-1A426A8F2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DF62-59B7-402C-AB93-C964C8AF5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6AAA-D28E-4B22-A85A-22E20D2AD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C200-3F4D-4C0E-ADA5-072A5B549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E807-AAE1-4F98-B08B-C6000A9F0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3DD19-8588-459F-A6BA-C4F1689F227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CDE83-677F-49E2-BF39-9550162ABD9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roject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lan van Aanpak (Pv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= Project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Geldbeheers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begro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ndement van het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dgetbewaking en evt. deelbudgetbeheer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kenbevoegdhei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e mag hoeveel geld aan wat uitgeven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 Kwalitei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an welke k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iteitseisen moet h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sultaat voldo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lke instrumenten voor kwaliteitscontrole ga je gebrui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g vas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 er met (ISO)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orm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ordt gewerk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 De projectorganisati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deel de func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Arial"/>
              </a:rPr>
              <a:t>Projectleider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en p</a:t>
            </a:r>
            <a:r>
              <a:rPr b="0" lang="nl-NL" sz="2700" spc="-1" strike="noStrike">
                <a:solidFill>
                  <a:srgbClr val="000000"/>
                </a:solidFill>
                <a:latin typeface="Arial"/>
              </a:rPr>
              <a:t>roject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7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tie met onderaannem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n 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bevoegdheden v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pdrachtgever, projectleider, lijnmanagers, etc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ef aan hoeveel tijd iedereen hee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ijdverantwoordingsformuli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11. Communicatiepla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76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e communic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e communic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266720" y="1599840"/>
            <a:ext cx="4419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ie m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urgro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lankbordgro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levering van tussenevalua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dos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12. Risicoanalys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emene projectrisico’s (checkli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ieke risico’s (brainsto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icotabel m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jst van preventieve maatregelen en noodscenario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Bijlag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e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nnen die geraadpleegd z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ebsit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oeke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sone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detailleerde begrot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ken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Arial"/>
              </a:rPr>
              <a:t>Plan van aanpak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304920" y="762120"/>
          <a:ext cx="8534160" cy="5922720"/>
        </p:xfrm>
        <a:graphic>
          <a:graphicData uri="http://schemas.openxmlformats.org/drawingml/2006/table">
            <a:tbl>
              <a:tblPr/>
              <a:tblGrid>
                <a:gridCol w="1828800"/>
                <a:gridCol w="5257800"/>
                <a:gridCol w="144756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htergrond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arom  dit project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elstelling en projectopdrac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grenzen en randvoorwaard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 gaan we doen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activiteit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ructuur van het proj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44784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ning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e houden we alles onder controle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44784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ldbeheersing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44784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waliteitsbeheersing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44784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organisatie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44784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catiepla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sicoanaly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jlag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chtergronden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80520" y="1523520"/>
            <a:ext cx="853452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Geef een beschrijving va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organis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t doet het bedrij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w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anleiding voor het p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ject (probleem / ka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s er een relatie met andere projec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akeholdersanaly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800"/>
            </a:b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Doelstellingen</a:t>
            </a: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 en projectopdrach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8360" y="17524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arom wordt het project uitgevoer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Arial"/>
              </a:rPr>
              <a:t>Je moet met de doelstelling duidelijk kunnen maken wat de opdrachtgever van het project verwach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 van Eisen (P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 is er klaar als het projec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aar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jectresulta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dge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e zijn de gebruikers van het resulta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 Projectgrenzen en randvoorwaarde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 hoort er wel en </a:t>
            </a: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niet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bij het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enoem vooral waar me</a:t>
            </a:r>
            <a:r>
              <a:rPr b="0" lang="nl-NL" sz="27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over zou kunnen twijfele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 geeft de opdrachtgever de gelegenheid om bij te sture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g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en eind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atum van het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 heb je per sé nodig om het project tot een goed einde te breng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 De projectactiviteiten</a:t>
            </a:r>
            <a:r>
              <a:rPr b="1" lang="nl-NL" sz="3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2057040"/>
            <a:ext cx="822960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rijf alle projectactiviteiten o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als 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chrij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 voorberei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behe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uitvo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 De producte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 ga je oplever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schrij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produ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en gebeurteni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it zijn zaken waar de gebruikers </a:t>
            </a:r>
            <a:r>
              <a:rPr b="0" lang="nl-NL" sz="27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 zitten te wachte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jv. een tuin, een evenement, een presentati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e producten samen leveren uiteindelijk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t project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ulta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Hoofdstructuur v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n het projec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ak een WBS (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k Breakdown Structu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et alle project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ctiviteite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producten in d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robeer de activiteiten logisch te groep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et activiteiten die een vergelijkbare hoeveelheid werk kosten op hetzelfde nive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ofdfasering met mijlpalen in de tij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 De plann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5"/>
          <p:cNvSpPr/>
          <p:nvPr/>
        </p:nvSpPr>
        <p:spPr>
          <a:xfrm>
            <a:off x="3733920" y="1523880"/>
            <a:ext cx="1600200" cy="6098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6"/>
          <p:cNvSpPr/>
          <p:nvPr/>
        </p:nvSpPr>
        <p:spPr>
          <a:xfrm>
            <a:off x="3200400" y="2819520"/>
            <a:ext cx="266688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viteiten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7"/>
          <p:cNvSpPr/>
          <p:nvPr/>
        </p:nvSpPr>
        <p:spPr>
          <a:xfrm>
            <a:off x="2819520" y="4191120"/>
            <a:ext cx="342900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erk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8"/>
          <p:cNvSpPr/>
          <p:nvPr/>
        </p:nvSpPr>
        <p:spPr>
          <a:xfrm>
            <a:off x="2438280" y="5562720"/>
            <a:ext cx="419112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oken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0"/>
          <p:cNvSpPr/>
          <p:nvPr/>
        </p:nvSpPr>
        <p:spPr>
          <a:xfrm>
            <a:off x="4343400" y="228600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11"/>
          <p:cNvSpPr/>
          <p:nvPr/>
        </p:nvSpPr>
        <p:spPr>
          <a:xfrm>
            <a:off x="4343400" y="358128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2"/>
          <p:cNvSpPr/>
          <p:nvPr/>
        </p:nvSpPr>
        <p:spPr>
          <a:xfrm>
            <a:off x="4343400" y="495288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9T10:20:10Z</dcterms:created>
  <dc:creator>Ruud</dc:creator>
  <dc:description/>
  <dc:language>en-US</dc:language>
  <cp:lastModifiedBy>Robbert Oosterom</cp:lastModifiedBy>
  <dcterms:modified xsi:type="dcterms:W3CDTF">2013-10-16T21:40:41Z</dcterms:modified>
  <cp:revision>13</cp:revision>
  <dc:subject/>
  <dc:title>Projectmanagement</dc:title>
</cp:coreProperties>
</file>