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FB2-DBC8-4FA6-988F-13E0A29E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247-36E0-4CEA-B45D-90A0CF44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B61-F045-4A70-B21A-6554990F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2E6-19EC-4968-9164-954DE59D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DE00-970F-4377-8AAF-EE13E3DA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9DB5-DE96-412B-AE78-26921963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F679-FF57-4A24-ACE5-BADD8DDD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4386-D8D2-4D6C-88C7-454AC38B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16B7-45A4-4F18-B2B0-9C0ABD9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103F-3827-4B89-9F83-E6F6204E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F4D0-7C15-4E8F-8484-E5BE0ED4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90B-9F05-4745-B889-BD91DC48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7629-1164-40CD-8FEB-A305D168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92D3-C147-488B-AB99-58167ED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13E9-77B5-4DA4-AD09-412A5C14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DD1C-A7CF-41AF-B5F2-257FC508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0C5C-11CE-4BB7-8CC9-266FD831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87B-BB7C-41AF-B65B-5D37CA7A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18F-7E14-4EA7-A7EE-44448D0E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49B-2F61-4A6E-B257-D61F44B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39D-4B7E-4A03-8995-296B74F2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DE6-1BEC-440A-88EF-31388199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F3B-D1E3-46F9-88BC-DBBF290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7EB-D34A-4104-92CE-F9D40A35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B056-15DB-411A-BBCA-BF18A376C2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99F-4167-4DE2-8913-14BEC94246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22720"/>
        </p:xfrm>
        <a:graphic>
          <a:graphicData uri="http://schemas.openxmlformats.org/drawingml/2006/table">
            <a:tbl>
              <a:tblPr/>
              <a:tblGrid>
                <a:gridCol w="1828800"/>
                <a:gridCol w="5257800"/>
                <a:gridCol w="1447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om  dit proje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6T21:40:41Z</dcterms:modified>
  <cp:revision>13</cp:revision>
  <dc:subject/>
  <dc:title>Projectmanagement</dc:title>
</cp:coreProperties>
</file>