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A501-BC8C-419F-A779-6B810341CBD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3312-2E96-42AA-9732-634273F9B56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9F13-7867-4685-9BC1-74C1D534485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FEEC-6834-4C16-834F-580281CF17F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8165-6073-4434-8FFB-74ADCBBB6F5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7B9F-BF75-4B4A-8FC2-37928255F49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253E-AA3F-4BD2-90FE-B70599952CB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6A1F-43E9-4085-BBBA-D07F1267102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B20E-E129-44A2-97DD-EECBB1CB830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6A04-BF95-4501-BC8B-182527DFA56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D9A8-6E2F-4E5B-8E75-CFFD15B6340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2957-F02B-47C6-8A88-27C2B9938E2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571B-B6A3-4114-B894-74500A2968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E7C0-EFCC-4B12-BA5B-FD91C8F0B67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4334-DF8C-4511-B905-D71EA95AA41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9078-F13B-4261-AA00-7601785CCE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72EB-D150-468A-8957-72448537B69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7F41-B165-4C33-822E-7C1379CBD67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2081-02AD-4808-A418-882B03E7BEB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4627-9BFF-4C14-833A-D34F03C3BFA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6EB8-E4E7-4EFB-BB98-9D6697B11C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B241-595E-4D8E-AB7A-081397311B0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4AC3-04B9-43FD-96C8-E404FC96FBA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559A-D69A-4FE5-AFD0-7ED1F2C161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9477-EA3D-4D26-B6EF-A27A0DF8F54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59F4-FC13-4836-8B43-CB0E56DE7B6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ECAF-4B7A-44A8-88DE-1BE9EE8E34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0249-0AE4-4397-B951-695F303A39E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D844-B8A3-477D-93CA-32BB39DEB79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CD4F-B9AA-4D94-9642-A2A78E997C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3608-486A-457A-8195-25A26F79359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1258-7764-4C14-B71A-7E195E51C0E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4532-5148-49CA-8D9A-2813B57663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2D5C-C3AC-4FFB-8E27-CBE70D8CF2F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91F4-AA42-4638-8333-123899CEE7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8691-BABD-4C4D-B415-2624081DD7D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78E7-55F8-4F2F-94CE-E8920C43470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8AED-919C-4D0C-AAC4-FD937FAF52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F3C1-6462-4DF0-B3B1-CE9FF88381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14D2-2DB6-4D7E-A350-4366E05C1DD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005E-CA9F-4198-9638-2AF9D727205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E267-942A-406E-B02A-DFBFA27522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6704-3568-4AF3-BE00-790FA1B26FA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4395-90E7-4C10-AF1A-0E7033E5139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25B8-8735-4A7C-A1FE-FB08E18A1BF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A2F8-3148-4A52-8B37-0EC7CC511DB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51CF-480E-40FA-8599-259DE4B72A5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430A-1B85-4380-9CA2-8E0E5971C33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E6D2-E056-4F81-9EFB-1F67210CE0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C55E-08FD-42A5-92FD-D1B2C7A74E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EA7D-FA0C-4846-8A05-F7024A2A34C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8E7C-DCF8-4BAA-849D-7250256BE8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92E-2883-4B0D-8923-B5A08540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9BD-2B2F-4D8E-9F9E-320328BE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955-18D7-43E2-A3FE-3C0346B5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775-F0DD-4422-8846-E83C42DEC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915-3DC8-4FDE-924D-E433F657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FB01-1DC3-4F1C-9967-CA380A27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C6D-DFB8-48B2-BC23-CFDA6B19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A83-D96D-4594-9E86-FC6158DF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086-3277-4602-A551-76147EBF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535E-35A4-4BF1-92AA-E504D81F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A11-90B5-450C-9CEE-A970471F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E96-7B52-4637-9854-72B5C86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79F1-1564-4524-A953-2F88FF4EF0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et la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1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grond van goede kw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hoging van ongeveer 1mm per jaar door plaggenm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iefhoutbo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1979640" y="1420920"/>
            <a:ext cx="5761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stukjes, minder geschikt voor landbou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werd hout voor eigen gebruik g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e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9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voer van overtollig regenwater naar sloten. ont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k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250920" y="1403280"/>
            <a:ext cx="81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fhout dat men regelmatig afz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iland, blauwgra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7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land voor hooiw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en moerasachtig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levert een byzondere plantengroei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bor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5"/>
          <p:cNvPicPr/>
          <p:nvPr/>
        </p:nvPicPr>
        <p:blipFill>
          <a:blip r:embed="rId1"/>
          <a:stretch/>
        </p:blipFill>
        <p:spPr>
          <a:xfrm>
            <a:off x="3251160" y="1125360"/>
            <a:ext cx="27655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si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6"/>
          <p:cNvPicPr/>
          <p:nvPr/>
        </p:nvPicPr>
        <p:blipFill>
          <a:blip r:embed="rId1"/>
          <a:stretch/>
        </p:blipFill>
        <p:spPr>
          <a:xfrm>
            <a:off x="2978280" y="1413000"/>
            <a:ext cx="3489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 strook langs sl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kering, besch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5"/>
          <p:cNvPicPr/>
          <p:nvPr/>
        </p:nvPicPr>
        <p:blipFill>
          <a:blip r:embed="rId1"/>
          <a:stretch/>
        </p:blipFill>
        <p:spPr>
          <a:xfrm>
            <a:off x="2008080" y="1413000"/>
            <a:ext cx="4587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aarden wal aangepl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der dan houtsin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4"/>
          <p:cNvPicPr/>
          <p:nvPr/>
        </p:nvPicPr>
        <p:blipFill>
          <a:blip r:embed="rId1"/>
          <a:stretch/>
        </p:blipFill>
        <p:spPr>
          <a:xfrm>
            <a:off x="1908000" y="1428840"/>
            <a:ext cx="5832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vormige ontginning, omgeven door hout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 voor akkerbouw en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ofgang, berc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03"/>
          <p:cNvPicPr/>
          <p:nvPr/>
        </p:nvPicPr>
        <p:blipFill>
          <a:blip r:embed="rId1"/>
          <a:srcRect l="0" t="4411" r="0" b="-4399"/>
          <a:stretch/>
        </p:blipFill>
        <p:spPr>
          <a:xfrm>
            <a:off x="0" y="144612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kperiode (en rocco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ijke dames kunnen buiten wandelen, zonder dat ze in het zonnetje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ngo r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2"/>
          <p:cNvPicPr/>
          <p:nvPr/>
        </p:nvPicPr>
        <p:blipFill>
          <a:blip r:embed="rId1"/>
          <a:stretch/>
        </p:blipFill>
        <p:spPr>
          <a:xfrm>
            <a:off x="611280" y="1353960"/>
            <a:ext cx="770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inverlaging na smelten ijs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drukt door gewicht het bevroren land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anische tuin met verzameling b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etum is met coniferenverzam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1"/>
          <p:cNvPicPr/>
          <p:nvPr/>
        </p:nvPicPr>
        <p:blipFill>
          <a:blip r:embed="rId1"/>
          <a:stretch/>
        </p:blipFill>
        <p:spPr>
          <a:xfrm>
            <a:off x="1649520" y="1413000"/>
            <a:ext cx="53863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eger water voor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goede biotoop voor amfibi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9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diging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re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08"/>
          <p:cNvPicPr/>
          <p:nvPr/>
        </p:nvPicPr>
        <p:blipFill>
          <a:blip r:embed="rId1"/>
          <a:stretch/>
        </p:blipFill>
        <p:spPr>
          <a:xfrm>
            <a:off x="1908000" y="1380960"/>
            <a:ext cx="590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 mens beinvloede beekloop en oorsp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it gemaakt voor watermolens aandrijven en waterwerken (vijver met fontein) op landgoe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"/>
          <p:cNvPicPr/>
          <p:nvPr/>
        </p:nvPicPr>
        <p:blipFill>
          <a:blip r:embed="rId1"/>
          <a:stretch/>
        </p:blipFill>
        <p:spPr>
          <a:xfrm>
            <a:off x="900000" y="1273320"/>
            <a:ext cx="7489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uchtheuvel bij hoge wa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rfvaart,w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06"/>
          <p:cNvPicPr/>
          <p:nvPr/>
        </p:nvPicPr>
        <p:blipFill>
          <a:blip r:embed="rId1"/>
          <a:stretch/>
        </p:blipFill>
        <p:spPr>
          <a:xfrm>
            <a:off x="1908000" y="1427040"/>
            <a:ext cx="590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van afvoer van t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1582560" y="1413000"/>
            <a:ext cx="5435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05"/>
          <p:cNvPicPr/>
          <p:nvPr/>
        </p:nvPicPr>
        <p:blipFill>
          <a:blip r:embed="rId1"/>
          <a:stretch/>
        </p:blipFill>
        <p:spPr>
          <a:xfrm>
            <a:off x="971640" y="1457280"/>
            <a:ext cx="74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te in zandgrond, gevuld met voedsela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i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04"/>
          <p:cNvPicPr/>
          <p:nvPr/>
        </p:nvPicPr>
        <p:blipFill>
          <a:blip r:embed="rId1"/>
          <a:stretch/>
        </p:blipFill>
        <p:spPr>
          <a:xfrm>
            <a:off x="755640" y="1419120"/>
            <a:ext cx="7850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bouwkundig kunstwerk dat vis toegang geeft tot een door dijk of stuw ontoegankelijk geworden acht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oeiw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03"/>
          <p:cNvPicPr/>
          <p:nvPr/>
        </p:nvPicPr>
        <p:blipFill>
          <a:blip r:embed="rId1"/>
          <a:stretch/>
        </p:blipFill>
        <p:spPr>
          <a:xfrm>
            <a:off x="1979640" y="144144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de bemesten met een dunne laag klei of sli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vering van afvalwater bij aardappelmeelfabr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02"/>
          <p:cNvPicPr/>
          <p:nvPr/>
        </p:nvPicPr>
        <p:blipFill>
          <a:blip r:embed="rId1"/>
          <a:stretch/>
        </p:blipFill>
        <p:spPr>
          <a:xfrm>
            <a:off x="684360" y="140004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waadbare plaats in een b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01"/>
          <p:cNvPicPr/>
          <p:nvPr/>
        </p:nvPicPr>
        <p:blipFill>
          <a:blip r:embed="rId1"/>
          <a:stretch/>
        </p:blipFill>
        <p:spPr>
          <a:xfrm>
            <a:off x="1476360" y="1460520"/>
            <a:ext cx="554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plas ontstaan bij dijkdoorbr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k waar stromend grondwater (soms) aan de oppervlakte ko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andverstu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leestekens 001"/>
          <p:cNvPicPr/>
          <p:nvPr/>
        </p:nvPicPr>
        <p:blipFill>
          <a:blip r:embed="rId1"/>
          <a:stretch/>
        </p:blipFill>
        <p:spPr>
          <a:xfrm>
            <a:off x="324000" y="1468440"/>
            <a:ext cx="7993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egroeide vlakte door zand stu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intensief gebruik door afplaggen en beweiding van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ltic field, raat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13"/>
          <p:cNvPicPr/>
          <p:nvPr/>
        </p:nvPicPr>
        <p:blipFill>
          <a:blip r:embed="rId1"/>
          <a:stretch/>
        </p:blipFill>
        <p:spPr>
          <a:xfrm>
            <a:off x="179280" y="1432080"/>
            <a:ext cx="79930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ertje uit de ijzertij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et van de kelten, “foute”  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eer 35 x 3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 rondom kleine w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denko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12"/>
          <p:cNvPicPr/>
          <p:nvPr/>
        </p:nvPicPr>
        <p:blipFill>
          <a:blip r:embed="rId1"/>
          <a:stretch/>
        </p:blipFill>
        <p:spPr>
          <a:xfrm>
            <a:off x="2287440" y="1413000"/>
            <a:ext cx="412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en van eenden met kooikerhond en vangpij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7:03:12Z</dcterms:created>
  <dc:creator>johan</dc:creator>
  <dc:description/>
  <dc:language>en-US</dc:language>
  <cp:lastModifiedBy>johan</cp:lastModifiedBy>
  <dcterms:modified xsi:type="dcterms:W3CDTF">2013-08-24T12:16:50Z</dcterms:modified>
  <cp:revision>6</cp:revision>
  <dc:subject/>
  <dc:title>leestekens</dc:title>
</cp:coreProperties>
</file>