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0C31-329B-498D-B26F-FD2038B967D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A568-E109-4E47-B993-36C1E5CCAD1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AF61-856B-4CEB-8A27-11C438D1246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81F7-C6F0-40E1-9D43-1DD1EB56B3C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63C0-F10F-4AB7-9E59-33341F0B0A9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CCF4-0B43-4FA9-AA36-FBCB0B4DBC0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C38E-96F2-47E1-9B12-F90747F84D5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BEC0-E5BC-410A-BBC5-72F3E71FB77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602C-A4C7-4F06-A14D-9A5E2805965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FEC2-B7E8-4E4F-8694-6704407DED6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8080-C882-46A9-8124-7067B5DF67B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DA90-0A41-4525-BE02-70B6EF2DC49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439D-198F-4947-8D35-FCFCF95998B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DD2E-20CE-414A-A253-C4E1DEFC9B7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2BF3-243D-45B6-8697-EA7810B7BDA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079F-7C06-4E1F-971D-79B049AA6D8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000A-9C56-4BDD-AF1C-1A2B44ED7C4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9022-6514-4071-A9B6-AC4D8985CA8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DBAC-6CB0-46C7-B79B-99703CBC752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7627-18E8-43FA-8C5D-DA6A16B3A29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2E6E-4077-4A0A-B7E7-C551E9E59EF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BA41-658F-4962-82B4-5EC392C5347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8AC8-3984-49F8-8C52-37FA531CE36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8C63-A88A-460C-8742-43338769CF7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CA03-1BCB-4138-99D0-39744DB62A5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BBA4-EEEC-434B-9DD5-1E6654167AF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B8ED-05F9-4D2A-AFD3-B435D2035A5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2A2D-471B-492A-9FA0-14307AE68EA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552B-4409-4633-9DCC-4CB681D663B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E230-578F-48A8-9D46-48392D7EDEB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8EFE-C413-42FA-9346-FB86CEA9F86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944B-B42E-49A5-9C56-8D886899965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D407-F026-47CF-BB34-891A8E3C7A2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6D46-B31B-4916-8AB7-E51E019E0DE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096C-C1AB-4DB7-8A26-BFB1DFFAE48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19E3-675F-484C-9F4A-DA694BD61AD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30A0-0939-48F4-ABE3-13E3BCE60D5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070B-9A76-4FC5-9FA4-1D5A3595A22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2B8E-FFE2-4949-A48F-BB036CBA09B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C631-97EA-44AA-9FAC-89AD602C9AA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5EAD-46F2-4B51-8E27-5ACFB3FA43D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497D-9F0E-48C2-A5AA-906E6488F28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6A76-F8D2-42FA-B736-CD083D25C95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68D3-A4F2-4DC0-94A8-5C93515CDC9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E1D4-C772-429D-AEED-D00EA1DB0D5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85F0-8AAB-45C0-B553-8FE2ECAF624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B0ED-A668-429A-B3B6-8354EAF46F8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2B12-CD39-4F79-B743-DFCC190EACD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85C0-4EFA-4AA9-BB11-E0B6A11F357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0F18-A6AC-4988-8B02-F77A5E7A063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34F2-F642-4FCA-A5DC-C537582500E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06C9-3E14-4145-9278-B3B27901197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4505-5E16-444C-AD74-7668F3F5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E216-D20A-46AB-B758-C2BB8426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D9A4-36B2-49A5-B35D-700956179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3D01-5EDD-4668-A794-885594108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6F8E-4597-4A61-B507-B888BD8E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D4F0-29B5-4D18-97AF-F945CA6A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0C3F-AF55-4B9A-A66A-73A62108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E720-6BDC-4525-B0AA-37762917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5937-837C-4CF6-9DE0-A17A4FFF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75B8-9181-46EF-8B61-96E4C5DF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01DC-9816-4A9F-AEED-9941A8D3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3B5D-90E9-42A9-84A4-3431530A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64B2-2ABA-4B3D-A5A4-7843864F504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eestek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het lan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011"/>
          <p:cNvPicPr/>
          <p:nvPr/>
        </p:nvPicPr>
        <p:blipFill>
          <a:blip r:embed="rId1"/>
          <a:stretch/>
        </p:blipFill>
        <p:spPr>
          <a:xfrm>
            <a:off x="0" y="1335240"/>
            <a:ext cx="914400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bouwgrond van goede kwal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hoging van ongeveer 1mm per jaar door plaggenm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iefhoutbos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010"/>
          <p:cNvPicPr/>
          <p:nvPr/>
        </p:nvPicPr>
        <p:blipFill>
          <a:blip r:embed="rId1"/>
          <a:stretch/>
        </p:blipFill>
        <p:spPr>
          <a:xfrm>
            <a:off x="1979640" y="1420920"/>
            <a:ext cx="576108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stukjes, minder geschikt voor landbou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 werd hout voor eigen gebruik ge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epp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009"/>
          <p:cNvPicPr/>
          <p:nvPr/>
        </p:nvPicPr>
        <p:blipFill>
          <a:blip r:embed="rId1"/>
          <a:stretch/>
        </p:blipFill>
        <p:spPr>
          <a:xfrm>
            <a:off x="0" y="1655640"/>
            <a:ext cx="91440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voer van overtollig regenwater naar sloten. ontwa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kh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008"/>
          <p:cNvPicPr/>
          <p:nvPr/>
        </p:nvPicPr>
        <p:blipFill>
          <a:blip r:embed="rId1"/>
          <a:stretch/>
        </p:blipFill>
        <p:spPr>
          <a:xfrm>
            <a:off x="250920" y="1403280"/>
            <a:ext cx="817236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fhout dat men regelmatig afz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oiland, blauwgras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007"/>
          <p:cNvPicPr/>
          <p:nvPr/>
        </p:nvPicPr>
        <p:blipFill>
          <a:blip r:embed="rId1"/>
          <a:stretch/>
        </p:blipFill>
        <p:spPr>
          <a:xfrm>
            <a:off x="0" y="1333440"/>
            <a:ext cx="914400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land voor hooiwin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m en moerasachtige gr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t levert een byzondere plantengroei 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rbore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015"/>
          <p:cNvPicPr/>
          <p:nvPr/>
        </p:nvPicPr>
        <p:blipFill>
          <a:blip r:embed="rId1"/>
          <a:stretch/>
        </p:blipFill>
        <p:spPr>
          <a:xfrm>
            <a:off x="3251160" y="1125360"/>
            <a:ext cx="27655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utsing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006"/>
          <p:cNvPicPr/>
          <p:nvPr/>
        </p:nvPicPr>
        <p:blipFill>
          <a:blip r:embed="rId1"/>
          <a:stretch/>
        </p:blipFill>
        <p:spPr>
          <a:xfrm>
            <a:off x="2978280" y="1413000"/>
            <a:ext cx="34891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e strook langs sl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ekering, beschu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utw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005"/>
          <p:cNvPicPr/>
          <p:nvPr/>
        </p:nvPicPr>
        <p:blipFill>
          <a:blip r:embed="rId1"/>
          <a:stretch/>
        </p:blipFill>
        <p:spPr>
          <a:xfrm>
            <a:off x="2008080" y="1413000"/>
            <a:ext cx="45878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 aarden wal aangepla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der dan houtsing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004"/>
          <p:cNvPicPr/>
          <p:nvPr/>
        </p:nvPicPr>
        <p:blipFill>
          <a:blip r:embed="rId1"/>
          <a:stretch/>
        </p:blipFill>
        <p:spPr>
          <a:xfrm>
            <a:off x="1908000" y="1428840"/>
            <a:ext cx="58327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kvormige ontginning, omgeven door houtw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chikt voor akkerbouw en v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oofgang, berc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003"/>
          <p:cNvPicPr/>
          <p:nvPr/>
        </p:nvPicPr>
        <p:blipFill>
          <a:blip r:embed="rId1"/>
          <a:srcRect l="0" t="4411" r="0" b="-4399"/>
          <a:stretch/>
        </p:blipFill>
        <p:spPr>
          <a:xfrm>
            <a:off x="0" y="144612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okperiode (en rocco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elijke dames kunnen buiten wandelen, zonder dat ze in het zonnetje ko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ingo ru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002"/>
          <p:cNvPicPr/>
          <p:nvPr/>
        </p:nvPicPr>
        <p:blipFill>
          <a:blip r:embed="rId1"/>
          <a:stretch/>
        </p:blipFill>
        <p:spPr>
          <a:xfrm>
            <a:off x="611280" y="1353960"/>
            <a:ext cx="77040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einverlaging na smelten ijsma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s drukt door gewicht het bevroren land we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tanische tuin met verzameling bo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netum is met coniferenverzam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001"/>
          <p:cNvPicPr/>
          <p:nvPr/>
        </p:nvPicPr>
        <p:blipFill>
          <a:blip r:embed="rId1"/>
          <a:stretch/>
        </p:blipFill>
        <p:spPr>
          <a:xfrm>
            <a:off x="1649520" y="1413000"/>
            <a:ext cx="53863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oeger water voor v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 goede biotoop voor amfibi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009"/>
          <p:cNvPicPr/>
          <p:nvPr/>
        </p:nvPicPr>
        <p:blipFill>
          <a:blip r:embed="rId1"/>
          <a:stretch/>
        </p:blipFill>
        <p:spPr>
          <a:xfrm>
            <a:off x="0" y="1662120"/>
            <a:ext cx="91440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dedigings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pre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008"/>
          <p:cNvPicPr/>
          <p:nvPr/>
        </p:nvPicPr>
        <p:blipFill>
          <a:blip r:embed="rId1"/>
          <a:stretch/>
        </p:blipFill>
        <p:spPr>
          <a:xfrm>
            <a:off x="1908000" y="1380960"/>
            <a:ext cx="590400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de mens beinvloede beekloop en oorsp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it gemaakt voor watermolens aandrijven en waterwerken (vijver met fontein) op landgoe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e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007"/>
          <p:cNvPicPr/>
          <p:nvPr/>
        </p:nvPicPr>
        <p:blipFill>
          <a:blip r:embed="rId1"/>
          <a:stretch/>
        </p:blipFill>
        <p:spPr>
          <a:xfrm>
            <a:off x="900000" y="1273320"/>
            <a:ext cx="74898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uchtheuvel bij hoge wat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urfvaart,w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006"/>
          <p:cNvPicPr/>
          <p:nvPr/>
        </p:nvPicPr>
        <p:blipFill>
          <a:blip r:embed="rId1"/>
          <a:stretch/>
        </p:blipFill>
        <p:spPr>
          <a:xfrm>
            <a:off x="1908000" y="1427040"/>
            <a:ext cx="5904000" cy="54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van afvoer van tu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014"/>
          <p:cNvPicPr/>
          <p:nvPr/>
        </p:nvPicPr>
        <p:blipFill>
          <a:blip r:embed="rId1"/>
          <a:stretch/>
        </p:blipFill>
        <p:spPr>
          <a:xfrm>
            <a:off x="1582560" y="1413000"/>
            <a:ext cx="5435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005"/>
          <p:cNvPicPr/>
          <p:nvPr/>
        </p:nvPicPr>
        <p:blipFill>
          <a:blip r:embed="rId1"/>
          <a:stretch/>
        </p:blipFill>
        <p:spPr>
          <a:xfrm>
            <a:off x="971640" y="1457280"/>
            <a:ext cx="7488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agte in zandgrond, gevuld met voedselarm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i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004"/>
          <p:cNvPicPr/>
          <p:nvPr/>
        </p:nvPicPr>
        <p:blipFill>
          <a:blip r:embed="rId1"/>
          <a:stretch/>
        </p:blipFill>
        <p:spPr>
          <a:xfrm>
            <a:off x="755640" y="1419120"/>
            <a:ext cx="785016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bouwkundig kunstwerk dat vis toegang geeft tot een door dijk of stuw ontoegankelijk geworden achter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loeiwe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003"/>
          <p:cNvPicPr/>
          <p:nvPr/>
        </p:nvPicPr>
        <p:blipFill>
          <a:blip r:embed="rId1"/>
          <a:stretch/>
        </p:blipFill>
        <p:spPr>
          <a:xfrm>
            <a:off x="1979640" y="1441440"/>
            <a:ext cx="57610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de bemesten met een dunne laag klei of slib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ivering van afvalwater bij aardappelmeelfabri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002"/>
          <p:cNvPicPr/>
          <p:nvPr/>
        </p:nvPicPr>
        <p:blipFill>
          <a:blip r:embed="rId1"/>
          <a:stretch/>
        </p:blipFill>
        <p:spPr>
          <a:xfrm>
            <a:off x="684360" y="1400040"/>
            <a:ext cx="777708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waadbare plaats in een b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001"/>
          <p:cNvPicPr/>
          <p:nvPr/>
        </p:nvPicPr>
        <p:blipFill>
          <a:blip r:embed="rId1"/>
          <a:stretch/>
        </p:blipFill>
        <p:spPr>
          <a:xfrm>
            <a:off x="1476360" y="1460520"/>
            <a:ext cx="554364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plas ontstaan bij dijkdoorbra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k waar stromend grondwater (soms) aan de oppervlakte kom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andverstui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leestekens 001"/>
          <p:cNvPicPr/>
          <p:nvPr/>
        </p:nvPicPr>
        <p:blipFill>
          <a:blip r:embed="rId1"/>
          <a:stretch/>
        </p:blipFill>
        <p:spPr>
          <a:xfrm>
            <a:off x="324000" y="1468440"/>
            <a:ext cx="799308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begroeide vlakte door zand stui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intensief gebruik door afplaggen en beweiding van scha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eltic field, raatak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013"/>
          <p:cNvPicPr/>
          <p:nvPr/>
        </p:nvPicPr>
        <p:blipFill>
          <a:blip r:embed="rId1"/>
          <a:stretch/>
        </p:blipFill>
        <p:spPr>
          <a:xfrm>
            <a:off x="179280" y="1432080"/>
            <a:ext cx="799308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kertje uit de ijzertij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iet van de kelten, “foute”  na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eer 35 x 35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merk: rondom kleine wa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denkoo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012"/>
          <p:cNvPicPr/>
          <p:nvPr/>
        </p:nvPicPr>
        <p:blipFill>
          <a:blip r:embed="rId1"/>
          <a:stretch/>
        </p:blipFill>
        <p:spPr>
          <a:xfrm>
            <a:off x="2287440" y="1413000"/>
            <a:ext cx="4122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ngen van eenden met kooikerhond en vangpij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7:03:12Z</dcterms:created>
  <dc:creator>johan</dc:creator>
  <dc:description/>
  <dc:language>en-US</dc:language>
  <cp:lastModifiedBy>johan</cp:lastModifiedBy>
  <dcterms:modified xsi:type="dcterms:W3CDTF">2013-08-24T12:16:50Z</dcterms:modified>
  <cp:revision>6</cp:revision>
  <dc:subject/>
  <dc:title>leestekens</dc:title>
</cp:coreProperties>
</file>