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B12C-7357-457F-A132-02AFC665B83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7336-4019-4161-93B3-C8F2C2FEA84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4B45-459E-4F1D-80A0-48DFBBF2964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2D91-C85F-4CB9-915A-59DF27238C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1A50-0D68-4490-8477-51F0855AA5F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5F6E-9B2C-42A9-8499-F13053CCB36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200C-3B21-490D-8439-CF8F6324F58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E342-E6CE-471B-8DBC-4622D2DF579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A484-ECC4-4B3D-971C-7C7981B86F7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4166-E7C3-421C-90D1-A3D4200DB82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00E8-9121-469D-B53E-971B6EE21D3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2259-5DDF-4EDB-BE39-F44ACBD969A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879D-3262-441A-BD1D-E6A128272E7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6AED-921A-4814-9264-B2D9749D5E5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0A9C-9CAF-4CD4-9982-3DA8CD27FF9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1C88-E1C4-44DB-899A-F4A0F461D3B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0A82-A039-44AF-8551-AA30A40D49E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E075-D9DF-4A74-B346-DF988CE3040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AE56-CDF0-439D-AEBC-9BAD735B937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CA99-EA1E-47D7-8CE9-8ED67FEF685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452B-6081-4A3C-8BC1-AA497253D72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4D6D-F2A8-4E06-A395-E3457C25258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E2D0-578C-4901-852C-CE33548E9EC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8D6D-368C-489D-A391-88BA4367317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BC96-A1C5-48F2-985F-3A7121B6376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4BE3-00E0-4939-AFC2-C790A9D5CC5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7829-D00E-434D-9548-0F8A3989065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6A5E-B00F-4D34-A1AC-84EC146F8F3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EDCA-4738-4636-BD01-6D7B80FB506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A03E-DD49-417C-83D1-ACAF2AB8B68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C518-BE67-4ACB-81DD-D632E4D4C3C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E98B-936C-4194-AB9B-BF7D95AFB40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24AF-E3A8-4A0E-8E30-0A891008DA9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92D7-69CF-40A2-B396-2DA20B023CD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E9BD-A3BD-4F84-AA2A-E5A86A9EB8D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333D-90BC-4CDE-8720-93ECEA188B8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2C07-206F-4A43-9E58-CA31B7D92C9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B1D4-1722-4538-A4F4-6C9FD7986B9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5335-DC41-4026-BBD7-020FA087AEA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AF9F-1EF5-4246-9BB1-AA96B3615DC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215F-9910-40D6-8CAD-BB805E18F52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A517-0037-4639-BC62-5E4A4EA1322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E104-749F-4112-BD05-D77C37AB427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CAB0-57D7-4360-BF0C-3BEFCB06CE2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0FE2-81DD-47F3-ABBF-8EAE615A196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82A6-5D5A-4D20-8EE3-682DF224E63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7BBD-C1B9-41DE-A655-8A8E5DEB096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0710-2A4D-48BA-A42D-12D850209A6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1D8B-CBE0-4CBD-B813-6ED3050997E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8F5C-91FF-443F-810B-CC8E2162C73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C647-8BED-495E-A8C1-302A86C7158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FC66-56F7-49CC-A5B5-DB19A342077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902-E455-4BE8-ABDF-82FB87BD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AD0-85A4-46DE-B24F-EED1FF74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289-B413-4558-8291-DB1AC822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957-14E1-4273-9A66-1BC3E928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000-4DB6-4134-B25D-AA36736F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6FB-72AE-45EE-B9F0-FCE70FB9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F84-94A2-4DBE-87D6-9E87A28A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1D5-0E16-4432-BD69-C1651F1F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B5BF-3BF0-4A31-9663-9CEA235C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F30-BE5C-4CA0-AFC1-530FAE40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3C4-CF6C-4BAC-ADAE-D0C81CFE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0DA-FA24-45F9-BE8F-C62C711E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BABD-D1CF-4F1F-A240-BF82730568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estek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het lan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11"/>
          <p:cNvPicPr/>
          <p:nvPr/>
        </p:nvPicPr>
        <p:blipFill>
          <a:blip r:embed="rId1"/>
          <a:stretch/>
        </p:blipFill>
        <p:spPr>
          <a:xfrm>
            <a:off x="0" y="1335240"/>
            <a:ext cx="91440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bouwgrond van goede kw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hoging van ongeveer 1mm per jaar door plaggenm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iefhoutbo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10"/>
          <p:cNvPicPr/>
          <p:nvPr/>
        </p:nvPicPr>
        <p:blipFill>
          <a:blip r:embed="rId1"/>
          <a:stretch/>
        </p:blipFill>
        <p:spPr>
          <a:xfrm>
            <a:off x="1979640" y="1420920"/>
            <a:ext cx="57610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stukjes, minder geschikt voor landbou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 werd hout voor eigen gebruik g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epp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09"/>
          <p:cNvPicPr/>
          <p:nvPr/>
        </p:nvPicPr>
        <p:blipFill>
          <a:blip r:embed="rId1"/>
          <a:stretch/>
        </p:blipFill>
        <p:spPr>
          <a:xfrm>
            <a:off x="0" y="165564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voer van overtollig regenwater naar sloten. ontw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k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08"/>
          <p:cNvPicPr/>
          <p:nvPr/>
        </p:nvPicPr>
        <p:blipFill>
          <a:blip r:embed="rId1"/>
          <a:stretch/>
        </p:blipFill>
        <p:spPr>
          <a:xfrm>
            <a:off x="250920" y="1403280"/>
            <a:ext cx="81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fhout dat men regelmatig afz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iland, blauwgra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07"/>
          <p:cNvPicPr/>
          <p:nvPr/>
        </p:nvPicPr>
        <p:blipFill>
          <a:blip r:embed="rId1"/>
          <a:stretch/>
        </p:blipFill>
        <p:spPr>
          <a:xfrm>
            <a:off x="0" y="1333440"/>
            <a:ext cx="914400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land voor hooiw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 en moerasachtige gr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 levert een byzondere plantengroei 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rbore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15"/>
          <p:cNvPicPr/>
          <p:nvPr/>
        </p:nvPicPr>
        <p:blipFill>
          <a:blip r:embed="rId1"/>
          <a:stretch/>
        </p:blipFill>
        <p:spPr>
          <a:xfrm>
            <a:off x="3251160" y="1125360"/>
            <a:ext cx="27655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si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006"/>
          <p:cNvPicPr/>
          <p:nvPr/>
        </p:nvPicPr>
        <p:blipFill>
          <a:blip r:embed="rId1"/>
          <a:stretch/>
        </p:blipFill>
        <p:spPr>
          <a:xfrm>
            <a:off x="2978280" y="1413000"/>
            <a:ext cx="3489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 strook langs sl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kering, beschu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w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05"/>
          <p:cNvPicPr/>
          <p:nvPr/>
        </p:nvPicPr>
        <p:blipFill>
          <a:blip r:embed="rId1"/>
          <a:stretch/>
        </p:blipFill>
        <p:spPr>
          <a:xfrm>
            <a:off x="2008080" y="1413000"/>
            <a:ext cx="45878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aarden wal aangepl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der dan houtsing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004"/>
          <p:cNvPicPr/>
          <p:nvPr/>
        </p:nvPicPr>
        <p:blipFill>
          <a:blip r:embed="rId1"/>
          <a:stretch/>
        </p:blipFill>
        <p:spPr>
          <a:xfrm>
            <a:off x="1908000" y="1428840"/>
            <a:ext cx="5832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kvormige ontginning, omgeven door houtw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chikt voor akkerbouw en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ofgang, berc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03"/>
          <p:cNvPicPr/>
          <p:nvPr/>
        </p:nvPicPr>
        <p:blipFill>
          <a:blip r:embed="rId1"/>
          <a:srcRect l="0" t="4411" r="0" b="-4399"/>
          <a:stretch/>
        </p:blipFill>
        <p:spPr>
          <a:xfrm>
            <a:off x="0" y="144612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okperiode (en rocco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lijke dames kunnen buiten wandelen, zonder dat ze in het zonnetje 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ingo ru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02"/>
          <p:cNvPicPr/>
          <p:nvPr/>
        </p:nvPicPr>
        <p:blipFill>
          <a:blip r:embed="rId1"/>
          <a:stretch/>
        </p:blipFill>
        <p:spPr>
          <a:xfrm>
            <a:off x="611280" y="1353960"/>
            <a:ext cx="77040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inverlaging na smelten ijsm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s drukt door gewicht het bevroren land w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anische tuin met verzameling b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etum is met coniferenverzam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001"/>
          <p:cNvPicPr/>
          <p:nvPr/>
        </p:nvPicPr>
        <p:blipFill>
          <a:blip r:embed="rId1"/>
          <a:stretch/>
        </p:blipFill>
        <p:spPr>
          <a:xfrm>
            <a:off x="1649520" y="1413000"/>
            <a:ext cx="53863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eger water voor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 goede biotoop voor amfibi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009"/>
          <p:cNvPicPr/>
          <p:nvPr/>
        </p:nvPicPr>
        <p:blipFill>
          <a:blip r:embed="rId1"/>
          <a:stretch/>
        </p:blipFill>
        <p:spPr>
          <a:xfrm>
            <a:off x="0" y="166212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digings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re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08"/>
          <p:cNvPicPr/>
          <p:nvPr/>
        </p:nvPicPr>
        <p:blipFill>
          <a:blip r:embed="rId1"/>
          <a:stretch/>
        </p:blipFill>
        <p:spPr>
          <a:xfrm>
            <a:off x="1908000" y="1380960"/>
            <a:ext cx="590400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 mens beinvloede beekloop en oorsp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it gemaakt voor watermolens aandrijven en waterwerken (vijver met fontein) op landgoe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07"/>
          <p:cNvPicPr/>
          <p:nvPr/>
        </p:nvPicPr>
        <p:blipFill>
          <a:blip r:embed="rId1"/>
          <a:stretch/>
        </p:blipFill>
        <p:spPr>
          <a:xfrm>
            <a:off x="900000" y="1273320"/>
            <a:ext cx="74898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uchtheuvel bij hoge wa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rfvaart,w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006"/>
          <p:cNvPicPr/>
          <p:nvPr/>
        </p:nvPicPr>
        <p:blipFill>
          <a:blip r:embed="rId1"/>
          <a:stretch/>
        </p:blipFill>
        <p:spPr>
          <a:xfrm>
            <a:off x="1908000" y="1427040"/>
            <a:ext cx="59040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van afvoer van tu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14"/>
          <p:cNvPicPr/>
          <p:nvPr/>
        </p:nvPicPr>
        <p:blipFill>
          <a:blip r:embed="rId1"/>
          <a:stretch/>
        </p:blipFill>
        <p:spPr>
          <a:xfrm>
            <a:off x="1582560" y="1413000"/>
            <a:ext cx="5435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005"/>
          <p:cNvPicPr/>
          <p:nvPr/>
        </p:nvPicPr>
        <p:blipFill>
          <a:blip r:embed="rId1"/>
          <a:stretch/>
        </p:blipFill>
        <p:spPr>
          <a:xfrm>
            <a:off x="971640" y="1457280"/>
            <a:ext cx="748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gte in zandgrond, gevuld met voedsela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i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004"/>
          <p:cNvPicPr/>
          <p:nvPr/>
        </p:nvPicPr>
        <p:blipFill>
          <a:blip r:embed="rId1"/>
          <a:stretch/>
        </p:blipFill>
        <p:spPr>
          <a:xfrm>
            <a:off x="755640" y="1419120"/>
            <a:ext cx="78501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bouwkundig kunstwerk dat vis toegang geeft tot een door dijk of stuw ontoegankelijk geworden acht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oeiwe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003"/>
          <p:cNvPicPr/>
          <p:nvPr/>
        </p:nvPicPr>
        <p:blipFill>
          <a:blip r:embed="rId1"/>
          <a:stretch/>
        </p:blipFill>
        <p:spPr>
          <a:xfrm>
            <a:off x="1979640" y="1441440"/>
            <a:ext cx="5761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de bemesten met een dunne laag klei of sli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vering van afvalwater bij aardappelmeelfabr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002"/>
          <p:cNvPicPr/>
          <p:nvPr/>
        </p:nvPicPr>
        <p:blipFill>
          <a:blip r:embed="rId1"/>
          <a:stretch/>
        </p:blipFill>
        <p:spPr>
          <a:xfrm>
            <a:off x="684360" y="1400040"/>
            <a:ext cx="7777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waadbare plaats in een b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001"/>
          <p:cNvPicPr/>
          <p:nvPr/>
        </p:nvPicPr>
        <p:blipFill>
          <a:blip r:embed="rId1"/>
          <a:stretch/>
        </p:blipFill>
        <p:spPr>
          <a:xfrm>
            <a:off x="1476360" y="1460520"/>
            <a:ext cx="554364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plas ontstaan bij dijkdoorbr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k waar stromend grondwater (soms) aan de oppervlakte kom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andverstu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leestekens 001"/>
          <p:cNvPicPr/>
          <p:nvPr/>
        </p:nvPicPr>
        <p:blipFill>
          <a:blip r:embed="rId1"/>
          <a:stretch/>
        </p:blipFill>
        <p:spPr>
          <a:xfrm>
            <a:off x="324000" y="1468440"/>
            <a:ext cx="79930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begroeide vlakte door zand stu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intensief gebruik door afplaggen en beweiding van scha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ltic field, raata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13"/>
          <p:cNvPicPr/>
          <p:nvPr/>
        </p:nvPicPr>
        <p:blipFill>
          <a:blip r:embed="rId1"/>
          <a:stretch/>
        </p:blipFill>
        <p:spPr>
          <a:xfrm>
            <a:off x="179280" y="1432080"/>
            <a:ext cx="79930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kertje uit de ijzertij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iet van de kelten, “foute”  na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eer 35 x 3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: rondom kleine w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denkoo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12"/>
          <p:cNvPicPr/>
          <p:nvPr/>
        </p:nvPicPr>
        <p:blipFill>
          <a:blip r:embed="rId1"/>
          <a:stretch/>
        </p:blipFill>
        <p:spPr>
          <a:xfrm>
            <a:off x="2287440" y="1413000"/>
            <a:ext cx="412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gen van eenden met kooikerhond en vangpij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7:03:12Z</dcterms:created>
  <dc:creator>johan</dc:creator>
  <dc:description/>
  <dc:language>en-US</dc:language>
  <cp:lastModifiedBy>johan</cp:lastModifiedBy>
  <dcterms:modified xsi:type="dcterms:W3CDTF">2013-08-24T12:16:50Z</dcterms:modified>
  <cp:revision>6</cp:revision>
  <dc:subject/>
  <dc:title>leestekens</dc:title>
</cp:coreProperties>
</file>