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62A4-4279-472A-A5C4-AD79E6098A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1F6C-47F3-4C64-924B-D65B9A8BE58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D888-55FC-4DED-B8C8-FB10CE554D5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92D0-10B4-499B-BB80-0BBC108B6D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D688-A9A2-45A7-8FB2-B02D203E71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68196-04E1-454F-8370-83D97928EBD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3BBD-9DA6-48C9-91D6-56EC911D739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AE83-D739-4B06-9282-4404116F01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E01C-011E-444A-8A32-47AE90683D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2120-0220-46AD-B853-ECC23F24FA9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E9FA-B934-4377-A4B0-2EF375EB4F5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0F17-3B70-437B-93F5-379E9518A95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592A-DEE0-453E-A354-778EE15746F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7391-15BF-4853-A67D-2E9D4975BC3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C769-E2E9-46F2-9772-306FEEF4D0F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324D-B23E-4013-9DBB-4C77BFB5D94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D5E78-509C-430E-9930-95B31CA6500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906D-968D-4752-A87A-A4CE003BBA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2A97-289F-44AE-BEB0-3C11806C9C6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8467-A274-409D-8153-8A3C30E3F5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6B17-6474-4BE2-9E5E-1B5D37F962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123EB-7422-4D34-BB0E-DC18019685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C139-D74A-4C7E-AD95-0F018FCD64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B82B-F3E3-4ED3-83B4-00CBAD41A1B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710-396C-49F7-931D-A86CB87721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3C0E-14BC-413A-BC05-1C112DC5978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7A82-F293-45CC-8F30-1040D5866A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E3F5-7FD3-4F1B-95AA-BEABFB007D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7196-1CEC-448A-B8F2-123374E6F0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4CD5-EF01-4A07-AEE2-2A1E033CD24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A476-EE2E-4926-A1E5-433ADB690EA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F8CD-0215-4D78-BDE3-FD32554D792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CF91-F48A-47E7-BA12-78EBFB045C4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005B-D655-457C-BBEB-3F9A5BA8A95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174D-83A5-497A-8CF3-048B15AAAF4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110C-A15C-43D8-B0D3-45BDE2A383E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3A53B-9570-465D-8D61-7AB5D480521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18BC-3A68-4AA5-8556-E7605AD2529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83D4-B39C-45D1-AD42-20EA0F1F5A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F37D-6197-4DD1-B237-A2F368BC0B1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FD00-260C-4CB0-8FC0-ABFE9F93655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AE27-B6AC-4786-9596-C3F64FCE64E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A46E-8500-4CA4-8EEF-B949C46B6B8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8F91-D695-4D7A-80B0-477513B8C3F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349A-540D-4191-BE05-D6A9C6A73D5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7E78-F393-4BB1-A464-8C063A30EFA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D9D8-AB33-4F86-A69D-B4109091BB8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60A2-0508-4A98-8D6D-B9E698A59F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3520-FFF4-43CE-BFA8-0DA37FE6EC5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DE46-BC91-4C0B-9F36-6B097D0C38E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37B7-A820-4058-9E49-399FAB68E5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E886-A8EC-4C1C-9F4D-CD6412C4F6A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0DF-E7EE-4ACE-B8EE-E97CA362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679-87FF-46A9-8F9B-0FA1FD48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0B28-4984-4330-9C6E-677F2975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563D-C551-48B1-BF26-3FDB548E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394-372C-4C65-B8C1-E9CDB7F9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E233-6D41-4546-9BCA-F582365B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8AE5-6B7B-44CF-ACC8-88BDD630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02C2-8F66-48AE-98BF-37E51E2D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F1B5-3869-40DB-9F89-9FE9E302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665-3DB2-48E5-981A-D462EA3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16E-D78C-46DF-8DF6-B8606864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663-1137-4C3C-9A8A-CF63A457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59C0-EB90-4A51-BF6A-9AA869CDE0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estek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 het landsch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11"/>
          <p:cNvPicPr/>
          <p:nvPr/>
        </p:nvPicPr>
        <p:blipFill>
          <a:blip r:embed="rId1"/>
          <a:stretch/>
        </p:blipFill>
        <p:spPr>
          <a:xfrm>
            <a:off x="0" y="1335240"/>
            <a:ext cx="914400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bouwgrond van goede kwal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hoging van ongeveer 1mm per jaar door plaggenm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riefhoutbos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1979640" y="1420920"/>
            <a:ext cx="5761080" cy="54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stukjes, minder geschikt voor landbou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er werd hout voor eigen gebruik ge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epp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009"/>
          <p:cNvPicPr/>
          <p:nvPr/>
        </p:nvPicPr>
        <p:blipFill>
          <a:blip r:embed="rId1"/>
          <a:stretch/>
        </p:blipFill>
        <p:spPr>
          <a:xfrm>
            <a:off x="0" y="165564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voer van overtollig regenwater naar sloten. ont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k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250920" y="1403280"/>
            <a:ext cx="81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fhout dat men regelmatig afz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oiland, blauwgras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007"/>
          <p:cNvPicPr/>
          <p:nvPr/>
        </p:nvPicPr>
        <p:blipFill>
          <a:blip r:embed="rId1"/>
          <a:stretch/>
        </p:blipFill>
        <p:spPr>
          <a:xfrm>
            <a:off x="0" y="1333440"/>
            <a:ext cx="914400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land voor hooiwin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 en moerasachtige gro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t levert een byzondere plantengroei 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rbore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015"/>
          <p:cNvPicPr/>
          <p:nvPr/>
        </p:nvPicPr>
        <p:blipFill>
          <a:blip r:embed="rId1"/>
          <a:stretch/>
        </p:blipFill>
        <p:spPr>
          <a:xfrm>
            <a:off x="3251160" y="1125360"/>
            <a:ext cx="27655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si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006"/>
          <p:cNvPicPr/>
          <p:nvPr/>
        </p:nvPicPr>
        <p:blipFill>
          <a:blip r:embed="rId1"/>
          <a:stretch/>
        </p:blipFill>
        <p:spPr>
          <a:xfrm>
            <a:off x="2978280" y="1413000"/>
            <a:ext cx="3489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e strook langs slo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kering, beschu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w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005"/>
          <p:cNvPicPr/>
          <p:nvPr/>
        </p:nvPicPr>
        <p:blipFill>
          <a:blip r:embed="rId1"/>
          <a:stretch/>
        </p:blipFill>
        <p:spPr>
          <a:xfrm>
            <a:off x="2008080" y="1413000"/>
            <a:ext cx="45878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 aarden wal aangepla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der dan houtsing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004"/>
          <p:cNvPicPr/>
          <p:nvPr/>
        </p:nvPicPr>
        <p:blipFill>
          <a:blip r:embed="rId1"/>
          <a:stretch/>
        </p:blipFill>
        <p:spPr>
          <a:xfrm>
            <a:off x="1908000" y="1428840"/>
            <a:ext cx="583272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vormige ontginning, omgeven door houtw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schikt voor akkerbouw en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ofgang, berc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03"/>
          <p:cNvPicPr/>
          <p:nvPr/>
        </p:nvPicPr>
        <p:blipFill>
          <a:blip r:embed="rId1"/>
          <a:srcRect l="0" t="4411" r="0" b="-4399"/>
          <a:stretch/>
        </p:blipFill>
        <p:spPr>
          <a:xfrm>
            <a:off x="0" y="144612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okperiode (en rocco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lijke dames kunnen buiten wandelen, zonder dat ze in het zonnetje k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ingo ru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002"/>
          <p:cNvPicPr/>
          <p:nvPr/>
        </p:nvPicPr>
        <p:blipFill>
          <a:blip r:embed="rId1"/>
          <a:stretch/>
        </p:blipFill>
        <p:spPr>
          <a:xfrm>
            <a:off x="611280" y="1353960"/>
            <a:ext cx="77040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einverlaging na smelten ijsmas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s drukt door gewicht het bevroren land we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anische tuin met verzameling bom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inetum is met coniferenverzam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001"/>
          <p:cNvPicPr/>
          <p:nvPr/>
        </p:nvPicPr>
        <p:blipFill>
          <a:blip r:embed="rId1"/>
          <a:stretch/>
        </p:blipFill>
        <p:spPr>
          <a:xfrm>
            <a:off x="1649520" y="1413000"/>
            <a:ext cx="53863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oeger water voor v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 goede biotoop voor amfibie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009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dedigingswe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re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08"/>
          <p:cNvPicPr/>
          <p:nvPr/>
        </p:nvPicPr>
        <p:blipFill>
          <a:blip r:embed="rId1"/>
          <a:stretch/>
        </p:blipFill>
        <p:spPr>
          <a:xfrm>
            <a:off x="1908000" y="1380960"/>
            <a:ext cx="590400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 de mens beinvloede beekloop en oorspr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it gemaakt voor watermolens aandrijven en waterwerken (vijver met fontein) op landgoe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er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007"/>
          <p:cNvPicPr/>
          <p:nvPr/>
        </p:nvPicPr>
        <p:blipFill>
          <a:blip r:embed="rId1"/>
          <a:stretch/>
        </p:blipFill>
        <p:spPr>
          <a:xfrm>
            <a:off x="900000" y="1273320"/>
            <a:ext cx="74898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uchtheuvel bij hoge wat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rfvaart,w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006"/>
          <p:cNvPicPr/>
          <p:nvPr/>
        </p:nvPicPr>
        <p:blipFill>
          <a:blip r:embed="rId1"/>
          <a:stretch/>
        </p:blipFill>
        <p:spPr>
          <a:xfrm>
            <a:off x="1908000" y="1427040"/>
            <a:ext cx="5904000" cy="54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van afvoer van tu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14"/>
          <p:cNvPicPr/>
          <p:nvPr/>
        </p:nvPicPr>
        <p:blipFill>
          <a:blip r:embed="rId1"/>
          <a:stretch/>
        </p:blipFill>
        <p:spPr>
          <a:xfrm>
            <a:off x="1582560" y="1413000"/>
            <a:ext cx="5435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005"/>
          <p:cNvPicPr/>
          <p:nvPr/>
        </p:nvPicPr>
        <p:blipFill>
          <a:blip r:embed="rId1"/>
          <a:stretch/>
        </p:blipFill>
        <p:spPr>
          <a:xfrm>
            <a:off x="971640" y="1457280"/>
            <a:ext cx="748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te in zandgrond, gevuld met voedselarm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i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004"/>
          <p:cNvPicPr/>
          <p:nvPr/>
        </p:nvPicPr>
        <p:blipFill>
          <a:blip r:embed="rId1"/>
          <a:stretch/>
        </p:blipFill>
        <p:spPr>
          <a:xfrm>
            <a:off x="755640" y="1419120"/>
            <a:ext cx="785016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bouwkundig kunstwerk dat vis toegang geeft tot een door dijk of stuw ontoegankelijk geworden acht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oeiwe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003"/>
          <p:cNvPicPr/>
          <p:nvPr/>
        </p:nvPicPr>
        <p:blipFill>
          <a:blip r:embed="rId1"/>
          <a:stretch/>
        </p:blipFill>
        <p:spPr>
          <a:xfrm>
            <a:off x="1979640" y="1441440"/>
            <a:ext cx="5761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de bemesten met een dunne laag klei of sli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vering van afvalwater bij aardappelmeelfabri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002"/>
          <p:cNvPicPr/>
          <p:nvPr/>
        </p:nvPicPr>
        <p:blipFill>
          <a:blip r:embed="rId1"/>
          <a:stretch/>
        </p:blipFill>
        <p:spPr>
          <a:xfrm>
            <a:off x="684360" y="1400040"/>
            <a:ext cx="7777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rwaadbare plaats in een b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001"/>
          <p:cNvPicPr/>
          <p:nvPr/>
        </p:nvPicPr>
        <p:blipFill>
          <a:blip r:embed="rId1"/>
          <a:stretch/>
        </p:blipFill>
        <p:spPr>
          <a:xfrm>
            <a:off x="1476360" y="1460520"/>
            <a:ext cx="554364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plas ontstaan bij dijkdoorbra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k waar stromend grondwater (soms) aan de oppervlakte kom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andverstu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leestekens 001"/>
          <p:cNvPicPr/>
          <p:nvPr/>
        </p:nvPicPr>
        <p:blipFill>
          <a:blip r:embed="rId1"/>
          <a:stretch/>
        </p:blipFill>
        <p:spPr>
          <a:xfrm>
            <a:off x="324000" y="1468440"/>
            <a:ext cx="799308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egroeide vlakte door zand stu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 intensief gebruik door afplaggen en beweiding van scha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eltic field, raat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13"/>
          <p:cNvPicPr/>
          <p:nvPr/>
        </p:nvPicPr>
        <p:blipFill>
          <a:blip r:embed="rId1"/>
          <a:stretch/>
        </p:blipFill>
        <p:spPr>
          <a:xfrm>
            <a:off x="179280" y="1432080"/>
            <a:ext cx="79930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kertje uit de ijzertij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iet van de kelten, “foute”  na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eer 35 x 35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: rondom kleine wa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ndenkoo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012"/>
          <p:cNvPicPr/>
          <p:nvPr/>
        </p:nvPicPr>
        <p:blipFill>
          <a:blip r:embed="rId1"/>
          <a:stretch/>
        </p:blipFill>
        <p:spPr>
          <a:xfrm>
            <a:off x="2287440" y="1413000"/>
            <a:ext cx="412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ngen van eenden met kooikerhond en vangpij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7:03:12Z</dcterms:created>
  <dc:creator>johan</dc:creator>
  <dc:description/>
  <dc:language>en-US</dc:language>
  <cp:lastModifiedBy>johan</cp:lastModifiedBy>
  <dcterms:modified xsi:type="dcterms:W3CDTF">2013-08-24T12:16:50Z</dcterms:modified>
  <cp:revision>6</cp:revision>
  <dc:subject/>
  <dc:title>leestekens</dc:title>
</cp:coreProperties>
</file>