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01909-9382-4FC5-9504-4F9BB0715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452A8-3741-4D81-AE07-20AE917C5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5C8CA-380B-4946-A2CC-0B7A749CC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9D77F-512C-428B-9CC6-EE90BBD28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0F7DD-415F-485E-BB62-E59616BCA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DBB10-8536-4717-8A20-729B132AE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65023-BC98-4992-BFD0-21526A49D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C2C12-2EF3-44C0-97F8-413E4DD8F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7D5F0-87F9-4E0F-A571-3EB34DE6C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17580-B47F-4F10-9AD8-C486A3ACC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93160-0340-423B-AEA4-565EA66AE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072E9-4D99-4852-9570-B7287077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589DB-0033-453A-BD6B-0F5BC1D22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90163-F2B0-4873-821D-5916B6F08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FCF51-0702-427F-97E2-BC0A1BCBD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7E706-DE2E-4685-9C46-53F2414CB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5A40E-0F21-4FE4-9A99-2F12B795F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483DD7-AF18-4DD0-B537-80CA991E32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E24550-1661-4659-9515-1527FB26D3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E3C40-4B31-4B51-ACF6-FC5C60E48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BB5840-68C4-4D04-8BE3-A9B9CE86D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DFFA5-E6D0-43FF-B75B-4170F5895E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52437-88FF-45E6-8580-563C7C327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E0B98-2543-4581-9CA8-40EC00263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B8674-F8FF-4724-93FB-D6515F29B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580F4-CF98-4823-A27B-C806AE32B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BFE52-3E49-45BC-94AA-B9AC6FC1E8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6B2A2-FFEC-41E0-BE7E-AEB0196C9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9FD39D-9133-4080-92BE-68938A02AF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11D686-8D1C-4D53-9CDB-27CD95C40D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ED2FC4-5AF7-4809-9F21-A57A729E1F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7E7B8-899C-42BE-B1FD-629DFA94B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31D0A-21A8-4772-B9BC-7BD1E54D65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AA83B-97CC-477F-85E2-8EE6A64C3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2A9785-41ED-41E8-AC4D-A9D3A94AFA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DA02A1-FFFD-4DEA-8F2C-A6827D84F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179ABB-3B20-4657-8583-6CDAE59B4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5F8DD-EE6F-4E0A-B56B-E8254DD3D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705C7-E842-41DD-A103-8FDD6CC9C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3E645-EB97-4C3C-A3A0-8F8611705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D75886-5FBF-4EF2-964A-E352A04CB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EB23EE-D4C8-4CEF-855F-1087E8563A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117BED-26EA-477A-90B3-4BFEB2D7E4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EFD53-80D9-49CF-9CBE-64ABE3C1C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07737-71A5-4674-ADF6-6AC7D4BCF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BB79-DB53-4E74-91B7-9BDC27BD7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B092-A5C0-4B39-9682-E03C36B3A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DBC2-26E7-4120-96D2-BE5D198C6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8B53-3CBE-424D-A5E5-32AC02832A7C}"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98A4-C6F7-4C01-BDF0-6C0195F1B12D}"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4B36-75B9-49F1-935F-0A4DB619C4A8}"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83F5-44C3-495C-9A51-10249ED7CEB2}"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418ab3"/>
                </a:solidFill>
                <a:latin typeface="Trebuchet MS"/>
              </a:rPr>
              <a:t>Ben jij je eigen databaas?</a:t>
            </a:r>
            <a:br>
              <a:rPr sz="5400"/>
            </a:br>
            <a:r>
              <a:rPr b="0" lang="nl-NL" sz="4000" spc="-1" strike="noStrike">
                <a:solidFill>
                  <a:srgbClr val="ffffff"/>
                </a:solidFill>
                <a:latin typeface="Trebuchet MS"/>
              </a:rPr>
              <a:t>www.jeeigendatabaas.nl </a:t>
            </a:r>
            <a:r>
              <a:rPr b="0" lang="nl-NL" sz="5400" spc="-1" strike="noStrike">
                <a:solidFill>
                  <a:srgbClr val="ffffff"/>
                </a:solidFill>
                <a:latin typeface="Trebuchet MS"/>
              </a:rPr>
              <a:t> </a:t>
            </a:r>
            <a:endParaRPr b="0" lang="en-US" sz="5400" spc="-1" strike="noStrike">
              <a:solidFill>
                <a:srgbClr val="418ab3"/>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Aangeboden door www.mediaenmaatschappij.nl </a:t>
            </a:r>
            <a:endParaRPr b="0" lang="en-US" sz="1800" spc="-1" strike="noStrike">
              <a:solidFill>
                <a:srgbClr val="404040"/>
              </a:solidFill>
              <a:latin typeface="Trebuchet MS"/>
            </a:endParaRPr>
          </a:p>
        </p:txBody>
      </p:sp>
      <p:pic>
        <p:nvPicPr>
          <p:cNvPr id="214" name="Picture 3" descr="C:\Users\Bamber\AppData\Local\Microsoft\Windows\Temporary Internet Files\Content.Outlook\4JX05CV0\alleen tekst (2).png"/>
          <p:cNvPicPr/>
          <p:nvPr/>
        </p:nvPicPr>
        <p:blipFill>
          <a:blip r:embed="rId1"/>
          <a:stretch/>
        </p:blipFill>
        <p:spPr>
          <a:xfrm>
            <a:off x="250920" y="5257800"/>
            <a:ext cx="5317920" cy="1600200"/>
          </a:xfrm>
          <a:prstGeom prst="rect">
            <a:avLst/>
          </a:prstGeom>
          <a:ln w="0">
            <a:noFill/>
          </a:ln>
        </p:spPr>
      </p:pic>
      <p:pic>
        <p:nvPicPr>
          <p:cNvPr id="215" name="Afbeelding 1" descr=""/>
          <p:cNvPicPr/>
          <p:nvPr/>
        </p:nvPicPr>
        <p:blipFill>
          <a:blip r:embed="rId2"/>
          <a:stretch/>
        </p:blipFill>
        <p:spPr>
          <a:xfrm>
            <a:off x="7380360" y="5992920"/>
            <a:ext cx="1350720" cy="691920"/>
          </a:xfrm>
          <a:prstGeom prst="rect">
            <a:avLst/>
          </a:prstGeom>
          <a:ln w="0">
            <a:noFill/>
          </a:ln>
        </p:spPr>
      </p:pic>
      <p:pic>
        <p:nvPicPr>
          <p:cNvPr id="216" name="Afbeelding 2" descr=""/>
          <p:cNvPicPr/>
          <p:nvPr/>
        </p:nvPicPr>
        <p:blipFill>
          <a:blip r:embed="rId3"/>
          <a:stretch/>
        </p:blipFill>
        <p:spPr>
          <a:xfrm>
            <a:off x="3357720" y="450720"/>
            <a:ext cx="1373040" cy="8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3</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e zijn enorm benieuwd naar wat jij doet als er iets wordt gevraagd op interne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at doen jouw vrie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e hierva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46"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4 </a:t>
            </a:r>
            <a:endParaRPr b="0" lang="en-US" sz="3600" spc="-1" strike="noStrike">
              <a:solidFill>
                <a:srgbClr val="418ab3"/>
              </a:solidFill>
              <a:latin typeface="Trebuchet MS"/>
            </a:endParaRPr>
          </a:p>
        </p:txBody>
      </p:sp>
      <p:sp>
        <p:nvSpPr>
          <p:cNvPr id="24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4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zou je jouw huisadres invullen op intern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ik een prijs kan winne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ik weet wie het vraag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ik anders niet verder kan op die website (of game!) </a:t>
            </a:r>
            <a:endParaRPr b="0" lang="en-US" sz="1800" spc="-1" strike="noStrike">
              <a:solidFill>
                <a:srgbClr val="404040"/>
              </a:solidFill>
              <a:latin typeface="Trebuchet MS"/>
            </a:endParaRPr>
          </a:p>
        </p:txBody>
      </p:sp>
      <p:pic>
        <p:nvPicPr>
          <p:cNvPr id="24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4</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ij wat je eigenlijk moet doen om je privacy te beschermen. Alle antwoorden zijn goed, maar is het allemaal even slim?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zou je mensen aanraden te doen, als zij persé hun privégevens nooit willen geven? </a:t>
            </a:r>
            <a:endParaRPr b="0" lang="en-US" sz="1800" spc="-1" strike="noStrike">
              <a:solidFill>
                <a:srgbClr val="404040"/>
              </a:solidFill>
              <a:latin typeface="Trebuchet MS"/>
            </a:endParaRPr>
          </a:p>
        </p:txBody>
      </p:sp>
      <p:pic>
        <p:nvPicPr>
          <p:cNvPr id="25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5</a:t>
            </a:r>
            <a:endParaRPr b="0" lang="en-US" sz="3600" spc="-1" strike="noStrike">
              <a:solidFill>
                <a:srgbClr val="418ab3"/>
              </a:solidFill>
              <a:latin typeface="Trebuchet MS"/>
            </a:endParaRPr>
          </a:p>
        </p:txBody>
      </p:sp>
      <p:sp>
        <p:nvSpPr>
          <p:cNvPr id="254" name=""/>
          <p:cNvSpPr txBox="1"/>
          <p:nvPr/>
        </p:nvSpPr>
        <p:spPr>
          <a:xfrm>
            <a:off x="609120" y="2160360"/>
            <a:ext cx="6348600" cy="3881160"/>
          </a:xfrm>
          <a:prstGeom prst="rect">
            <a:avLst/>
          </a:prstGeom>
          <a:noFill/>
          <a:ln w="0">
            <a:noFill/>
          </a:ln>
        </p:spPr>
        <p:txBody>
          <a:bodyPr anchor="t">
            <a:normAutofit/>
          </a:bodyPr>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18ab3"/>
                </a:solidFill>
                <a:latin typeface="Trebuchet MS"/>
              </a:rPr>
              <a:t>Vraag 5</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700" spc="-1" strike="noStrike">
                <a:solidFill>
                  <a:srgbClr val="418ab3"/>
                </a:solidFill>
                <a:latin typeface="Trebuchet MS"/>
              </a:rPr>
              <a:t>Hebben jouw ouders afspraken met je gemaakt over privégegevens op internet?</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A Ja, maar ik houd me er niet aa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B Ja, en ik weet ook waarom ze die regels hebbe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C Nee, daar hebben mijn ouders nooit met mij over gepraat</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D Nee, want mijn ouders weten niets van internet af</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5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5</a:t>
            </a:r>
            <a:endParaRPr b="0" lang="en-US" sz="3600" spc="-1" strike="noStrike">
              <a:solidFill>
                <a:srgbClr val="418ab3"/>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atuurlijk weten veel ouders niet alles af van internet, maar je kunt het hen wel uitleggen. Doe je dat wel eens?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s jij vader of moeder bent geworden, wat zou jij dan belangrijk vinden om met je kinderen over internetgebruik af te spreken? </a:t>
            </a:r>
            <a:endParaRPr b="0" lang="en-US" sz="1800" spc="-1" strike="noStrike">
              <a:solidFill>
                <a:srgbClr val="404040"/>
              </a:solidFill>
              <a:latin typeface="Trebuchet MS"/>
            </a:endParaRPr>
          </a:p>
        </p:txBody>
      </p:sp>
      <p:pic>
        <p:nvPicPr>
          <p:cNvPr id="25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6</a:t>
            </a:r>
            <a:endParaRPr b="0" lang="en-US" sz="3600" spc="-1" strike="noStrike">
              <a:solidFill>
                <a:srgbClr val="418ab3"/>
              </a:solidFill>
              <a:latin typeface="Trebuchet MS"/>
            </a:endParaRPr>
          </a:p>
        </p:txBody>
      </p:sp>
      <p:sp>
        <p:nvSpPr>
          <p:cNvPr id="26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6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gehoord dat iemand teveel privégegevens op internet had achtergelaten?</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ik ken een ander kind dat er problemen mee heeft gehad</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ik ken geen ander kind dat er problemen mee heeft gehad</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6: </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eestal horen kinderen meer over hun problemen van andere kinderen. Kinderen vinden het soms moeilijk om met hun ouders hierover te praten. Waarom zou dat zo zijn, denk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Vind jij het belangrijk dat kinderen aan hun ouders vertellen als er iets vervelends op internet is gebeur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zouden ouders moeten reageren, vind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4" name="Picture 3" descr="C:\Users\Bamber\AppData\Local\Microsoft\Windows\Temporary Internet Files\Content.Outlook\4JX05CV0\alleen tekst (2).png"/>
          <p:cNvPicPr/>
          <p:nvPr/>
        </p:nvPicPr>
        <p:blipFill>
          <a:blip r:embed="rId1"/>
          <a:stretch/>
        </p:blipFill>
        <p:spPr>
          <a:xfrm>
            <a:off x="3348000" y="5013360"/>
            <a:ext cx="531828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7</a:t>
            </a:r>
            <a:endParaRPr b="0" lang="en-US" sz="3600" spc="-1" strike="noStrike">
              <a:solidFill>
                <a:srgbClr val="418ab3"/>
              </a:solidFill>
              <a:latin typeface="Trebuchet MS"/>
            </a:endParaRPr>
          </a:p>
        </p:txBody>
      </p:sp>
      <p:sp>
        <p:nvSpPr>
          <p:cNvPr id="266" name=""/>
          <p:cNvSpPr txBox="1"/>
          <p:nvPr/>
        </p:nvSpPr>
        <p:spPr>
          <a:xfrm>
            <a:off x="609120" y="2160360"/>
            <a:ext cx="6348600" cy="3881160"/>
          </a:xfrm>
          <a:prstGeom prst="rect">
            <a:avLst/>
          </a:prstGeom>
          <a:noFill/>
          <a:ln w="0">
            <a:noFill/>
          </a:ln>
        </p:spPr>
        <p:txBody>
          <a:bodyPr anchor="t">
            <a:normAutofit fontScale="99000"/>
          </a:bodyPr>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7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een onbekend of afgeschermd nummer op jouw mobieltje gezien? (b.v. in Whatsapp of als je wordt gebeld of een berichtje krijgt)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heb geen mobieltje</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ik heb een mobieltje) maar ik weet wie dat onbekende/afgeschermde nummer heeft</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ik heb een mobieltje) en ik weet ook hoe je anoniem met je mobieltje kunt bellen</a:t>
            </a:r>
            <a:endParaRPr b="0" lang="en-US" sz="1800" spc="-1" strike="noStrike">
              <a:solidFill>
                <a:srgbClr val="404040"/>
              </a:solidFill>
              <a:latin typeface="Trebuchet MS"/>
            </a:endParaRPr>
          </a:p>
        </p:txBody>
      </p:sp>
      <p:pic>
        <p:nvPicPr>
          <p:cNvPr id="26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7</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oms zie je een nummer dat je niet kent (anoniem of geblokkeerd) en is afgescherm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b je het wel eens meegemaakt dat je niet weet wie achter een nummer zit, b.v. via Whatsapp?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Ken je trouwens al je online vrienden ook in het ech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0" name="Picture 3" descr="C:\Users\Bamber\AppData\Local\Microsoft\Windows\Temporary Internet Files\Content.Outlook\4JX05CV0\alleen tekst (2).png"/>
          <p:cNvPicPr/>
          <p:nvPr/>
        </p:nvPicPr>
        <p:blipFill>
          <a:blip r:embed="rId1"/>
          <a:stretch/>
        </p:blipFill>
        <p:spPr>
          <a:xfrm>
            <a:off x="3564000" y="49417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8 </a:t>
            </a:r>
            <a:endParaRPr b="0" lang="en-US" sz="3600" spc="-1" strike="noStrike">
              <a:solidFill>
                <a:srgbClr val="418ab3"/>
              </a:solidFill>
              <a:latin typeface="Trebuchet MS"/>
            </a:endParaRPr>
          </a:p>
        </p:txBody>
      </p:sp>
      <p:sp>
        <p:nvSpPr>
          <p:cNvPr id="27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8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in een game éérst jouw privégegevens moeten geven voordat je het kon spelen?</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game nie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maar dat heb ik niet gedaa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maar ik heb niet alles gegeven</a:t>
            </a:r>
            <a:endParaRPr b="0" lang="en-US" sz="1800" spc="-1" strike="noStrike">
              <a:solidFill>
                <a:srgbClr val="404040"/>
              </a:solidFill>
              <a:latin typeface="Trebuchet MS"/>
            </a:endParaRPr>
          </a:p>
        </p:txBody>
      </p:sp>
      <p:pic>
        <p:nvPicPr>
          <p:cNvPr id="27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ff tellen </a:t>
            </a:r>
            <a:endParaRPr b="0" lang="en-US" sz="3600" spc="-1" strike="noStrike">
              <a:solidFill>
                <a:srgbClr val="418ab3"/>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ie doet wa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acebook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ame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kyp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napch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inecraf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witt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YouTube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hatsapp</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stagram</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interes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En nog veel me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1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pic>
        <p:nvPicPr>
          <p:cNvPr id="220" name="Picture 6" descr=""/>
          <p:cNvPicPr/>
          <p:nvPr/>
        </p:nvPicPr>
        <p:blipFill>
          <a:blip r:embed="rId2"/>
          <a:stretch/>
        </p:blipFill>
        <p:spPr>
          <a:xfrm>
            <a:off x="2843280" y="3162240"/>
            <a:ext cx="3736800" cy="371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8</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teeds vaker zijn games gratis. Of games zijn eerst gratis waarna je (b.v. bij een nieuw level) moet betal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arom zou een game gratis zijn, denk je?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6" name="Picture 3" descr="C:\Users\Bamber\AppData\Local\Microsoft\Windows\Temporary Internet Files\Content.Outlook\4JX05CV0\alleen tekst (2).png"/>
          <p:cNvPicPr/>
          <p:nvPr/>
        </p:nvPicPr>
        <p:blipFill>
          <a:blip r:embed="rId1"/>
          <a:stretch/>
        </p:blipFill>
        <p:spPr>
          <a:xfrm>
            <a:off x="3765600" y="501336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9 </a:t>
            </a:r>
            <a:endParaRPr b="0" lang="en-US" sz="3600" spc="-1" strike="noStrike">
              <a:solidFill>
                <a:srgbClr val="418ab3"/>
              </a:solidFill>
              <a:latin typeface="Trebuchet MS"/>
            </a:endParaRPr>
          </a:p>
        </p:txBody>
      </p:sp>
      <p:sp>
        <p:nvSpPr>
          <p:cNvPr id="278"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9</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is volgens jou de beste tip om de baas te blijven over jouw privégegevens?</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Ik heb geen ide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Dat je altijd op moet letten vóórdat je jouw privégegevens geeft</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Dat je soms iets moet verzinnen wat er wordt gevraagd</a:t>
            </a:r>
            <a:endParaRPr b="0" lang="en-US" sz="1800" spc="-1" strike="noStrike">
              <a:solidFill>
                <a:srgbClr val="404040"/>
              </a:solidFill>
              <a:latin typeface="Trebuchet MS"/>
            </a:endParaRPr>
          </a:p>
        </p:txBody>
      </p:sp>
      <p:pic>
        <p:nvPicPr>
          <p:cNvPr id="27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9 </a:t>
            </a:r>
            <a:endParaRPr b="0" lang="en-US" sz="3600" spc="-1" strike="noStrike">
              <a:solidFill>
                <a:srgbClr val="418ab3"/>
              </a:solidFill>
              <a:latin typeface="Trebuchet MS"/>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 en C zijn goe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ns advies is om nooit meteen alles in te vullen, maar de tijd te nemen voor je iets invult. Bespreek het b.v. eerst eens met jouw ouders of met andere kinderen. </a:t>
            </a:r>
            <a:endParaRPr b="0" lang="en-US" sz="1800" spc="-1" strike="noStrike">
              <a:solidFill>
                <a:srgbClr val="404040"/>
              </a:solidFill>
              <a:latin typeface="Trebuchet MS"/>
            </a:endParaRPr>
          </a:p>
        </p:txBody>
      </p:sp>
      <p:pic>
        <p:nvPicPr>
          <p:cNvPr id="28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10 </a:t>
            </a:r>
            <a:endParaRPr b="0" lang="en-US" sz="3600" spc="-1" strike="noStrike">
              <a:solidFill>
                <a:srgbClr val="418ab3"/>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10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elke tip zou jij jouw ouders willen geven om voorzichtig te zijn met privégegevens op interne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Geef nooit het huisadres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Verzin altijd een nicknam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Geef nooit jouw leeftijd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D Zet nooit foto’s op internet</a:t>
            </a:r>
            <a:endParaRPr b="0" lang="en-US" sz="1800" spc="-1" strike="noStrike">
              <a:solidFill>
                <a:srgbClr val="404040"/>
              </a:solidFill>
              <a:latin typeface="Trebuchet MS"/>
            </a:endParaRPr>
          </a:p>
        </p:txBody>
      </p:sp>
      <p:pic>
        <p:nvPicPr>
          <p:cNvPr id="28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0 </a:t>
            </a:r>
            <a:endParaRPr b="0" lang="en-US" sz="3600" spc="-1" strike="noStrike">
              <a:solidFill>
                <a:srgbClr val="418ab3"/>
              </a:solidFill>
              <a:latin typeface="Trebuchet MS"/>
            </a:endParaRPr>
          </a:p>
        </p:txBody>
      </p:sp>
      <p:sp>
        <p:nvSpPr>
          <p:cNvPr id="28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uders hebben de hulp nodig van hun kinderen. Vaak weten ze niet wat kinderen op internet doen en leuk vi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lp je ouders dus! </a:t>
            </a:r>
            <a:endParaRPr b="0" lang="en-US" sz="1800" spc="-1" strike="noStrike">
              <a:solidFill>
                <a:srgbClr val="404040"/>
              </a:solidFill>
              <a:latin typeface="Trebuchet MS"/>
            </a:endParaRPr>
          </a:p>
        </p:txBody>
      </p:sp>
      <p:pic>
        <p:nvPicPr>
          <p:cNvPr id="28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volgende 3 lessen </a:t>
            </a:r>
            <a:endParaRPr b="0" lang="en-US" sz="3600" spc="-1" strike="noStrike">
              <a:solidFill>
                <a:srgbClr val="418ab3"/>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erviews met kinderen (les 2)</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ips voor online privacy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uiswerk </a:t>
            </a:r>
            <a:r>
              <a:rPr b="0" i="1" lang="en-US" sz="1800" spc="-1" strike="noStrike">
                <a:solidFill>
                  <a:srgbClr val="404040"/>
                </a:solidFill>
                <a:latin typeface="Trebuchet MS"/>
              </a:rPr>
              <a:t>met </a:t>
            </a:r>
            <a:r>
              <a:rPr b="0" lang="en-US" sz="1800" spc="-1" strike="noStrike">
                <a:solidFill>
                  <a:srgbClr val="404040"/>
                </a:solidFill>
                <a:latin typeface="Trebuchet MS"/>
              </a:rPr>
              <a:t>de ouders (5 problemen van kinderen die je moet gaan oplossen, les 3)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Vertel het door: maak posters of power points voor andere kinderen (les 4)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Picture 3" descr="C:\Users\Bamber\AppData\Local\Microsoft\Windows\Temporary Internet Files\Content.Outlook\4JX05CV0\alleen tekst (2).png"/>
          <p:cNvPicPr/>
          <p:nvPr/>
        </p:nvPicPr>
        <p:blipFill>
          <a:blip r:embed="rId1"/>
          <a:stretch/>
        </p:blipFill>
        <p:spPr>
          <a:xfrm>
            <a:off x="6000840" y="5643720"/>
            <a:ext cx="2603520" cy="78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EXTRA! </a:t>
            </a:r>
            <a:endParaRPr b="0" lang="en-US" sz="3600" spc="-1" strike="noStrike">
              <a:solidFill>
                <a:srgbClr val="418ab3"/>
              </a:solidFill>
              <a:latin typeface="Trebuchet MS"/>
            </a:endParaRPr>
          </a:p>
        </p:txBody>
      </p:sp>
      <p:sp>
        <p:nvSpPr>
          <p:cNvPr id="29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e kunt nog meer te weten komen over social media!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lie klas kan nog extra opdrachten do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Whatsapp!</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Snapchat!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Instagram!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ij bent leuk genoeg, Like jezelf!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ocial Media Stress… speel het Ik Ben Offline ganzenbordspel!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4" name="Picture 4" descr=""/>
          <p:cNvPicPr/>
          <p:nvPr/>
        </p:nvPicPr>
        <p:blipFill>
          <a:blip r:embed="rId1"/>
          <a:stretch/>
        </p:blipFill>
        <p:spPr>
          <a:xfrm>
            <a:off x="6189840" y="4660920"/>
            <a:ext cx="2930400" cy="219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whatsapp! </a:t>
            </a:r>
            <a:endParaRPr b="0" lang="en-US" sz="3600" spc="-1" strike="noStrike">
              <a:solidFill>
                <a:srgbClr val="418ab3"/>
              </a:solidFill>
              <a:latin typeface="Trebuchet MS"/>
            </a:endParaRPr>
          </a:p>
        </p:txBody>
      </p:sp>
      <p:sp>
        <p:nvSpPr>
          <p:cNvPr id="296" name=""/>
          <p:cNvSpPr txBox="1"/>
          <p:nvPr/>
        </p:nvSpPr>
        <p:spPr>
          <a:xfrm>
            <a:off x="755280" y="2133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LKRvCecxZa4</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297" name="Picture 4" descr=""/>
          <p:cNvPicPr/>
          <p:nvPr/>
        </p:nvPicPr>
        <p:blipFill>
          <a:blip r:embed="rId1"/>
          <a:stretch/>
        </p:blipFill>
        <p:spPr>
          <a:xfrm>
            <a:off x="3789360" y="4437000"/>
            <a:ext cx="1943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Snapchat! </a:t>
            </a:r>
            <a:endParaRPr b="0" lang="en-US" sz="3600" spc="-1" strike="noStrike">
              <a:solidFill>
                <a:srgbClr val="418ab3"/>
              </a:solidFill>
              <a:latin typeface="Trebuchet MS"/>
            </a:endParaRPr>
          </a:p>
        </p:txBody>
      </p:sp>
      <p:sp>
        <p:nvSpPr>
          <p:cNvPr id="299"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o-hg06gK8Dg</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0" name="Afbeelding 3" descr=""/>
          <p:cNvPicPr/>
          <p:nvPr/>
        </p:nvPicPr>
        <p:blipFill>
          <a:blip r:embed="rId1"/>
          <a:stretch/>
        </p:blipFill>
        <p:spPr>
          <a:xfrm>
            <a:off x="2627280" y="4816440"/>
            <a:ext cx="2987640" cy="167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Instagram! </a:t>
            </a:r>
            <a:endParaRPr b="0" lang="en-US" sz="3600" spc="-1" strike="noStrike">
              <a:solidFill>
                <a:srgbClr val="418ab3"/>
              </a:solidFill>
              <a:latin typeface="Trebuchet MS"/>
            </a:endParaRPr>
          </a:p>
        </p:txBody>
      </p:sp>
      <p:sp>
        <p:nvSpPr>
          <p:cNvPr id="302"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SMJOqo5w35E</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3" name="Picture 2" descr=""/>
          <p:cNvPicPr/>
          <p:nvPr/>
        </p:nvPicPr>
        <p:blipFill>
          <a:blip r:embed="rId1"/>
          <a:stretch/>
        </p:blipFill>
        <p:spPr>
          <a:xfrm>
            <a:off x="1979640" y="4338720"/>
            <a:ext cx="3870360" cy="25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Wat is privacy eigenlijk? </a:t>
            </a:r>
            <a:endParaRPr b="0" lang="en-US" sz="3600" spc="-1" strike="noStrike">
              <a:solidFill>
                <a:srgbClr val="418ab3"/>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naam en jouw adres</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schoenma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foto’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wachtwoord</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Het account van jouw vriend/vriendi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oto’s van jouw vriend/vriendi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e ouders die iets over jou post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eigen post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mobiele 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ullie vaste telefoon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accoun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inlog van een app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les wat jij online bekijkt (jouw online geschiedeni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23" name="Picture 3" descr="C:\Users\Bamber\AppData\Local\Microsoft\Windows\Temporary Internet Files\Content.Outlook\4JX05CV0\alleen tekst (2).png"/>
          <p:cNvPicPr/>
          <p:nvPr/>
        </p:nvPicPr>
        <p:blipFill>
          <a:blip r:embed="rId1"/>
          <a:stretch/>
        </p:blipFill>
        <p:spPr>
          <a:xfrm>
            <a:off x="6286680" y="5643720"/>
            <a:ext cx="2031840" cy="610920"/>
          </a:xfrm>
          <a:prstGeom prst="rect">
            <a:avLst/>
          </a:prstGeom>
          <a:ln w="0">
            <a:noFill/>
          </a:ln>
        </p:spPr>
      </p:pic>
      <p:pic>
        <p:nvPicPr>
          <p:cNvPr id="224" name="Picture 5" descr=""/>
          <p:cNvPicPr/>
          <p:nvPr/>
        </p:nvPicPr>
        <p:blipFill>
          <a:blip r:embed="rId2"/>
          <a:stretch/>
        </p:blipFill>
        <p:spPr>
          <a:xfrm>
            <a:off x="4211640" y="2276640"/>
            <a:ext cx="2936880" cy="29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Jij bent leuk genoeg</a:t>
            </a:r>
            <a:br>
              <a:rPr sz="3600"/>
            </a:br>
            <a:r>
              <a:rPr b="0" lang="nl-NL" sz="3600" spc="-1" strike="noStrike">
                <a:solidFill>
                  <a:srgbClr val="418ab3"/>
                </a:solidFill>
                <a:latin typeface="Trebuchet MS"/>
              </a:rPr>
              <a:t>Like jezelf! </a:t>
            </a:r>
            <a:endParaRPr b="0" lang="en-US" sz="3600" spc="-1" strike="noStrike">
              <a:solidFill>
                <a:srgbClr val="418ab3"/>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logger Rutger Vink heeft er een clip van gemaakt… kijk er eens naar.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ttps://www.youtube.com/watch?v=RWsfXEqZTGM</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at vind jij, hoe zit dat nou met het liken of disliken in jullie groep?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ven jullie elkaar complimenten of wordt er weleens online gepest?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3419640" y="5229360"/>
            <a:ext cx="2857320" cy="160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Ben je nog wel eens offline?</a:t>
            </a:r>
            <a:endParaRPr b="0" lang="en-US" sz="3600" spc="-1" strike="noStrike">
              <a:solidFill>
                <a:srgbClr val="418ab3"/>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fontScale="93000"/>
          </a:bodyPr>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teeds vaker vinden mensen het ingewikkeld om niet op hun smartphone te kijken. We hebben een speciaal ganzenbordspel hiervan van gemaakt.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Kijk op www.ikbenoffline.nl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n speel het spel! Op de website staat alles wat je nodig hebt, al scheelt het als je een paar dobbelstenen ergens vandaan kunt halen want die rollen beter dan die van de website…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el plezier!  </a:t>
            </a:r>
            <a:endParaRPr b="0" lang="en-US" sz="1800" spc="-1" strike="noStrike">
              <a:solidFill>
                <a:srgbClr val="404040"/>
              </a:solidFill>
              <a:latin typeface="Trebuchet MS"/>
            </a:endParaRPr>
          </a:p>
        </p:txBody>
      </p:sp>
      <p:pic>
        <p:nvPicPr>
          <p:cNvPr id="309" name="Picture 6" descr=""/>
          <p:cNvPicPr/>
          <p:nvPr/>
        </p:nvPicPr>
        <p:blipFill>
          <a:blip r:embed="rId1"/>
          <a:stretch/>
        </p:blipFill>
        <p:spPr>
          <a:xfrm>
            <a:off x="7029360" y="0"/>
            <a:ext cx="2114640" cy="298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e weblinks! </a:t>
            </a:r>
            <a:endParaRPr b="0" lang="en-US" sz="3600" spc="-1" strike="noStrike">
              <a:solidFill>
                <a:srgbClr val="418ab3"/>
              </a:solidFill>
              <a:latin typeface="Trebuchet MS"/>
            </a:endParaRPr>
          </a:p>
        </p:txBody>
      </p:sp>
      <p:sp>
        <p:nvSpPr>
          <p:cNvPr id="311" name=""/>
          <p:cNvSpPr txBox="1"/>
          <p:nvPr/>
        </p:nvSpPr>
        <p:spPr>
          <a:xfrm>
            <a:off x="609120" y="2160360"/>
            <a:ext cx="6348600" cy="3881160"/>
          </a:xfrm>
          <a:prstGeom prst="rect">
            <a:avLst/>
          </a:prstGeom>
          <a:noFill/>
          <a:ln w="0">
            <a:noFill/>
          </a:ln>
        </p:spPr>
        <p:txBody>
          <a:bodyPr anchor="t">
            <a:normAutofit fontScale="96000"/>
          </a:bodyPr>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kindertelefoon.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pestweb.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elpwanted.nl</a:t>
            </a:r>
            <a:r>
              <a:rPr b="0" lang="nl-NL" sz="1600" spc="-1" strike="noStrike">
                <a:solidFill>
                  <a:srgbClr val="40404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Tips over veilig internetgebruik</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eldknop.nl </a:t>
            </a:r>
            <a:r>
              <a:rPr b="0" lang="nl-NL" sz="1600" spc="-1" strike="noStrike">
                <a:solidFill>
                  <a:srgbClr val="b96d0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Als je hulp zoekt</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buddy.cartoonnetwork.nl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Cartoon Network over pesten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Alle privacy-instellingen op social media: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ijnonlineidentiteit.nl/Categorie/social-media</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Maak jouw smartphone boef-proof: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ier-waak-ik.nl/boefproof</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pic>
        <p:nvPicPr>
          <p:cNvPr id="31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Databaas quiz! </a:t>
            </a:r>
            <a:endParaRPr b="0" lang="en-US" sz="3600" spc="-1" strike="noStrike">
              <a:solidFill>
                <a:srgbClr val="418ab3"/>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vragen, zie in jouw werkschrif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zelf en dan met elkaar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Let op;  er kunnen meerdere antwoorden goed zij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Zet ‘m op!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Tijdelijke aanduiding voor inhoud 2"/>
          <p:cNvSpPr/>
          <p:nvPr/>
        </p:nvSpPr>
        <p:spPr>
          <a:xfrm>
            <a:off x="285840" y="1571760"/>
            <a:ext cx="8553240" cy="46004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499680"/>
            <a:ext cx="6800760" cy="91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418ab3"/>
              </a:solidFill>
              <a:latin typeface="Trebuchet MS"/>
            </a:endParaRPr>
          </a:p>
        </p:txBody>
      </p:sp>
      <p:sp>
        <p:nvSpPr>
          <p:cNvPr id="23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1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laat je privégegevens op internet achter?</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op internet iets bekijkt maar verder niets doet of invul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formulier invult voor een internetprijsvraag</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je een email adres aanmaakt </a:t>
            </a:r>
            <a:endParaRPr b="0" lang="en-US" sz="1800" spc="-1" strike="noStrike">
              <a:solidFill>
                <a:srgbClr val="404040"/>
              </a:solidFill>
              <a:latin typeface="Trebuchet MS"/>
            </a:endParaRPr>
          </a:p>
        </p:txBody>
      </p:sp>
      <p:pic>
        <p:nvPicPr>
          <p:cNvPr id="23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a:t>
            </a:r>
            <a:endParaRPr b="0" lang="en-US" sz="3600" spc="-1" strike="noStrike">
              <a:solidFill>
                <a:srgbClr val="418ab3"/>
              </a:solidFill>
              <a:latin typeface="Trebuchet MS"/>
            </a:endParaRPr>
          </a:p>
        </p:txBody>
      </p:sp>
      <p:sp>
        <p:nvSpPr>
          <p:cNvPr id="233" name=""/>
          <p:cNvSpPr txBox="1"/>
          <p:nvPr/>
        </p:nvSpPr>
        <p:spPr>
          <a:xfrm>
            <a:off x="609120" y="2160360"/>
            <a:ext cx="6348600" cy="3881160"/>
          </a:xfrm>
          <a:prstGeom prst="rect">
            <a:avLst/>
          </a:prstGeom>
          <a:noFill/>
          <a:ln w="0">
            <a:noFill/>
          </a:ln>
        </p:spPr>
        <p:txBody>
          <a:bodyPr anchor="t">
            <a:normAutofit fontScale="99000"/>
          </a:bodyPr>
          <a:p>
            <a:pPr marL="339480" indent="-339480">
              <a:lnSpc>
                <a:spcPct val="9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igenlijk kun je altijd privacy gegevens achterlaten. Dus alle antwoorden zijn goed, wan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A: Alles wat je op internet doet wordt meestal bewaard: kijk maar eens in jouw online geschiedenis en of je cookies hebt aangeze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B. Juist als je iets invult voor b.v. een internetprijsvraag wordern er allerlei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 Juist bij het aanmaken van b.v. een email adres maar ook een Facebook pagina worden jouw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p:txBody>
      </p:sp>
      <p:pic>
        <p:nvPicPr>
          <p:cNvPr id="234" name="Picture 3" descr="C:\Users\Bamber\AppData\Local\Microsoft\Windows\Temporary Internet Files\Content.Outlook\4JX05CV0\alleen tekst (2).png"/>
          <p:cNvPicPr/>
          <p:nvPr/>
        </p:nvPicPr>
        <p:blipFill>
          <a:blip r:embed="rId1"/>
          <a:stretch/>
        </p:blipFill>
        <p:spPr>
          <a:xfrm>
            <a:off x="6875640" y="5757840"/>
            <a:ext cx="1719000" cy="5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2</a:t>
            </a:r>
            <a:endParaRPr b="0" lang="en-US" sz="3600" spc="-1" strike="noStrike">
              <a:solidFill>
                <a:srgbClr val="418ab3"/>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2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zijn eigenlijk privégegevens?</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een e-mailadres verzin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nickname verzin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Een nickname met jouw eigen voor- en achternaam erin </a:t>
            </a:r>
            <a:endParaRPr b="0" lang="en-US" sz="1800" spc="-1" strike="noStrike">
              <a:solidFill>
                <a:srgbClr val="404040"/>
              </a:solidFill>
              <a:latin typeface="Trebuchet MS"/>
            </a:endParaRPr>
          </a:p>
        </p:txBody>
      </p:sp>
      <p:pic>
        <p:nvPicPr>
          <p:cNvPr id="23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2 </a:t>
            </a:r>
            <a:endParaRPr b="0" lang="en-US" sz="3600" spc="-1" strike="noStrike">
              <a:solidFill>
                <a:srgbClr val="418ab3"/>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c is goed! Als je iets verzint, is het niet privé. Maar als je jouw echte voor- en achternaam vermeldt, gaat het om jou: dus privé. </a:t>
            </a:r>
            <a:endParaRPr b="0" lang="en-US" sz="1800" spc="-1" strike="noStrike">
              <a:solidFill>
                <a:srgbClr val="404040"/>
              </a:solidFill>
              <a:latin typeface="Trebuchet MS"/>
            </a:endParaRPr>
          </a:p>
        </p:txBody>
      </p:sp>
      <p:pic>
        <p:nvPicPr>
          <p:cNvPr id="240"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3</a:t>
            </a:r>
            <a:endParaRPr b="0" lang="en-US" sz="3600" spc="-1" strike="noStrike">
              <a:solidFill>
                <a:srgbClr val="418ab3"/>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3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ul jij alles in wat er op internet aan jou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omdat het nu eenmaal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omdat ik niet weet wat er met die gegevens gebeurt</a:t>
            </a:r>
            <a:endParaRPr b="0" lang="en-US" sz="1800" spc="-1" strike="noStrike">
              <a:solidFill>
                <a:srgbClr val="404040"/>
              </a:solidFill>
              <a:latin typeface="Trebuchet MS"/>
            </a:endParaRPr>
          </a:p>
        </p:txBody>
      </p:sp>
      <p:pic>
        <p:nvPicPr>
          <p:cNvPr id="24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9:01:20Z</dcterms:created>
  <dc:creator>Bamber</dc:creator>
  <dc:description/>
  <dc:language>en-US</dc:language>
  <cp:lastModifiedBy>Bamber</cp:lastModifiedBy>
  <dcterms:modified xsi:type="dcterms:W3CDTF">2015-04-20T17:24:08Z</dcterms:modified>
  <cp:revision>23</cp:revision>
  <dc:subject/>
  <dc:title>Ben jij je eigen databaas?</dc:title>
</cp:coreProperties>
</file>