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D20D-D6CE-4AFC-8EBD-2D916CD2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75C2-7D34-4EC1-B2F6-DFD8D4E6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2A71-BEB1-4C20-BF7E-7D10716E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7B70-1B0A-4DA1-9DE7-112BB459B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2A22-7225-4701-8E76-804BFE0D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5665-7B9F-4C1B-BAFD-47369F73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0B95-F40C-460F-BDC6-98A90E0D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5F9D-F8F9-48A3-9BEF-B85BE50C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4F8A-89E0-49A2-8A1C-9A2E9D52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A3F1-AF1A-4055-A6F0-5313A7D1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16A1-FF53-436B-92F5-7C939C31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1E66-6F04-4BC9-8263-56C78008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A36E-8D60-426C-A780-9E4A7048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01E8-160D-4B7B-BDF8-9B42A810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0757-CC31-4769-B14C-0FD0B893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8EF9-47D2-45EA-B710-2FADE849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F42C-3D22-4ADF-8568-3F5695548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910CC-0C5B-4BD3-AD31-DD2E5F04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6638F-92CC-4DDA-AE92-23529567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CE2B6-26B4-4BF4-801A-C0125A99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4B815-7033-479C-BE13-87E3E99F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0DBA9-2B48-45D4-B080-F215246D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A959-F3A5-40E3-95F3-DEDA9804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C1CFC-BEB3-4515-83A3-90965501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5EFE8-BF11-427C-873A-4834FFC5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2AB58-93FC-4E96-A3C7-FA35306D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F69B1-CC35-4BC0-A817-937A0A02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40E59-03C1-45D0-9833-E219C801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81F85-0738-42A2-8674-10C125C7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22EC2-6E59-4D6C-9DC3-C453F431A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859D9-EF9B-4B6E-9CF9-A5D9D18A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87D9A-788D-4453-9B9E-62270718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CF78F-E327-473D-A50B-16BA6A77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7A04-ADB8-40BC-A95E-D19CE399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7F78C-9A24-4F36-AB16-1FE4111A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E049C-DAE2-4BF5-A6BB-6F0F43DE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6BC51-4913-45F6-A735-98A41F9A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4BC0E-0203-4A51-B4A1-92FCBE31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A84CA-8B55-49B8-8AAB-86789165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3F668-C778-4709-9117-CF105E2C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5F691-A62A-4960-A65B-D9372139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C3E80-F8B0-4612-B5B4-FE0957C7D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26311-4B3D-47B1-833F-1949BF6B9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23385-D0E3-4AF1-94F7-67FA3B8C1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126E-A7EB-4DA9-BC31-F3954A7E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11280-C082-448B-B7A3-007A13A4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1C582-B886-4876-BB59-85702CD0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EE8B4-1E31-4D0E-82E5-95970DFA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E6529-707A-46CB-8F3B-58CE533C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2709F-0A1F-467F-A602-6B988515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AD24E-C1D0-4870-855A-0BEEB0E1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43A91-3B8E-4569-B601-2E3C64FF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E7F29-6A0A-4EFE-80CD-D1F16693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CF504-2AD1-4660-A1F0-150BF4B5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5C857-E0A3-470F-9923-D48AD7CE8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B7E3-A7F7-4A10-A561-636B4EED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3A13D-6CA5-4B9D-84A8-A2A7C517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74D12-309C-4B58-B81D-4EB7BEBB7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7092A-E49F-4789-A776-3469B5B1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92412-8D7F-43CD-8251-9ABD05D3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467BF-768B-4F95-9E14-0695DD48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D286D-9ECF-411F-B06D-622DE8EC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C4E07-4FF5-4765-95A2-C14CF68F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4E485-1AA0-4E8F-93AD-F744215F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96B42-A196-4AF2-B71A-A244BBF6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D977C-602B-4147-AEDF-397329AD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2243-A963-475A-9805-32476597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AD263-4D6E-4C1A-9057-6E54D181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16177-7AD0-4FE6-BAB0-E90BF9BC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9EF65-A37A-43FE-A0B6-54845DAAF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9059C-AB55-4B81-A960-6605967F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85B07-7619-4898-8465-1934F857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46BB7-A910-446C-B308-9C021DB6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F51CC-0F06-406F-AF24-6264C06D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425D4-DE54-4732-B86A-DA3AEC8C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916FF-B56A-428A-B8F7-0B21245D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9343F-DD53-48BD-A4DB-093BCCD0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85CB-E5CD-4490-AC04-84CA13FA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BF011-4723-4C00-AC7C-0A4AE784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CA9B6-E26C-4317-A124-1641D045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A02BA-0FEF-4392-973A-FAD21B9B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0F2B6-4C8F-4408-9C94-5E386991A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EDBE9-7D94-41B0-A373-503FCD62A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ACE8-5BDD-4C58-B781-A608D0A0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A3B6-4350-4D22-BA16-CD3FCF274633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BDC3-D04C-4175-9A08-4101B74AEC9A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CE5F-8C03-4B40-9A82-921083CEA364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334A-FCF6-4414-850D-1041608EFE65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CC28-DDB2-469B-8818-2EF550A64508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55C7-A34B-4655-8376-9CA372D55FA8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23E2-D1D3-442D-9B6A-423515029644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fh9oCYdMsz8" TargetMode="External"/><Relationship Id="rId2" Type="http://schemas.openxmlformats.org/officeDocument/2006/relationships/hyperlink" Target="http://www.youtube.com/watch?v=Il7wZ3qpt3c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entle Teach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19" name="Content Placeholder 5" descr="gentle.jpg"/>
          <p:cNvPicPr/>
          <p:nvPr/>
        </p:nvPicPr>
        <p:blipFill>
          <a:blip r:embed="rId1"/>
          <a:stretch/>
        </p:blipFill>
        <p:spPr>
          <a:xfrm>
            <a:off x="1547640" y="1700280"/>
            <a:ext cx="51850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e profession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Geeft de ander wat hij/zij nodig heeft: persoonlijke betrokkenheid, liefde, veiligheid en deskundige hul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Maakt contact met de ander van hart tot hart en handelt op basis van inzicht, kennis en ervar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Voelt te onmacht en het lijden van de ander en zet deze emotie om in actie om hem/haar te help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Bewaakt de eigen grenzen die van de and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Is ook liefdevol voor zichzelf en de collega'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Vertrouwt op de eigen innerlijke kracht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YouTube vide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www.youtube.com/watch?v=fh9oCYdMsz8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http://www.youtube.com/watch?v=Il7wZ3qpt3c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oorbeelde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de praktijk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zien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e toepassen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620280"/>
            <a:ext cx="7499520" cy="562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umanistische psychologi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ntle Teach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Tube vide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oorbeeld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umanistische Psychologi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Subjectiviteit centraal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Eigen bewustzijn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Proces en groei (ontwikkeling)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Zelf verantwoordelijk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Hier en nu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Bevrijden van belemmeringen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John McGe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5" name="Content Placeholder 3" descr="john.jpg"/>
          <p:cNvPicPr/>
          <p:nvPr/>
        </p:nvPicPr>
        <p:blipFill>
          <a:blip r:embed="rId1"/>
          <a:stretch/>
        </p:blipFill>
        <p:spPr>
          <a:xfrm>
            <a:off x="395280" y="1916280"/>
            <a:ext cx="4541760" cy="30254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erenigde Stat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943-201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gin jaren 9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erstandelijke beperking/ernstige gedragsproblem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entle Teach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Uitgangspunte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ompanionship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ederzijdse afhankelijkheid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Begeleidingsmiddele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De professiona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Uitgangspunten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respecteren elka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accepteren elka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proberen elkaar te begrijp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waarderen elka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geven elkaar zelfvertrouw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proberen elkaar vooruit te help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mpanionshi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eder mens verlangt naar een relatie gericht op vier pijlers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Gill Sans MT"/>
              </a:rPr>
              <a:t>Zich veilig voelen bij de an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Gill Sans MT"/>
              </a:rPr>
              <a:t>Zich geliefd voelen door de an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Gill Sans MT"/>
              </a:rPr>
              <a:t>Zich liefdevol voelen en uiten ten opzichte van de an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Gill Sans MT"/>
              </a:rPr>
              <a:t>Zich verbonden voelen met de an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ederzijdse afhankelijkhei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iet afhankelijk van gedrag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de begeleiding verstandelijk en gevoelsmatig ton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eunen wanneer de cliënt stress ervaar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egeleidingsmiddele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and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g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e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anwezighei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5T18:42:45Z</dcterms:created>
  <dc:creator>Nico</dc:creator>
  <dc:description/>
  <dc:language>en-US</dc:language>
  <cp:lastModifiedBy>Mast,C.J.</cp:lastModifiedBy>
  <dcterms:modified xsi:type="dcterms:W3CDTF">2014-05-16T07:23:26Z</dcterms:modified>
  <cp:revision>8</cp:revision>
  <dc:subject/>
  <dc:title>Gentl Teaching</dc:title>
</cp:coreProperties>
</file>