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5EF-5925-49E9-B481-C2ADB40C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D1B-79B1-4E6D-B37B-D4EBFAD5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8F4-35EB-4B8E-A52C-5380A79F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AF2-C709-4323-AF36-67A6381A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8989-C345-4215-902C-035BA6C4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5E43-9BE0-4A5F-B621-7B49253B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0305-0B9A-43F5-8A65-31CA2751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A446-0FD9-44B9-BD91-F256C11C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223E-D1C3-450F-8502-96C592C3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5351-3DA3-4666-82FF-8C9AD1A4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9AAD-F0D9-4C22-A5AF-A5388ADD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2DF-DB65-4C56-A24B-7F6A60DB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99B3-6CF3-457E-B4EC-5BAD4B30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173F-3AC3-4586-AAB5-687DA206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848D-D3F2-40FD-B663-27CBA1F7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9A73-6482-46E7-BAB5-940482B7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2C60-5EDC-4704-B5D9-6F4DA06E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16B6D-66C6-4769-BA85-3C639555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E869E-7EF4-47E3-A9DC-76A711CF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85421-30DE-4EFE-9BB4-5E970D94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109CB-06DB-49F1-8409-147E4D3C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6EC4A-C87D-452F-8985-C3A16723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3A0-10C8-49F3-9A90-454E1502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3C2D-0248-4CF6-954E-749987D9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D078E-FBD0-4B99-BDC5-C73E2BB0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E9729-A7E2-456D-B0CF-907BE1A8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C1D57-77AC-44E8-A742-BCFC7F69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F12E2-E640-4841-8D97-C9BFA7A9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B57B4-B4EB-4235-B3EA-6DBA6D32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17B00-EF7C-43A3-91A0-03399BF1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FEA69-D811-4B74-AA59-8748498F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B2398-B0A6-48B5-BC10-F799C611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36163-93F5-49AF-8D51-A95A5DD4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95D2-D61D-4E31-85B8-CD36880F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076B9-1F14-4406-B89E-73727DBF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1D1B8-BDFA-423E-90B2-4C808033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37781-9D2B-4FC3-B285-BA572D01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A986C-9D2C-44B9-A110-644818C2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864A3-47EA-4DFB-918D-13A43CD6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7593A-00C6-4CEB-9149-01E89485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E8BB9-ED97-47E0-B39C-9B4EAAB5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FE38A-EA0D-497B-936E-5FE055DC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C120D-246E-47EF-9F47-D9BA1328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FAD7D-1E51-4E05-A700-4A0F0BE0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2FB-8C91-4F26-9055-95663129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E8015-4D73-435D-8140-0021CA7E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D3846-84AB-4770-9DBE-F6D91901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82E1B-1F86-4345-A1FD-F74F3869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C6F51-C82A-4463-BD14-B886FF98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FBF1B-FE2B-4E3D-8847-CAC3E99F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1086F-1569-423B-829C-E4F47E2C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6B929-0C5B-4A42-ABF7-650C8C5B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F9FBC-95F1-4817-9058-F4630F5C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E9D53-B5FA-43A2-BFB9-2C67D419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E7188-D134-4F39-9079-3DF4B101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E13-5037-48E3-A1FF-2C6C626A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C2241-FC9F-4E44-85E8-A504367B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B6402-1AA3-48A9-9999-A82A259E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90828-E333-41A2-93C0-9FE4616E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3DDC1-4A3F-417D-A62C-F97A6EA8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BC9A2-4FDD-4677-A6BD-D36CB641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7A70C-D4C7-4369-91A6-EAF95D02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28429-5A5B-43AF-AD79-A9D95519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FD0BD-AB98-480F-9D83-DEC12CE1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726AC-1496-43DB-9811-ED8D10E7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468B3-A1E7-4F55-9200-34B7853C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3D0-D631-4E10-85C4-8351E691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EAB98-1999-45AA-9C04-492503AF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BE4F7-9CB9-4535-8714-AC21B285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605BF-8C6D-45CC-AEA2-251E3CD0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A73D9-C7EF-43AF-8B6A-B0D7ACA9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67947-438A-4819-B7AB-730CB9A0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54747-29BF-463B-91FB-C030B547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382B6-8990-4523-AAC4-F704DC86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EF209-C2C1-4FBB-B2EB-1D655235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46C5C-35F3-44ED-A5C8-958AE6B2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C398B-C84D-47B1-8259-5FAE63C7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9C4-9AF6-4137-8B1A-EC654240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CCCBC-163A-43BC-9CA5-E78E7D1B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A7047-9FB8-41EF-8F5B-0BEAC749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E469B-5CED-4F28-8F5E-E9D80C1E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E35DA-7766-4509-B974-35623DFA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1BBF1-3240-4F31-BD53-5E04E62C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7D0-36D4-4D15-9CCC-10F27D28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7D58-BF48-4D35-B35C-C3B78695DA9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0292-45B2-48AD-A0C8-A5A14FE55CBC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18E2-E8C7-4BFD-B6A0-44F1AC03235B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C9BE-A1EE-4D83-9814-B2497CED9609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617B-6CE2-4DBF-A3EF-6CC3643793EC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EAE5-CB90-4473-A80B-BF4D589C0B7F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4694-4CA2-4198-B8B0-2E3DE62359C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h9oCYdMsz8" TargetMode="External"/><Relationship Id="rId2" Type="http://schemas.openxmlformats.org/officeDocument/2006/relationships/hyperlink" Target="http://www.youtube.com/watch?v=Il7wZ3qpt3c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Content Placeholder 5" descr="gentle.jpg"/>
          <p:cNvPicPr/>
          <p:nvPr/>
        </p:nvPicPr>
        <p:blipFill>
          <a:blip r:embed="rId1"/>
          <a:stretch/>
        </p:blipFill>
        <p:spPr>
          <a:xfrm>
            <a:off x="1547640" y="1700280"/>
            <a:ext cx="5185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 profess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Geeft de ander wat hij/zij nodig heeft: persoonlijke betrokkenheid, liefde, veiligheid en deskundige hul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Maakt contact met de ander van hart tot hart en handelt op basis van inzicht, kennis en ervar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oelt te onmacht en het lijden van de ander en zet deze emotie om in actie om hem/haar te help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ewaakt de eigen grenzen die van de an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Is ook liefdevol voor zichzelf en de collega'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trouwt op de eigen innerlijke krach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ouTube vide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youtube.com/watch?v=fh9oCYdMsz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www.youtube.com/watch?v=Il7wZ3qpt3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orbeeld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praktijk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zi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e toepass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istische psycholog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tle Tea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Tube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oorbeel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umanistische Psychologi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ubjectiviteit centraal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Eigen bewustzij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Proces en groei (ontwikkeling)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Zelf verantwoordelijk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Hier en nu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Bevrijden van belemmeringe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hn McGe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Content Placeholder 3" descr="john.jpg"/>
          <p:cNvPicPr/>
          <p:nvPr/>
        </p:nvPicPr>
        <p:blipFill>
          <a:blip r:embed="rId1"/>
          <a:stretch/>
        </p:blipFill>
        <p:spPr>
          <a:xfrm>
            <a:off x="395280" y="1916280"/>
            <a:ext cx="4541760" cy="3025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943-201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gin jaren 9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standelijke beperking/ernstige gedragsproble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itgangspunt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anionship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derzijdse afhankelijkhei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Begeleidingsmiddel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 professiona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Uitgangspunten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respec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accep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te begrij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waard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geven elkaar zelfvertrouw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vooruit te hel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mpanionshi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eder mens verlangt naar een relatie gericht op vier pijlers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ilig voelen bij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geliefd voelen door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liefdevol voelen en uiten ten opzichte van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rbonden voelen met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ederzijdse afhankelijkhei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iet afhankelijk van gedra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begeleiding verstandelijk en gevoelsmatig ton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unen wanneer de cliënt stress erva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geleidingsmiddel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n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g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anwezighe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8:42:45Z</dcterms:created>
  <dc:creator>Nico</dc:creator>
  <dc:description/>
  <dc:language>en-US</dc:language>
  <cp:lastModifiedBy>Mast,C.J.</cp:lastModifiedBy>
  <dcterms:modified xsi:type="dcterms:W3CDTF">2014-05-16T07:23:26Z</dcterms:modified>
  <cp:revision>8</cp:revision>
  <dc:subject/>
  <dc:title>Gentl Teaching</dc:title>
</cp:coreProperties>
</file>