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EF22-DDE3-4AB5-9B8D-502AAB93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EF3-3DC2-4863-B26E-2AD486A3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D7AC-0234-4255-8C42-9206BA64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07C-96A7-4E98-87DB-08EF178B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851A-64D6-4BE1-A5AF-21095384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7788-D620-4388-B735-D799E750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C010-175D-4C02-A67F-52CA7E2F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74E4-1BE4-4D97-8C6D-652CF891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53D4-1B09-42B2-81A2-8ED83A3E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5CE0-88B8-43A8-B949-E255BDFA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770F-6CF8-4E83-9694-1E2DAFEC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0789-1676-4F43-923F-16820E0A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B8DB-7195-4BF2-8B80-B41B9324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E6F4-BDA2-4829-8BD8-B4355FA6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6C1D-0E31-4246-9C67-E4405B10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E87-4E56-40CD-A491-9A252CAC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8FB5-F108-45A9-8026-E6565F3A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3DC8A-DEE5-437B-BF8B-149874E4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E0F5-B182-4F6B-93F5-CC85AFC5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B19BF-5AFF-4441-A898-28B0B662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805E8-3532-4EDF-869E-0B9AAC2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D8A6A-9859-44F3-B269-938E56F5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BB5-8B04-4EBB-A2D6-BE383721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0441-2589-4E6B-BF3A-9C3AE8B6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493C-82EF-44DD-8DEF-C1EE13B3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084E-7349-46AC-B6A7-F2F9A7D8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3520-A089-483E-8866-1F67DAFA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9E4C6-DF10-4300-B903-015752F7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288E8-F750-4328-BECB-029AA33A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0392-FA7E-4E36-B4C6-EF3017FE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2A8ED-4C63-4FD8-94A3-AC0135F8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6EA6-33AE-4425-87F2-D7164073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48555-DB21-4F6C-869C-9CDBB644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956-369F-49A2-AD09-A2898224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B18FB-3A6A-461C-BF44-18786714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20276-8389-430F-AEB7-BE87CFB1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8AF8C-22A6-4D41-BCD1-267058FF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9B3A-36B6-413A-A05E-129C9B0B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773AE-D121-45EF-8A95-E5F7950F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1983-F87E-4E2D-9BCB-D2505CA5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DE6F2-B09F-4473-A89F-62DF3852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D5701-C023-4EDD-973A-790D08BA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DDBD0-BACE-45F2-81A3-4AB751B0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CEA2A-A403-437A-B5C3-0FB2E7AD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122-CB9D-45B6-8A2D-4355B3E6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BB56E-30F2-4B97-B911-71B8CCDD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B2211-4A9E-496F-8361-D00C653C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A5681-A3BD-46BD-9645-2834D5A8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0B124-5152-4D34-B340-64DE535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E9075-ADD3-479B-B914-D93ADDC5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BB195-0168-45F0-B51B-C58E2EAE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F3891-A7B5-4E88-AD84-5CD06CBE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0801-52C9-49B7-BA46-3349321D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8320-D91D-4444-9863-27CACA23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22B2E-49FC-41DB-A80B-A9DF4004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7D6-640C-4743-ABC7-8E1BBAEE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F2EF8-8222-4175-B333-8D72930F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36135-EFE5-40D0-9267-DACC414C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62E15-B13F-41D6-BA4A-2F352BC7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DEE6E-9FB8-42EE-9335-35A075A5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65274-3F0A-4F7F-A999-7C77E1FD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1F0BC-AA94-4340-8293-A1C06C8E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6DA7F-A092-49D8-8946-54CDD539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9AD3-C6AC-4602-9D4E-D5625359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CB2C1-33E5-4C61-B9B0-9B609C25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289A7-4BF1-4778-9D54-514780A6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2C1-50CA-4F7F-889C-FC9A5461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7F7AA-92F3-4443-AE36-53C7A2AC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03D6F-1CD2-416E-AE2B-2A76D4AF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4F7E-4699-464E-9EAC-724A5AF8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4C4F6-6C53-4D3E-9CC6-63C953F0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1A275-0E35-43AA-AE53-7E3F4058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42C70-5AE5-42E8-B818-66379E7D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9F479-4A1B-4FBC-A531-FB74D7D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92648-A182-4AD3-9A25-9AD68CF3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DDCA0-C731-46A1-85B1-BF2E26A1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B8EE9-FD64-4309-B234-61C580CF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8BF-43A1-4E2A-BD00-BC611970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5DEA4-637A-4FED-AC30-8FBC56B3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700FA-D393-4576-A1D1-A864B79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E6589-6760-47ED-B386-DE8F1BA6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A0161-E889-4776-9753-619B07DC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4D23-B32B-46AE-B6C9-B0BFAF53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94B-0108-41C3-896A-9ECFD0C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1EC5-71E4-4AAE-8A91-8C14F6F080BE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0CAC-932E-41C6-9C9D-A51A6EBE52C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555A-AC67-403B-A66E-E6C517F8713A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4878-69D7-4E84-AE68-AA43E1C60253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4D12-9921-4315-8E46-2D7F2BD8C7FC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FEB8-22F0-4D4E-A498-10332816B958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6F16-A9C1-426B-BEF5-5E102ACD8F62}" type="slidenum">
              <a:rPr b="0" lang="nl-N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h9oCYdMsz8" TargetMode="External"/><Relationship Id="rId2" Type="http://schemas.openxmlformats.org/officeDocument/2006/relationships/hyperlink" Target="http://www.youtube.com/watch?v=Il7wZ3qpt3c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Content Placeholder 5" descr="gentl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185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 profess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Geeft de ander wat hij/zij nodig heeft: persoonlijke betrokkenheid, liefde, veiligheid en deskundige hul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Maakt contact met de ander van hart tot hart en handelt op basis van inzicht, kennis en ervar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oelt te onmacht en het lijden van de ander en zet deze emotie om in actie om hem/haar te help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waakt de eigen grenzen die van de an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Is ook liefdevol voor zichzelf en de collega'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trouwt op de eigen innerlijke krach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YouTub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youtube.com/watch?v=fh9oCYdMsz8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www.youtube.com/watch?v=Il7wZ3qpt3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oorbeeld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praktij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zi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e toepasse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620280"/>
            <a:ext cx="7499520" cy="56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manistische psychologi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tle Teac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YouTube vide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oorbeel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umanistische Psycholog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Subjectiviteit centraal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Eigen bewustzij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ces en groei (ontwikkeling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Zelf verantwoordelijk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Hier en nu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Bevrijden van belemmeringe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hn McGe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Content Placeholder 3" descr="john.jpg"/>
          <p:cNvPicPr/>
          <p:nvPr/>
        </p:nvPicPr>
        <p:blipFill>
          <a:blip r:embed="rId1"/>
          <a:stretch/>
        </p:blipFill>
        <p:spPr>
          <a:xfrm>
            <a:off x="395280" y="1916280"/>
            <a:ext cx="4541760" cy="30254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43-201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gin jaren 9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standelijke beperking/ernstige gedragsproble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entle Teach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itgangspunt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ompanionship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ederzijdse afhankelijkhei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Begeleidingsmiddele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 professional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Uitgangspunten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respec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accept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te begrij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waarderen elkaa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geven elkaar zelfvertrouw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ill Sans MT"/>
              </a:rPr>
              <a:t>We proberen elkaar vooruit te help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mpanionshi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der mens verlangt naar een relatie gericht op vier pijlers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ilig voelen bij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geliefd voelen door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liefdevol voelen en uiten ten opzichte van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Gill Sans MT"/>
              </a:rPr>
              <a:t>Zich verbonden voelen met de an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ederzijdse afhankelijkhei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iet afhankelijk van gedrag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de begeleiding verstandelijk en gevoelsmatig ton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unen wanneer de cliënt stress erva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egeleidingsmiddele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and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g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e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anwezighe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5T18:42:45Z</dcterms:created>
  <dc:creator>Nico</dc:creator>
  <dc:description/>
  <dc:language>en-US</dc:language>
  <cp:lastModifiedBy>Mast,C.J.</cp:lastModifiedBy>
  <dcterms:modified xsi:type="dcterms:W3CDTF">2014-05-16T07:23:26Z</dcterms:modified>
  <cp:revision>8</cp:revision>
  <dc:subject/>
  <dc:title>Gentl Teaching</dc:title>
</cp:coreProperties>
</file>