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AC0-88C0-4A5B-B8BC-D82C44F6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4A4-ED72-42C6-9AEC-1F7777B5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0F0-C788-44A2-9BAE-086D9CB2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92A-0BDB-44A1-8E16-7A0BBF48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4BDA-DD9C-4FB2-A706-E994B73C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BC50-7DEB-47E9-AA13-918393B2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2A84-7082-4FEA-A50E-F2520DC6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9662-12D2-4BDB-A998-47B377D2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DB54-EFF8-470F-851F-84A97880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5FD7-8966-4EB6-8E08-2FFCF791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C003-B8E9-48CD-A70E-0F680B41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4DB-F8B3-4C54-972A-AEFED798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64BD-52DC-4B86-96E2-C24BE2D0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CA58-9AAB-4CD6-8D85-A76FC9EC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E711-953E-45F4-84A8-84397D9A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8401-4A59-4972-AFF9-6B956F2C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576E-1AAE-4038-8D1D-9AFC38D6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E2D0C-5EF5-49D8-A681-EEAF285D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C9B44-BCC5-4680-86AD-D5316586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9995-584C-44EB-BB1B-94691968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3130-D334-4E74-885D-A67B8CF2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255F-408D-4B86-B015-AD4E4675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D76-A390-4217-B0C9-0A162CE3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0BA6-4776-48AE-B51C-F3040D09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5B9E-C75A-408A-9924-5ADC1305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2C98F-0D35-4C8D-8B3D-5BCEE478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886AA-CDF2-45D4-BAD0-FDCCD9CC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A1A0-7E6C-473D-B39B-F305DDCA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B1C7-8BB6-4B0F-AF72-2AD4E964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9FD1-5565-4497-900C-35F18BCF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D3E68-DA10-4FDD-8424-1AADC31B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BD22-0166-4D9E-A0A0-A76EC199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F11C9-7D80-4846-8D06-6C82FEE5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2D7-849F-45A4-98D7-D39376C9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D399-8D57-4544-9707-98596AC0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1B08-4466-4D04-A309-AB6A6B13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6F654-DD79-400A-B385-CA9EC251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9CE2-C567-4808-825B-97AB3ED0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45A9-C43A-46E5-9600-47171CAF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2443-A837-4B3B-BE97-2FF54A22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B7CF-0730-4E1A-B10D-7925E092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34281-C4A7-4E16-9F5E-DE733C0A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50D5-065C-4B8F-BBB6-7EA52039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4AF2B-40C1-4BC1-B99E-088095CF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B9C-BBE8-4E10-8259-40362DF8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F0574-BF74-40A6-9374-80AAECB1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F45C-F78D-40D4-89F9-F7FFC8C6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10D8-33BB-4B9A-97F5-B2B01235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67CFD-FA3F-427E-AEE1-20288673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0E227-1895-4649-AEC3-14E9DF31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15D9-E597-4D45-A194-58462DE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CC34-680E-4FC5-8F7F-3C3F0D9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33739-DEBE-4E0F-AFF5-FDC51593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6455-A20D-4D11-871F-7D64F99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0A53F-E995-49D1-8CBA-A98AB7BC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B55-75B9-471B-B97A-9EE66AF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C97CA-C476-4F0C-BE8B-4769439E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06D88-62B2-42A7-ADF2-E8B84B8E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EE6E2-94A9-4934-B449-D3BBFB53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F6FB5-61E4-47EA-8411-A7182F63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F8D9-468E-4640-8E51-2B8425E1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28242-9F11-443F-B564-3307AF48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6F3DB-2A09-4151-87C9-978F7F63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B3E55-1D70-41D0-BDF9-2E15DF5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B8BA4-2824-41B7-AE0A-EE511984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20F52-51DA-4B55-8726-07470000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87F-6622-4FA8-83AC-DDEC3A5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18E70-2359-439D-9B71-D8D741A3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4AB2-6213-48BF-9949-642D73B6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11802-EBFB-4C11-91EE-B02066BA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87D3D-CC7D-4CA5-A5C9-F6CCFF81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21E82-E5BA-40E8-9B87-6D8AF441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08BE1-CD77-4C65-8510-0C0BBE18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10BB-6032-47B4-9DF9-F7FE5C58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A9F1F-0322-46F8-A7AC-986E62F3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A76E-3F8D-4B57-B50C-DCF9DF7E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5604E-AD4C-4FF5-89DC-84835092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8E7-9DEC-4CB9-98EA-749D1385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19448-0943-499F-819D-CF30EB1B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0DF02-4706-44DA-86A0-C76292C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D6549-087E-4F1D-855A-2514529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6DF7D-26F9-406E-AA98-67F83D2A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E116C-2B93-4692-A2AA-99FCFD48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80D-CC0A-452A-978F-A0B72E8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644B-0AE4-43D5-82FA-85FD26566DD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ECCC-485E-4639-BA10-0E45E5E3DF7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B314-202F-44EB-9C84-AF6AA8DDC3D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2068-BDC8-4BA0-B693-5B526B42F640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8B61-A2A2-4060-B567-BCB4FB980C5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3A6-3D74-489D-ACBE-81471CCBB23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1D0E-9372-4986-AB9F-7E65AA9CCCF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h9oCYdMsz8" TargetMode="External"/><Relationship Id="rId2" Type="http://schemas.openxmlformats.org/officeDocument/2006/relationships/hyperlink" Target="http://www.youtube.com/watch?v=Il7wZ3qpt3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Content Placeholder 5" descr="gentl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1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 profess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Geeft de ander wat hij/zij nodig heeft: persoonlijke betrokkenheid, liefde, veiligheid en deskundige hul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Maakt contact met de ander van hart tot hart en handelt op basis van inzicht, kennis en erv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oelt te onmacht en het lijden van de ander en zet deze emotie om in actie om hem/haar te help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waakt de eigen grenzen die van de 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Is ook liefdevol voor zichzelf en de collega'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trouwt op de eigen innerlijke krach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Tub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outube.com/watch?v=fh9oCYdMsz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youtube.com/watch?v=Il7wZ3qpt3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orbeeld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praktij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zi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e toepass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tische psycholog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tle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Tube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orbeel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istische Psych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jectiviteit centraal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igen bewustzij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ces en groei (ontwikkeling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Zelf verantwoordelijk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 en n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Bevrijden van belemmeringe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hn McGe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Content Placeholder 3" descr="john.jpg"/>
          <p:cNvPicPr/>
          <p:nvPr/>
        </p:nvPicPr>
        <p:blipFill>
          <a:blip r:embed="rId1"/>
          <a:stretch/>
        </p:blipFill>
        <p:spPr>
          <a:xfrm>
            <a:off x="395280" y="1916280"/>
            <a:ext cx="4541760" cy="3025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43-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gin jaren 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tandelijke beperking/ernstige gedragsproble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itgangspunt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nions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derzijdse afhankelijkhei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eleidingsmiddel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 profession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itgangspunte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respec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accep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te begrij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waard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geven elkaar zelfvertrouw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vooruit te hel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panionsh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der mens verlangt naar een relatie gericht op vier pijler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ilig voelen bij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geliefd voelen door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liefdevol voelen en uiten ten opzichte van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rbonden voelen met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ederzijdse afhankelijkhei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iet afhankelijk van gedra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begeleiding verstandelijk en gevoelsmatig ton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unen wanneer de cliënt stress erva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geleidingsmiddel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n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nwezighe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8:42:45Z</dcterms:created>
  <dc:creator>Nico</dc:creator>
  <dc:description/>
  <dc:language>en-US</dc:language>
  <cp:lastModifiedBy>Mast,C.J.</cp:lastModifiedBy>
  <dcterms:modified xsi:type="dcterms:W3CDTF">2014-05-16T07:23:26Z</dcterms:modified>
  <cp:revision>8</cp:revision>
  <dc:subject/>
  <dc:title>Gentl Teaching</dc:title>
</cp:coreProperties>
</file>