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7F0E-F82F-4476-B8CB-B827EC73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CE13-611D-40AC-8A81-055C4AB9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9520-9B84-406F-A4E0-C297E03D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1296-B6E8-40B2-B1FE-C4E387BC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2B39-4E8B-45EF-BEA0-A5ECB5B7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B311-0A2C-41BC-8C18-9FE8F71D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0BED-228B-4C9B-A1E6-A595C9C1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481D-3E0E-4E00-83B5-CE60AA1C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5D6D-7F8F-43A8-AE16-1E8895CE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513C-4D44-4E3A-A179-D9C05B28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D9B8-59A1-4322-87C2-781922EC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90DC-08A9-4498-9DCE-ACAC7F0A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6849-219E-41E9-86DA-B6360655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6CCB-8F56-4777-B733-96CCE2E1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4C41-DCD7-4E23-8804-219092AA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FEEA-39EA-466C-9400-173E82A8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A908-219E-4BB4-BFAD-4D70DD33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9B377-0BD8-4885-AC49-535FC67A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63415-EC0A-479D-8238-4C891873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0D970-CC7E-4EC3-B5FE-E577D185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E3662-1BAE-440B-A289-C2E90F2A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6E058-6CF8-4591-A353-5D0F0750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2FAF-0082-4814-A38A-8625BF67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FC4F5-6A37-48BE-AB96-36C8987E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A2EDE-ADCF-41CB-9F7F-4DE999CC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4D7FB-B1D7-4A2C-9FE0-85184292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5334E-4D27-403B-9206-C4DD26F2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3FFA7-AFCF-49D0-B775-C66C0C84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AA7D0-E859-4E69-95A3-3BA655B6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D6FE0-6BBA-4301-84E0-0CB27E2D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CBDBA-5E02-4518-B995-B17B82FC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2B759-5059-41AC-BCB8-F8CFFA65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D518A-C5C1-4F79-90C1-3ECF509C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A958-6BF9-4572-8BD3-752D1D2C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B8978-DF36-46ED-BAF1-0C32F391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EDC07-CB50-4E7D-A09E-63DA61A6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3E41E-AAF7-4C31-9869-C58B4A77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2F080-390A-4EE0-A42C-75A3DE38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FB37A-2A4E-4860-9545-A5E05285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888D8-BD19-4C3A-902C-F95DF25D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2663B-C2F1-4FC3-9DE0-6994D866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8E8D1-7862-4ECE-AD78-9CC95E50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C2FEC-4B2D-4FA1-9B1B-70585E43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18482-3D19-4E3E-B88B-DC91EE06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3DB3-AEFE-4B99-B303-D5A0310A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283F4-F124-4DE6-B63B-5E5CD3D8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42F80-2B15-4279-8E4A-DAB01884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6178F-4975-4CFD-BC89-D6C1C084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231F7-EC39-4110-9A4F-D0FAD88F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9B160-BDC6-466F-8ACE-95AF32F1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C21C6-C7E9-49EB-9548-02338655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5E653-03C5-44A1-9398-108183B0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D2290-1B9F-448A-9A7E-5560C855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08B8E-4E05-4325-BD24-3102BB37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86D57-95E0-45CA-B1C8-8BB63FD9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7EA-40E7-4D17-A3B6-A4FFEF88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CD60F-CABB-448D-A180-47458242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53B61-A7D6-4567-BD44-25E11C4D4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78ED5-AACD-40B4-8A62-940911D6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57429-50DE-41F5-8CE0-78C4A8D4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27B00-2BED-44AA-8A04-FAE7777F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63D08-0150-4169-9BB7-34EC360A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1B272-9F9C-4798-9BD2-046FCFB5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A7C9B-8AEE-45DB-A525-4D99D796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D835F-41A1-4821-907D-A1264AA6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24855-DAC5-40CB-B9F3-58F3BBC2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16E0-81A9-4491-BD9B-79A26E3F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12D35-3B85-48FC-B3B3-A947B04B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5CE09-8B69-4FBD-9694-9E974A24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6F94E-5DFC-4AC9-BFE4-264AC8A7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95F6C-44C4-44ED-869A-68DDAE28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EC7D0-C66A-4124-A820-A6EA85C5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5B86E-661F-41FD-AE3B-F4395695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DC40D-EA1F-4789-92A0-D1362EAB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68D64-57B1-4ACB-A153-45B303B5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61A0D-7378-4B9B-98B1-4E52EA39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6B642-A5EE-435F-BBBE-6707C552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3CD6-9AA5-4542-B09B-A4B0D530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7EBE1-D43B-4BDB-9181-B04FDCD8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1EC46-298A-42DB-8680-A1D5846C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C3F9C-57FA-4EFC-B6F0-40915C9B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03158-6CAB-42B6-8FC3-BF46E8F6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7B6A6-2355-480F-9493-58592CB1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1E39-C43C-450B-8B9B-6D73FFAF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3055-0939-4F48-A89D-90C23E1EE4E1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7133-225B-47C0-92C1-0170F75C94F8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BB07-6192-4959-9FFD-94833F94964D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9D1C-5171-42A9-9250-16B9089613C1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9DA5-BEE3-46D3-AB78-CBCC2D6F1714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420E-742B-4C38-9C3B-F5DCF600B724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6BC5-35EE-44C2-B007-6DF3B74462A5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h9oCYdMsz8" TargetMode="External"/><Relationship Id="rId2" Type="http://schemas.openxmlformats.org/officeDocument/2006/relationships/hyperlink" Target="http://www.youtube.com/watch?v=Il7wZ3qpt3c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entle Teach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19" name="Content Placeholder 5" descr="gentle.jpg"/>
          <p:cNvPicPr/>
          <p:nvPr/>
        </p:nvPicPr>
        <p:blipFill>
          <a:blip r:embed="rId1"/>
          <a:stretch/>
        </p:blipFill>
        <p:spPr>
          <a:xfrm>
            <a:off x="1547640" y="1700280"/>
            <a:ext cx="51850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 profession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Geeft de ander wat hij/zij nodig heeft: persoonlijke betrokkenheid, liefde, veiligheid en deskundige hul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Maakt contact met de ander van hart tot hart en handelt op basis van inzicht, kennis en ervar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Voelt te onmacht en het lijden van de ander en zet deze emotie om in actie om hem/haar te help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Bewaakt de eigen grenzen die van de and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Is ook liefdevol voor zichzelf en de collega'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Vertrouwt op de eigen innerlijke krach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YouTube vide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youtube.com/watch?v=fh9oCYdMsz8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www.youtube.com/watch?v=Il7wZ3qpt3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oorbeeld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de praktijk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zien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e toepassen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620280"/>
            <a:ext cx="7499520" cy="56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umanistische psychologi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ntle Teach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Tube vide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oorbeeld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umanistische Psychologi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Subjectiviteit centraal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Eigen bewustzijn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Proces en groei (ontwikkeling)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Zelf verantwoordelijk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Hier en nu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Bevrijden van belemmeringen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John McGe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5" name="Content Placeholder 3" descr="john.jpg"/>
          <p:cNvPicPr/>
          <p:nvPr/>
        </p:nvPicPr>
        <p:blipFill>
          <a:blip r:embed="rId1"/>
          <a:stretch/>
        </p:blipFill>
        <p:spPr>
          <a:xfrm>
            <a:off x="395280" y="1916280"/>
            <a:ext cx="4541760" cy="30254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erenigde Stat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943-201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gin jaren 9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erstandelijke beperking/ernstige gedragsproblem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entle Teach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itgangspunte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ompanionship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ederzijdse afhankelijkheid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Begeleidingsmiddele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De professiona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Uitgangspunten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respecteren elka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accepteren elka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proberen elkaar te begrijp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waarderen elka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geven elkaar zelfvertrouw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proberen elkaar vooruit te help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mpanionshi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eder mens verlangt naar een relatie gericht op vier pijlers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veilig voelen bij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geliefd voelen door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liefdevol voelen en uiten ten opzichte van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verbonden voelen met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ederzijdse afhankelijkhei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iet afhankelijk van gedrag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de begeleiding verstandelijk en gevoelsmatig ton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eunen wanneer de cliënt stress ervaa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egeleidingsmiddel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nd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g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anwezighei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18:42:45Z</dcterms:created>
  <dc:creator>Nico</dc:creator>
  <dc:description/>
  <dc:language>en-US</dc:language>
  <cp:lastModifiedBy>Mast,C.J.</cp:lastModifiedBy>
  <dcterms:modified xsi:type="dcterms:W3CDTF">2014-05-16T07:23:26Z</dcterms:modified>
  <cp:revision>8</cp:revision>
  <dc:subject/>
  <dc:title>Gentl Teaching</dc:title>
</cp:coreProperties>
</file>