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8596-AF73-4FE0-A982-439021555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89F8-123F-4D3E-B989-56237EB0C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ABD6-EBA7-4A83-9884-5D49F1B14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68A8-6505-481B-AB58-8B3E55608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1630B-D4FD-4A34-BA35-01FB8939F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B7036-FF77-4421-AE37-9C30CD83B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72A9D-ABA7-4F4C-8A60-355ABD181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E7AAE-10A5-45D0-AB90-7B161FB59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EACCD-57D7-4B5E-9481-09698995A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0516A-CAD5-46B0-8215-6BE51D26C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6A417-D5A9-45CA-972D-71E86634F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15A1-B148-4A54-B450-1FFE45EB2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6873A-1C26-4D5E-9E03-EED810D77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81284-3FA3-4399-9667-BC3B739FC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880E3-896B-45D1-A25F-DF147DC7C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F908E-622A-4C6D-A80A-D21842002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C657D-2F8A-4725-9BB0-B3BC708CD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2BCF2C-1E6B-451B-8370-B957CA2EE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67A70E-5BF5-46EA-A577-22D6FB074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9CAFC6-A66E-4CFB-9C50-5EF7E4CB6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485C56-13D9-419E-95A6-3FD464453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5A2A24-A76A-45D5-B0AB-B6F5E5DE3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CD17-E28E-4AD7-BDA8-B09797174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C5406A-9A2F-4006-B093-5F06EDCFE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245A53-7C05-4A1C-BC4E-44CC3983C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9D0B31-2585-4D0B-92C8-72E549AD6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567C4E-AB2F-4CB7-9744-A66DBCA46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0F7408-0D95-460F-8A7C-E9ED3C804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C5CA85-C2FA-4B59-9C58-7595F5D00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21030A-0B76-46B8-A26C-B19E7EF1D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A7B7A5-D18D-44A5-98D6-142398F14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8085BA-183F-472A-8F24-0DECFCA3C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205E82-45F2-44FA-A0C7-D73BA30BE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5DAA-4790-4642-956D-9EF7F0810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401E7A-39E4-4ADF-A1E2-E49B5CCE2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16C001-3610-497F-9D77-D3199651F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D3A1A6-6448-468B-8471-226009772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7ECEF3-A95B-4DAA-8289-8DD83C9E1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C8DA17-2AE6-47AE-A1A8-61BC92500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4EE140-B6D5-453B-A9E5-AAD0BD56B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92DEB9-2E6A-4F15-BF10-5EC309780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A003E0-F065-41D9-B69E-3FBB67E60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642B29-FF8B-4CA6-89BD-ED17A4744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98DD44-36A9-400F-8E52-171531854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FF0B-678F-4909-AE07-FE2E04E09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399864-CC1A-4709-BC24-CF17D71F6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BFE23C-F8BF-483C-B781-767FF38FD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6B57AC-D57F-4D35-94D8-9445CECDC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6E0EED-5D91-4FC1-96C0-BB5C3295A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77ED48-0CC6-426D-B41C-22E49135D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F2995E-A97F-4377-A764-F37213D40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78B12B-788D-41BE-AFEA-ECEE052C7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C658D0-7A5C-4C5C-96AB-E079A81AF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9F9B82-0137-48EA-BECB-B9D1B0011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10CF4E-636A-44A7-AF16-0228E6E19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E074-A0E7-41F5-8711-76E6C18A7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73B5E2-5186-4367-8183-4404283DF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77222A-2822-44F0-B342-2623AF11D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FE1E2F-C9D4-4CD5-ACD6-653976340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81C4CD-AA47-4A2B-830A-A53CAF852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F5185A-4982-432C-98D9-4133165F9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18F531-CDBF-48AC-9F07-450A22E86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220D4D-9BA5-47A8-89AD-44D76DD59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DBF66D-3E4A-48A2-BBED-26CB19D37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5CD089-462B-4F69-9D05-E1A55AEC3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5E0EEB-95AA-476D-8CB7-9A507DCA9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F2DD-0200-4C04-9FAC-1149D4976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B8CC9F-7AB3-4C2E-954F-5CC85055C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3EAA08-AB05-4BF4-984F-2910B6A2B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4EE1C2-1169-41AB-AB5C-E4778E0DC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2AE729-3FB1-4378-B6E0-11305CD91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4B0F3B-7457-44A0-AB91-DD8C0C875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906837-9C58-4210-A09E-1D4B8F415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218793-C947-4931-9F83-1877ADC20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D32A7F-7299-4D6B-80C1-305E1AD9F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A38443-B77A-4A9A-9394-B0F9D5872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A52F9B-8F51-420C-9489-B53660643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9091-66E0-450B-9E72-B68ED7F78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41545D-8831-43BB-BA21-2560F9309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63BDAF-8EE1-4A2F-852A-7568F55B8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83A1E4-22BE-4148-A33F-5856C01EB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B4AEFA-1822-49AF-ABA7-C3C5B7D38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7ECEAA-C828-4A8B-969D-6A0C48B74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4A0E-F521-45D2-A3B7-7CB42D6E4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428C8-6314-40B4-9DF4-E2DAF7310AE9}" type="slidenum"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92360-C94E-4350-AD10-C7A7FCA3DFE0}" type="slidenum"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C8294-508E-4BAB-868F-472986162F44}" type="slidenum"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D4AE0-BB9E-4BB8-B52D-B09B27E28B2E}" type="slidenum"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6B600-9C38-4731-8057-1FF766B55F92}" type="slidenum"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FAD4D-4936-4E64-93E2-B289254CF93E}" type="slidenum"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16F39-A519-479C-BFD7-E4EF6F67E55E}" type="slidenum"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fh9oCYdMsz8" TargetMode="External"/><Relationship Id="rId2" Type="http://schemas.openxmlformats.org/officeDocument/2006/relationships/hyperlink" Target="http://www.youtube.com/watch?v=Il7wZ3qpt3c" TargetMode="Externa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Gentle Teaching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19" name="Content Placeholder 5" descr="gentle.jpg"/>
          <p:cNvPicPr/>
          <p:nvPr/>
        </p:nvPicPr>
        <p:blipFill>
          <a:blip r:embed="rId1"/>
          <a:stretch/>
        </p:blipFill>
        <p:spPr>
          <a:xfrm>
            <a:off x="1547640" y="1700280"/>
            <a:ext cx="518508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De professional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Gill Sans MT"/>
              </a:rPr>
              <a:t>Geeft de ander wat hij/zij nodig heeft: persoonlijke betrokkenheid, liefde, veiligheid en deskundige hulp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Gill Sans MT"/>
              </a:rPr>
              <a:t>Maakt contact met de ander van hart tot hart en handelt op basis van inzicht, kennis en ervaring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Gill Sans MT"/>
              </a:rPr>
              <a:t>Voelt te onmacht en het lijden van de ander en zet deze emotie om in actie om hem/haar te helpe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Gill Sans MT"/>
              </a:rPr>
              <a:t>Bewaakt de eigen grenzen die van de ande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Gill Sans MT"/>
              </a:rPr>
              <a:t>Is ook liefdevol voor zichzelf en de collega'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Gill Sans MT"/>
              </a:rPr>
              <a:t>Vertrouwt op de eigen innerlijke kracht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YouTube video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8dc765"/>
                </a:solidFill>
                <a:uFillTx/>
                <a:latin typeface="Gill Sans MT"/>
                <a:hlinkClick r:id="rId1"/>
              </a:rPr>
              <a:t>http://www.youtube.com/watch?v=fh9oCYdMsz8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8dc765"/>
                </a:solidFill>
                <a:uFillTx/>
                <a:latin typeface="Gill Sans MT"/>
                <a:hlinkClick r:id="rId2"/>
              </a:rPr>
              <a:t>http://www.youtube.com/watch?v=Il7wZ3qpt3c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Voorbeelden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n de praktijk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Gezien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oe toepassen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1434960" y="620280"/>
            <a:ext cx="7499520" cy="562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umanistische psychologi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Gentle Teaching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YouTube video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Voorbeelde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Humanistische Psychologi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 MT"/>
              </a:rPr>
              <a:t>Subjectiviteit centraal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 MT"/>
              </a:rPr>
              <a:t>Eigen bewustzijn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 MT"/>
              </a:rPr>
              <a:t>Proces en groei (ontwikkeling)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 MT"/>
              </a:rPr>
              <a:t>Zelf verantwoordelijk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 MT"/>
              </a:rPr>
              <a:t>Hier en nu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 MT"/>
              </a:rPr>
              <a:t>Bevrijden van belemmeringen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John McGe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25" name="Content Placeholder 3" descr="john.jpg"/>
          <p:cNvPicPr/>
          <p:nvPr/>
        </p:nvPicPr>
        <p:blipFill>
          <a:blip r:embed="rId1"/>
          <a:stretch/>
        </p:blipFill>
        <p:spPr>
          <a:xfrm>
            <a:off x="395280" y="1916280"/>
            <a:ext cx="4541760" cy="302544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 txBox="1"/>
          <p:nvPr/>
        </p:nvSpPr>
        <p:spPr>
          <a:xfrm>
            <a:off x="527688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Verenigde State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1943-2012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Begin jaren 90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Verstandelijke beperking/ernstige gedragsprobleme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Gentle Teaching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Uitgangspunten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Companionship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Wederzijdse afhankelijkheid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Begeleidingsmiddelen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De professional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Uitgangspunten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ill Sans MT"/>
              </a:rPr>
              <a:t>We respecteren elkaar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ill Sans MT"/>
              </a:rPr>
              <a:t>We accepteren elkaar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ill Sans MT"/>
              </a:rPr>
              <a:t>We proberen elkaar te begrijpe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ill Sans MT"/>
              </a:rPr>
              <a:t>We waarderen elkaar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ill Sans MT"/>
              </a:rPr>
              <a:t>We geven elkaar zelfvertrouwe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ill Sans MT"/>
              </a:rPr>
              <a:t>We proberen elkaar vooruit te helpe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ompanionship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eder mens verlangt naar een relatie gericht op vier pijlers;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Gill Sans MT"/>
              </a:rPr>
              <a:t>Zich veilig voelen bij de ander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Gill Sans MT"/>
              </a:rPr>
              <a:t>Zich geliefd voelen door de ander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Gill Sans MT"/>
              </a:rPr>
              <a:t>Zich liefdevol voelen en uiten ten opzichte van de ander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Gill Sans MT"/>
              </a:rPr>
              <a:t>Zich verbonden voelen met de ander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Wederzijdse afhankelijkheid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Niet afhankelijk van gedrag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n de begeleiding verstandelijk en gevoelsmatig tone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teunen wanneer de cliënt stress ervaar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Begeleidingsmiddelen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ande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Oge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tem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anwezigheid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15T18:42:45Z</dcterms:created>
  <dc:creator>Nico</dc:creator>
  <dc:description/>
  <dc:language>en-US</dc:language>
  <cp:lastModifiedBy>Mast,C.J.</cp:lastModifiedBy>
  <dcterms:modified xsi:type="dcterms:W3CDTF">2014-05-16T07:23:26Z</dcterms:modified>
  <cp:revision>8</cp:revision>
  <dc:subject/>
  <dc:title>Gentl Teaching</dc:title>
</cp:coreProperties>
</file>