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97F-5AD3-4E92-BD1E-5845686E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F5D-91F0-42FC-884D-589BF973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1E0-0287-4907-B817-0200D2ED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3D4-F91D-47DA-8E79-0395E27B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0047-541F-4C8C-A80E-531BCA4B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6E80-E3BF-42D8-8347-6313D0BB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93EF-C1E7-4C2A-A8AF-DC118E2F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37A8-CED3-4B08-8A18-B878D139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5E93-2091-47F2-8E2E-C1DD258C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BE90-8DC6-4E92-BB7A-63F0F5CD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5B6B-4C48-4F85-95A0-F61D930B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462-F437-404C-941A-2BAD9BD5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13F1-FEAC-49F0-80E1-5448FCF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EC44-5007-41D4-8366-4817A5FE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0A90-2452-415D-BE56-16E5A6D8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2107-819E-4E81-8160-724A9C1C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1F2D-96B8-49C7-9BFF-D1B6199F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216CD-EF5F-4CB7-9257-1CCB20D3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A4A39-A9AC-41F2-8662-087AAD83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80071-B909-4713-8E9F-151FEE7C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6EAF7-817F-4676-B161-516637F7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B8B9F-F99E-4BB4-9F43-D71211CE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98A-B995-442A-A0C0-D32D23A6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5903F-3AA7-43CF-BB05-11F50B88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52419-5B55-4771-BC9C-D7FBF02B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E007A-9704-4C6C-A084-47957C2B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4230C-EDF4-437B-8F2C-F14583A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C5582-DFB7-42D3-8266-44D242FB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5BD56-BFE4-4398-BAA3-6846724A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56207-FEBC-4931-98EA-FE1ED8C2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DB686-506A-4217-AB0E-EF05E951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E01D3-2FA0-4FAF-899A-03CA7586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66A85-ACF6-4ADC-877B-34B4A197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052-9DF7-4689-B80B-4CDAAA66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2574-5260-454B-95C0-0F5AB1AA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6D49-DEA4-4336-9B90-B6047066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3B15-8743-4D17-A8CD-AA110608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457C-2660-46EA-971E-09387584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72325-90A1-463B-96B6-9364437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8DEC9-AB03-4BDF-B1B8-41C12DE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8E084-E097-487D-A3EA-1A62C70E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1A32-2D24-4DF4-B30B-58F44249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EE84-CC48-4ED4-B33E-980D1504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5A4-3A48-4885-A77A-FFF0A799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795-83F5-4792-95E6-6B63B52A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591-5CBC-4BA2-A299-A73DC96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81E-B481-454E-984C-EE2B95B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B7D-34FC-450A-8539-FF9D5760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4E6E-9D2A-49A9-BEB6-A45B55B204DA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D7F9-24F2-4207-9263-6AE18B2BC897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2061-301D-4E58-83A9-6A7A4B534522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2D03-EB15-48BD-BD1D-F1A9EFA4D944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BELEID EN REGISTRATI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DREMPEL EN HERVATTINGSDREMPE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PDRACHT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Geef in het kort weer hoe jullie verzuimbeleid er uit ziet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Doel van het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Op welke onderdelen is beleid gerich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Hoe wordt ziekte geregistreer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Wie is casemanage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WAAROM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Terugdringen van ziekteverzui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sten van ziekte / vervanging / boetes / premies beper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yaliteit werknemers aan het bedrij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mago bedrijf ( naar buiten to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ersoneelsbeleid is integraal onderdeel van totale belei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e mogen straks langer doorwerken……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NDERDELEN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even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ocedure ziekmeld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geleiding ( re integrati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REGISTREREN ZIEKTE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verloopt de procedur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voorwaarde om zicht te krijgen op oorzak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juridisch noodzakelijk ( bv. UWV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put voor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eer elke ziekte + oorzaak. Ook van belang i.v.m. doortellen van ziektedagen ( incl dagen tussen ziekte 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nk aan stopzetten reiskostenvergoed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Afgeronde rechthoek 3"/>
          <p:cNvSpPr/>
          <p:nvPr/>
        </p:nvSpPr>
        <p:spPr>
          <a:xfrm>
            <a:off x="684360" y="1268280"/>
            <a:ext cx="3382920" cy="108108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Arbeidsbe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werkdruk/werkte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structuur : functieomschrijv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fgeronde rechthoek 5"/>
          <p:cNvSpPr/>
          <p:nvPr/>
        </p:nvSpPr>
        <p:spPr>
          <a:xfrm>
            <a:off x="684360" y="4797360"/>
            <a:ext cx="3382920" cy="107964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Belas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onverwacht/stress/ar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competenties/arbo/RI&amp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hte verbindingslijn 7"/>
          <p:cNvSpPr/>
          <p:nvPr/>
        </p:nvSpPr>
        <p:spPr>
          <a:xfrm>
            <a:off x="1116000" y="2349360"/>
            <a:ext cx="0" cy="2448000"/>
          </a:xfrm>
          <a:prstGeom prst="line">
            <a:avLst/>
          </a:prstGeom>
          <a:ln w="507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Rechte verbindingslijn met pijl 9"/>
          <p:cNvCxnSpPr/>
          <p:nvPr/>
        </p:nvCxnSpPr>
        <p:spPr>
          <a:xfrm>
            <a:off x="1116000" y="3573000"/>
            <a:ext cx="50400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51" name="Rechthoek 10"/>
          <p:cNvSpPr/>
          <p:nvPr/>
        </p:nvSpPr>
        <p:spPr>
          <a:xfrm>
            <a:off x="1619280" y="2852640"/>
            <a:ext cx="180036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KLACHT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Psychisch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Rechte verbindingslijn met pijl 12"/>
          <p:cNvCxnSpPr/>
          <p:nvPr/>
        </p:nvCxnSpPr>
        <p:spPr>
          <a:xfrm>
            <a:off x="3419280" y="3573000"/>
            <a:ext cx="64836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53" name="Rechthoek 13" descr=""/>
          <p:cNvPicPr/>
          <p:nvPr/>
        </p:nvPicPr>
        <p:blipFill>
          <a:blip r:embed="rId1"/>
          <a:stretch/>
        </p:blipFill>
        <p:spPr>
          <a:xfrm>
            <a:off x="4059360" y="2846520"/>
            <a:ext cx="823680" cy="1384200"/>
          </a:xfrm>
          <a:prstGeom prst="rect">
            <a:avLst/>
          </a:prstGeom>
          <a:ln w="0">
            <a:noFill/>
          </a:ln>
        </p:spPr>
      </p:pic>
      <p:sp>
        <p:nvSpPr>
          <p:cNvPr id="354" name="Rechthoek 14"/>
          <p:cNvSpPr/>
          <p:nvPr/>
        </p:nvSpPr>
        <p:spPr>
          <a:xfrm>
            <a:off x="4140360" y="4508640"/>
            <a:ext cx="143964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Verzuim gelegen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(regeling bekend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IJL-OMHOOG 15"/>
          <p:cNvSpPr/>
          <p:nvPr/>
        </p:nvSpPr>
        <p:spPr>
          <a:xfrm>
            <a:off x="442764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17"/>
          <p:cNvSpPr/>
          <p:nvPr/>
        </p:nvSpPr>
        <p:spPr>
          <a:xfrm>
            <a:off x="4284720" y="1197000"/>
            <a:ext cx="136692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Tevredenheid  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en cultu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IJL-OMHOOG 19"/>
          <p:cNvSpPr/>
          <p:nvPr/>
        </p:nvSpPr>
        <p:spPr>
          <a:xfrm flipH="1" rot="10800000">
            <a:off x="4426560" y="2565360"/>
            <a:ext cx="144360" cy="2872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0"/>
          <p:cNvSpPr/>
          <p:nvPr/>
        </p:nvSpPr>
        <p:spPr>
          <a:xfrm>
            <a:off x="5292720" y="2852640"/>
            <a:ext cx="100800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entury Gothic"/>
              </a:rPr>
              <a:t>Verzuim g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Rechte verbindingslijn met pijl 21"/>
          <p:cNvCxnSpPr>
            <a:stCxn id="353" idx="3"/>
            <a:endCxn id="358" idx="1"/>
          </p:cNvCxnSpPr>
          <p:nvPr/>
        </p:nvCxnSpPr>
        <p:spPr>
          <a:xfrm>
            <a:off x="4859280" y="3537000"/>
            <a:ext cx="434160" cy="216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0" name="Rechthoek 31" descr=""/>
          <p:cNvPicPr/>
          <p:nvPr/>
        </p:nvPicPr>
        <p:blipFill>
          <a:blip r:embed="rId2"/>
          <a:stretch/>
        </p:blipFill>
        <p:spPr>
          <a:xfrm>
            <a:off x="6724800" y="2682720"/>
            <a:ext cx="809640" cy="1621080"/>
          </a:xfrm>
          <a:prstGeom prst="rect">
            <a:avLst/>
          </a:prstGeom>
          <a:ln w="0">
            <a:noFill/>
          </a:ln>
        </p:spPr>
      </p:pic>
      <p:cxnSp>
        <p:nvCxnSpPr>
          <p:cNvPr id="361" name="Rechte verbindingslijn met pijl 33"/>
          <p:cNvCxnSpPr/>
          <p:nvPr/>
        </p:nvCxnSpPr>
        <p:spPr>
          <a:xfrm>
            <a:off x="6300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62" name="Rechthoek 35"/>
          <p:cNvSpPr/>
          <p:nvPr/>
        </p:nvSpPr>
        <p:spPr>
          <a:xfrm>
            <a:off x="6300720" y="4508640"/>
            <a:ext cx="144000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7f3400"/>
                </a:solidFill>
                <a:latin typeface="Century Gothic"/>
              </a:rPr>
              <a:t>SOCIAAL MEDISCH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IJL-OMHOOG 36"/>
          <p:cNvSpPr/>
          <p:nvPr/>
        </p:nvSpPr>
        <p:spPr>
          <a:xfrm>
            <a:off x="702000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Gebogen PIJL-OMHOOG 37"/>
          <p:cNvSpPr/>
          <p:nvPr/>
        </p:nvSpPr>
        <p:spPr>
          <a:xfrm flipH="1" rot="10800000">
            <a:off x="5651640" y="1557360"/>
            <a:ext cx="1728720" cy="1224000"/>
          </a:xfrm>
          <a:custGeom>
            <a:avLst/>
            <a:gdLst/>
            <a:ahLst/>
            <a:rect l="l" t="t" r="r" b="b"/>
            <a:pathLst>
              <a:path w="1728788" h="1223962">
                <a:moveTo>
                  <a:pt x="0" y="1107722"/>
                </a:moveTo>
                <a:lnTo>
                  <a:pt x="1403489" y="1107722"/>
                </a:lnTo>
                <a:lnTo>
                  <a:pt x="1403489" y="176618"/>
                </a:lnTo>
                <a:lnTo>
                  <a:pt x="1194431" y="176618"/>
                </a:lnTo>
                <a:lnTo>
                  <a:pt x="1461609" y="0"/>
                </a:lnTo>
                <a:lnTo>
                  <a:pt x="1728788" y="176618"/>
                </a:lnTo>
                <a:lnTo>
                  <a:pt x="1519729" y="176618"/>
                </a:lnTo>
                <a:lnTo>
                  <a:pt x="1519729" y="1223962"/>
                </a:lnTo>
                <a:lnTo>
                  <a:pt x="0" y="1223962"/>
                </a:lnTo>
                <a:lnTo>
                  <a:pt x="0" y="1107722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Rechte verbindingslijn met pijl 38"/>
          <p:cNvCxnSpPr/>
          <p:nvPr/>
        </p:nvCxnSpPr>
        <p:spPr>
          <a:xfrm>
            <a:off x="7524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6" name="Rechthoek 40" descr=""/>
          <p:cNvPicPr/>
          <p:nvPr/>
        </p:nvPicPr>
        <p:blipFill>
          <a:blip r:embed="rId3"/>
          <a:stretch/>
        </p:blipFill>
        <p:spPr>
          <a:xfrm>
            <a:off x="7948440" y="2779560"/>
            <a:ext cx="738360" cy="1659240"/>
          </a:xfrm>
          <a:prstGeom prst="rect">
            <a:avLst/>
          </a:prstGeom>
          <a:ln w="0">
            <a:noFill/>
          </a:ln>
        </p:spPr>
      </p:pic>
      <p:sp>
        <p:nvSpPr>
          <p:cNvPr id="367" name="Lijntoelichting 1 2"/>
          <p:cNvSpPr/>
          <p:nvPr/>
        </p:nvSpPr>
        <p:spPr>
          <a:xfrm>
            <a:off x="1547640" y="2403360"/>
            <a:ext cx="2592720" cy="324000"/>
          </a:xfrm>
          <a:prstGeom prst="borderCallout1">
            <a:avLst>
              <a:gd name="adj1" fmla="val 18750"/>
              <a:gd name="adj2" fmla="val -8333"/>
              <a:gd name="adj3" fmla="val -303800"/>
              <a:gd name="adj4" fmla="val -3699"/>
            </a:avLst>
          </a:prstGeom>
          <a:solidFill>
            <a:srgbClr val="94c600">
              <a:alpha val="45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72103"/>
                </a:solidFill>
                <a:latin typeface="Century Gothic"/>
              </a:rPr>
              <a:t>Werkstructurering / motiv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jntoelichting 2 (rand en accentlijn) 4"/>
          <p:cNvSpPr/>
          <p:nvPr/>
        </p:nvSpPr>
        <p:spPr>
          <a:xfrm>
            <a:off x="7331040" y="944640"/>
            <a:ext cx="1273320" cy="1368360"/>
          </a:xfrm>
          <a:solidFill>
            <a:srgbClr val="dff7ae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Regist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Gesprek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8360" y="1773360"/>
          <a:ext cx="8218440" cy="2582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4624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V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EK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 INTEG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S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lke maatregel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RI  &amp; 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st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gele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icht op snelle terugkeer + voorkomen terug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SO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taal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lles gericht op snelle terugk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t gaat de medewerker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4 A’s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inhoud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: afwisseling, inspraak, POP en PAP, brede of smalle functie, duidelijkheid fun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erhouding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relatie met leidinggevende. Type Leidinggevende. Relatie collega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omstandighe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werkdruk en slechte omstandigheden ( kou, tocht, computers, ed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oorwaar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materiële en niet materiële belo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5:24:57Z</dcterms:created>
  <dc:creator>5225</dc:creator>
  <dc:description/>
  <dc:language>en-US</dc:language>
  <cp:lastModifiedBy>Johan van der Steen</cp:lastModifiedBy>
  <dcterms:modified xsi:type="dcterms:W3CDTF">2014-08-25T12:06:47Z</dcterms:modified>
  <cp:revision>11</cp:revision>
  <dc:subject/>
  <dc:title>Ziekteverzuim</dc:title>
</cp:coreProperties>
</file>