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95B-F109-4164-9782-86960D5E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E6C-39FF-4A0D-AEFC-AEE7E7D9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9FD-476D-4916-AD89-7E30E1C4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E8C-06F1-4C71-9918-B4F16D6B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5A4E-68BD-4C91-B9E0-EF5C2832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0516-A02B-404C-AFBE-1485483A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306B-F187-4873-8F04-A7A3305C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2379-A1EE-488D-B29E-6EB3A9F3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471F-0EC6-4005-B666-C39FE4A2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CB38-E8C4-4884-A12E-E6CF05D2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7099-C6AC-4105-8E6F-01F4B083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104-6A7E-4BD1-A8C0-803089EB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029A-BE55-4696-A384-E0BE50D0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6AD6-F58F-4673-949A-083F30B0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637A-2745-4C92-BE48-0A0E1EB5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FBCC-88E0-4CE9-AF23-A6AE5286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8BD3-C1EF-4256-9A00-30A043FA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0DB47-EBED-4DD4-9E71-4874C831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4287D-1EC9-46EB-A208-94E91350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4B7E3-93A2-4534-98E6-07728C4E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0B69D-5FD1-40AF-89CD-FFBCD155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0CBEC-F355-4BB6-96D8-9C445C70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5D6-15D7-4DD9-97AD-B87E979D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92BB8-FE5F-493F-A21D-E585FE7D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0920D-48E8-4425-B73A-EE6642C8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BDCF5-4A04-4EF9-AC7B-4177B971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6AB69-D8DB-4FBD-90B7-33A1C94E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79F0C-FFA5-4DC1-9C9E-37CA6DF5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786CE-AEA8-4CBA-87FA-81234038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B9110-BBB4-4410-972D-67F32403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ABC79-776F-4ADC-9F6A-E93D489E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CCA63-0A9B-4BE2-84B8-08BB0D3A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379A7-748E-40D0-8F84-ECD6EAA7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9FC-66FF-43F7-B186-8371F811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1977C-F038-495F-8C82-50402958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B48D6-B9EC-4328-95ED-A5239C6B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012B7-E31F-4C6B-9F0C-6B28A845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AB7EC-5473-4E42-BC6E-7DB09CB9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629CC-936B-43F7-BC81-6AB43908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37C07-3D09-4BD9-A78E-5F7510FB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078E4-0E33-475B-9F51-EADE0D16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7F199-3A9F-4F9E-9B35-3C4043E5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D0F97-DAA9-4203-BDE1-0E911907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D25-85AA-4029-AD1F-FDB978EF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FCE-6893-42B6-8FFC-D3E0FC2F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3CE-E7A6-4C73-9972-1438D06F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1847-49B0-42D3-A56D-9C1586B2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211-CCFC-43E9-8F79-F1E53274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BEDE-D8DB-4880-98D4-DB8300A15514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AF3F-DB8B-4D57-8E31-4F87191FAAB1}" type="slidenum">
              <a:rPr b="0" lang="nl-N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FD31-1ABC-4043-AF8C-41EA647A264D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6136-9EC6-46FC-B382-745789747895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ZUIMBELEID EN REGISTRATIE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ZUIMDREMPEL EN HERVATTINGSDREMPEL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OPDRACHT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Geef in het kort weer hoe jullie verzuimbeleid er uit ziet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Doel van het bel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Op welke onderdelen is beleid gericht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Hoe wordt ziekte geregistreerd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Wie is casemanager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WAAROM VERZUIMBELEID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Terugdringen van ziekteverzui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osten van ziekte / vervanging / boetes / premies beperk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Loyaliteit werknemers aan het bedrij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mago bedrijf ( naar buiten toe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ersoneelsbeleid is integraal onderdeel van totale beleid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e mogen straks langer doorwerken……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ONDERDELEN VERZUIMBELEID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even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ocedure ziekmeld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geleiding ( re integratie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REGISTREREN ZIEKTE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e verloopt de procedure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atie is voorwaarde om zicht te krijgen op oorzake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atie is juridisch noodzakelijk ( bv. UWV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put voor bel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eer elke ziekte + oorzaak. Ook van belang i.v.m. doortellen van ziektedagen ( incl dagen tussen ziekte 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nk aan stopzetten reiskostenvergoeding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7" name="Afgeronde rechthoek 3"/>
          <p:cNvSpPr/>
          <p:nvPr/>
        </p:nvSpPr>
        <p:spPr>
          <a:xfrm>
            <a:off x="684360" y="1268280"/>
            <a:ext cx="3382920" cy="1081080"/>
          </a:xfrm>
          <a:prstGeom prst="roundRect">
            <a:avLst>
              <a:gd name="adj" fmla="val 16667"/>
            </a:avLst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Arbeidsbel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werkdruk/werktem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structuur : functieomschrijv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fgeronde rechthoek 5"/>
          <p:cNvSpPr/>
          <p:nvPr/>
        </p:nvSpPr>
        <p:spPr>
          <a:xfrm>
            <a:off x="684360" y="4797360"/>
            <a:ext cx="3382920" cy="1079640"/>
          </a:xfrm>
          <a:prstGeom prst="roundRect">
            <a:avLst>
              <a:gd name="adj" fmla="val 16667"/>
            </a:avLst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Belastbaa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onverwacht/stress/ar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competenties/arbo/RI&amp;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hte verbindingslijn 7"/>
          <p:cNvSpPr/>
          <p:nvPr/>
        </p:nvSpPr>
        <p:spPr>
          <a:xfrm>
            <a:off x="1116000" y="2349360"/>
            <a:ext cx="0" cy="2448000"/>
          </a:xfrm>
          <a:prstGeom prst="line">
            <a:avLst/>
          </a:prstGeom>
          <a:ln w="507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Rechte verbindingslijn met pijl 9"/>
          <p:cNvCxnSpPr/>
          <p:nvPr/>
        </p:nvCxnSpPr>
        <p:spPr>
          <a:xfrm>
            <a:off x="1116000" y="3573000"/>
            <a:ext cx="50400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51" name="Rechthoek 10"/>
          <p:cNvSpPr/>
          <p:nvPr/>
        </p:nvSpPr>
        <p:spPr>
          <a:xfrm>
            <a:off x="1619280" y="2852640"/>
            <a:ext cx="1800360" cy="1368360"/>
          </a:xfrm>
          <a:prstGeom prst="rect">
            <a:avLst/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KLACHT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Psychisch en gezond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Rechte verbindingslijn met pijl 12"/>
          <p:cNvCxnSpPr/>
          <p:nvPr/>
        </p:nvCxnSpPr>
        <p:spPr>
          <a:xfrm>
            <a:off x="3419280" y="3573000"/>
            <a:ext cx="64836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53" name="Rechthoek 13" descr=""/>
          <p:cNvPicPr/>
          <p:nvPr/>
        </p:nvPicPr>
        <p:blipFill>
          <a:blip r:embed="rId1"/>
          <a:stretch/>
        </p:blipFill>
        <p:spPr>
          <a:xfrm>
            <a:off x="4059360" y="2846520"/>
            <a:ext cx="823680" cy="1384200"/>
          </a:xfrm>
          <a:prstGeom prst="rect">
            <a:avLst/>
          </a:prstGeom>
          <a:ln w="0">
            <a:noFill/>
          </a:ln>
        </p:spPr>
      </p:pic>
      <p:sp>
        <p:nvSpPr>
          <p:cNvPr id="354" name="Rechthoek 14"/>
          <p:cNvSpPr/>
          <p:nvPr/>
        </p:nvSpPr>
        <p:spPr>
          <a:xfrm>
            <a:off x="4140360" y="4508640"/>
            <a:ext cx="143964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Verzuim gelegen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(regeling bekend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IJL-OMHOOG 15"/>
          <p:cNvSpPr/>
          <p:nvPr/>
        </p:nvSpPr>
        <p:spPr>
          <a:xfrm>
            <a:off x="4427640" y="4221000"/>
            <a:ext cx="144360" cy="287640"/>
          </a:xfrm>
          <a:prstGeom prst="upArrow">
            <a:avLst>
              <a:gd name="adj1" fmla="val 50000"/>
              <a:gd name="adj2" fmla="val 50089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17"/>
          <p:cNvSpPr/>
          <p:nvPr/>
        </p:nvSpPr>
        <p:spPr>
          <a:xfrm>
            <a:off x="4284720" y="1197000"/>
            <a:ext cx="136692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Tevredenheid  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en cultu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IJL-OMHOOG 19"/>
          <p:cNvSpPr/>
          <p:nvPr/>
        </p:nvSpPr>
        <p:spPr>
          <a:xfrm flipH="1" rot="10800000">
            <a:off x="4426560" y="2565360"/>
            <a:ext cx="144360" cy="287280"/>
          </a:xfrm>
          <a:prstGeom prst="upArrow">
            <a:avLst>
              <a:gd name="adj1" fmla="val 50000"/>
              <a:gd name="adj2" fmla="val 50027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0"/>
          <p:cNvSpPr/>
          <p:nvPr/>
        </p:nvSpPr>
        <p:spPr>
          <a:xfrm>
            <a:off x="5292720" y="2852640"/>
            <a:ext cx="1008000" cy="1368360"/>
          </a:xfrm>
          <a:prstGeom prst="rect">
            <a:avLst/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entury Gothic"/>
              </a:rPr>
              <a:t>Verzuim ge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Rechte verbindingslijn met pijl 21"/>
          <p:cNvCxnSpPr>
            <a:stCxn id="353" idx="3"/>
            <a:endCxn id="358" idx="1"/>
          </p:cNvCxnSpPr>
          <p:nvPr/>
        </p:nvCxnSpPr>
        <p:spPr>
          <a:xfrm>
            <a:off x="4859280" y="3537000"/>
            <a:ext cx="434160" cy="216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60" name="Rechthoek 31" descr=""/>
          <p:cNvPicPr/>
          <p:nvPr/>
        </p:nvPicPr>
        <p:blipFill>
          <a:blip r:embed="rId2"/>
          <a:stretch/>
        </p:blipFill>
        <p:spPr>
          <a:xfrm>
            <a:off x="6724800" y="2682720"/>
            <a:ext cx="809640" cy="1621080"/>
          </a:xfrm>
          <a:prstGeom prst="rect">
            <a:avLst/>
          </a:prstGeom>
          <a:ln w="0">
            <a:noFill/>
          </a:ln>
        </p:spPr>
      </p:pic>
      <p:cxnSp>
        <p:nvCxnSpPr>
          <p:cNvPr id="361" name="Rechte verbindingslijn met pijl 33"/>
          <p:cNvCxnSpPr/>
          <p:nvPr/>
        </p:nvCxnSpPr>
        <p:spPr>
          <a:xfrm>
            <a:off x="6300720" y="3573000"/>
            <a:ext cx="43272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62" name="Rechthoek 35"/>
          <p:cNvSpPr/>
          <p:nvPr/>
        </p:nvSpPr>
        <p:spPr>
          <a:xfrm>
            <a:off x="6300720" y="4508640"/>
            <a:ext cx="144000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7f3400"/>
                </a:solidFill>
                <a:latin typeface="Century Gothic"/>
              </a:rPr>
              <a:t>SOCIAAL MEDISCH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IJL-OMHOOG 36"/>
          <p:cNvSpPr/>
          <p:nvPr/>
        </p:nvSpPr>
        <p:spPr>
          <a:xfrm>
            <a:off x="7020000" y="4221000"/>
            <a:ext cx="144360" cy="287640"/>
          </a:xfrm>
          <a:prstGeom prst="upArrow">
            <a:avLst>
              <a:gd name="adj1" fmla="val 50000"/>
              <a:gd name="adj2" fmla="val 50089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Gebogen PIJL-OMHOOG 37"/>
          <p:cNvSpPr/>
          <p:nvPr/>
        </p:nvSpPr>
        <p:spPr>
          <a:xfrm flipH="1" rot="10800000">
            <a:off x="5651640" y="1557360"/>
            <a:ext cx="1728720" cy="1224000"/>
          </a:xfrm>
          <a:custGeom>
            <a:avLst/>
            <a:gdLst/>
            <a:ahLst/>
            <a:rect l="l" t="t" r="r" b="b"/>
            <a:pathLst>
              <a:path w="1728788" h="1223962">
                <a:moveTo>
                  <a:pt x="0" y="1107722"/>
                </a:moveTo>
                <a:lnTo>
                  <a:pt x="1403489" y="1107722"/>
                </a:lnTo>
                <a:lnTo>
                  <a:pt x="1403489" y="176618"/>
                </a:lnTo>
                <a:lnTo>
                  <a:pt x="1194431" y="176618"/>
                </a:lnTo>
                <a:lnTo>
                  <a:pt x="1461609" y="0"/>
                </a:lnTo>
                <a:lnTo>
                  <a:pt x="1728788" y="176618"/>
                </a:lnTo>
                <a:lnTo>
                  <a:pt x="1519729" y="176618"/>
                </a:lnTo>
                <a:lnTo>
                  <a:pt x="1519729" y="1223962"/>
                </a:lnTo>
                <a:lnTo>
                  <a:pt x="0" y="1223962"/>
                </a:lnTo>
                <a:lnTo>
                  <a:pt x="0" y="1107722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Rechte verbindingslijn met pijl 38"/>
          <p:cNvCxnSpPr/>
          <p:nvPr/>
        </p:nvCxnSpPr>
        <p:spPr>
          <a:xfrm>
            <a:off x="7524720" y="3573000"/>
            <a:ext cx="43272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66" name="Rechthoek 40" descr=""/>
          <p:cNvPicPr/>
          <p:nvPr/>
        </p:nvPicPr>
        <p:blipFill>
          <a:blip r:embed="rId3"/>
          <a:stretch/>
        </p:blipFill>
        <p:spPr>
          <a:xfrm>
            <a:off x="7948440" y="2779560"/>
            <a:ext cx="738360" cy="1659240"/>
          </a:xfrm>
          <a:prstGeom prst="rect">
            <a:avLst/>
          </a:prstGeom>
          <a:ln w="0">
            <a:noFill/>
          </a:ln>
        </p:spPr>
      </p:pic>
      <p:sp>
        <p:nvSpPr>
          <p:cNvPr id="367" name="Lijntoelichting 1 2"/>
          <p:cNvSpPr/>
          <p:nvPr/>
        </p:nvSpPr>
        <p:spPr>
          <a:xfrm>
            <a:off x="1547640" y="2403360"/>
            <a:ext cx="2592720" cy="324000"/>
          </a:xfrm>
          <a:prstGeom prst="borderCallout1">
            <a:avLst>
              <a:gd name="adj1" fmla="val 18750"/>
              <a:gd name="adj2" fmla="val -8333"/>
              <a:gd name="adj3" fmla="val -303800"/>
              <a:gd name="adj4" fmla="val -3699"/>
            </a:avLst>
          </a:prstGeom>
          <a:solidFill>
            <a:srgbClr val="94c600">
              <a:alpha val="45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72103"/>
                </a:solidFill>
                <a:latin typeface="Century Gothic"/>
              </a:rPr>
              <a:t>Werkstructurering / motiva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jntoelichting 2 (rand en accentlijn) 4"/>
          <p:cNvSpPr/>
          <p:nvPr/>
        </p:nvSpPr>
        <p:spPr>
          <a:xfrm>
            <a:off x="7331040" y="944640"/>
            <a:ext cx="1273320" cy="1368360"/>
          </a:xfrm>
          <a:solidFill>
            <a:srgbClr val="dff7ae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72103"/>
                </a:solidFill>
                <a:latin typeface="Century Gothic"/>
              </a:rPr>
              <a:t>Registr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72103"/>
                </a:solidFill>
                <a:latin typeface="Century Gothic"/>
              </a:rPr>
              <a:t>Gesprek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68360" y="1773360"/>
          <a:ext cx="8218440" cy="2582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46240"/>
              </a:tblGrid>
              <a:tr h="47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EV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IEK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 INTEGR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IS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elke maatregel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RI  &amp; E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ARB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istr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egelei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ericht op snelle terugkeer + voorkomen terug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RSO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itaal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ARB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lles gericht op snelle terugk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t gaat de medewerker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4 A’s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inhoud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: afwisseling, inspraak, POP en PAP, brede of smalle functie, duidelijkheid func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verhouding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relatie met leidinggevende. Type Leidinggevende. Relatie collega’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omstandighed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werkdruk en slechte omstandigheden ( kou, tocht, computers, ed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voorwaard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materiële en niet materiële belon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5:24:57Z</dcterms:created>
  <dc:creator>5225</dc:creator>
  <dc:description/>
  <dc:language>en-US</dc:language>
  <cp:lastModifiedBy>Johan van der Steen</cp:lastModifiedBy>
  <dcterms:modified xsi:type="dcterms:W3CDTF">2014-08-25T12:06:47Z</dcterms:modified>
  <cp:revision>11</cp:revision>
  <dc:subject/>
  <dc:title>Ziekteverzuim</dc:title>
</cp:coreProperties>
</file>