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B7F-6AC0-4CED-B1B1-B74F3442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1D9-6D6C-40A5-9727-3F1B4D19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6D9-53CB-4CE3-93D4-E04F86EF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627-E4C2-4804-9B80-CCA9F987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DCF2-A990-476D-8F5F-7C30D064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7105-2733-4617-B129-639C0F18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AF31-F971-4552-91CB-F2B48FEE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BE9C-007C-4A3B-A109-C7904299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E5ED-3247-4FF6-A85B-21942FC6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BEF8-64E2-4D98-99D9-DA574211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F839-49C2-4B85-95F3-6D9FB49B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740-84F1-451E-BA41-819CAD7F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570C-7FFB-455C-B45F-59D20B61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492E-2FD7-4BBC-B244-B7CE9D6A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5637-B72B-4FF8-84B8-727A8C8E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9233-E416-4078-A6A0-A01A3BE7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DC45-3C14-4A90-A9BA-F37599C7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6AA58-BFC8-4E13-9ABE-4E9A355D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3B2F8-5365-4240-85FE-EF680553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D0516-C2DE-47CF-B5D3-FA445592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FAE29-4285-4E63-96B2-3B446587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154FD-B868-4F5C-B53B-0ACB95A1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C1A-2D38-49D3-816F-9BD424AE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2A019-E915-4CD0-BECF-996F814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F5FF1-D605-4073-B7CC-493D7D1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D7028-73F8-4931-A61E-B50854F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39A0C-3622-496D-AEFD-1C22FDB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F7CB1-E3FD-46E7-B89B-F2248FEA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C363D-66E4-4081-9CBE-2C5A5D2F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39CCC-66C0-4FDC-B1C8-AB1EA31E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2A82-67D5-403B-880E-7B98F98C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90314-55C1-433B-9941-3B34EA87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4F280-1B38-481F-BA85-45C5C276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6B4-8A89-4583-8789-BADCBEED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EA17-BA8C-41F8-822A-0FB0D495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3FAB-46C7-48ED-8761-35644D1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B825B-582C-444C-94D1-3A855891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D820F-28D0-48F5-BEAC-CAEB384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7E0B-09B3-46AF-AE7B-0A89275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9C03-5917-41BC-998A-0E81004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EED0-6BC1-4896-ABAE-A3D590BB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C468-9BED-4CF1-B9FD-AA4A10C8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10558-65B8-4766-B8DC-BF3AA814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8BB-D0B2-4AB0-8191-F2A30A43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B18-13B6-4660-865D-EAFF3E44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BB9-AE2C-4592-A89F-703F0FCE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662-0A0D-492B-A488-ED6B694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617-BC64-4D77-8A89-E202BE9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C5C2-9D49-428C-AA1A-68C5B059C051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17C4-7A18-432F-81BB-B057D4192AAA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B17E-97A3-4E0F-9114-E6A8572B5DFC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7A20-F4C1-44B6-9AC1-E9FB310CFA39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BELEID EN REGISTRATI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DREMPEL EN HERVATTINGSDREMPE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PDRACHT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Geef in het kort weer hoe jullie verzuimbeleid er uit ziet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Doel van het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Op welke onderdelen is beleid gerich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Hoe wordt ziekte geregistreer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Wie is casemanage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WAAROM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Terugdringen van ziekteverzui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sten van ziekte / vervanging / boetes / premies beper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yaliteit werknemers aan het bedrij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mago bedrijf ( naar buiten to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ersoneelsbeleid is integraal onderdeel van totale belei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e mogen straks langer doorwerken……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NDERDELEN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even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ocedure ziekmeld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geleiding ( re integrati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REGISTREREN ZIEKTE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verloopt de procedur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voorwaarde om zicht te krijgen op oorzak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juridisch noodzakelijk ( bv. UWV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put voor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eer elke ziekte + oorzaak. Ook van belang i.v.m. doortellen van ziektedagen ( incl dagen tussen ziekte 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nk aan stopzetten reiskostenvergoed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Afgeronde rechthoek 3"/>
          <p:cNvSpPr/>
          <p:nvPr/>
        </p:nvSpPr>
        <p:spPr>
          <a:xfrm>
            <a:off x="684360" y="1268280"/>
            <a:ext cx="3382920" cy="108108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Arbeidsbe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werkdruk/werkte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structuur : functieomschrijv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fgeronde rechthoek 5"/>
          <p:cNvSpPr/>
          <p:nvPr/>
        </p:nvSpPr>
        <p:spPr>
          <a:xfrm>
            <a:off x="684360" y="4797360"/>
            <a:ext cx="3382920" cy="107964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Belas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onverwacht/stress/ar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competenties/arbo/RI&amp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hte verbindingslijn 7"/>
          <p:cNvSpPr/>
          <p:nvPr/>
        </p:nvSpPr>
        <p:spPr>
          <a:xfrm>
            <a:off x="1116000" y="2349360"/>
            <a:ext cx="0" cy="2448000"/>
          </a:xfrm>
          <a:prstGeom prst="line">
            <a:avLst/>
          </a:prstGeom>
          <a:ln w="507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Rechte verbindingslijn met pijl 9"/>
          <p:cNvCxnSpPr/>
          <p:nvPr/>
        </p:nvCxnSpPr>
        <p:spPr>
          <a:xfrm>
            <a:off x="1116000" y="3573000"/>
            <a:ext cx="50400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51" name="Rechthoek 10"/>
          <p:cNvSpPr/>
          <p:nvPr/>
        </p:nvSpPr>
        <p:spPr>
          <a:xfrm>
            <a:off x="1619280" y="2852640"/>
            <a:ext cx="180036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KLACHT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Psychisch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Rechte verbindingslijn met pijl 12"/>
          <p:cNvCxnSpPr/>
          <p:nvPr/>
        </p:nvCxnSpPr>
        <p:spPr>
          <a:xfrm>
            <a:off x="3419280" y="3573000"/>
            <a:ext cx="64836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53" name="Rechthoek 13" descr=""/>
          <p:cNvPicPr/>
          <p:nvPr/>
        </p:nvPicPr>
        <p:blipFill>
          <a:blip r:embed="rId1"/>
          <a:stretch/>
        </p:blipFill>
        <p:spPr>
          <a:xfrm>
            <a:off x="4059360" y="2846520"/>
            <a:ext cx="823680" cy="1384200"/>
          </a:xfrm>
          <a:prstGeom prst="rect">
            <a:avLst/>
          </a:prstGeom>
          <a:ln w="0">
            <a:noFill/>
          </a:ln>
        </p:spPr>
      </p:pic>
      <p:sp>
        <p:nvSpPr>
          <p:cNvPr id="354" name="Rechthoek 14"/>
          <p:cNvSpPr/>
          <p:nvPr/>
        </p:nvSpPr>
        <p:spPr>
          <a:xfrm>
            <a:off x="4140360" y="4508640"/>
            <a:ext cx="143964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Verzuim gelegen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(regeling bekend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IJL-OMHOOG 15"/>
          <p:cNvSpPr/>
          <p:nvPr/>
        </p:nvSpPr>
        <p:spPr>
          <a:xfrm>
            <a:off x="442764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17"/>
          <p:cNvSpPr/>
          <p:nvPr/>
        </p:nvSpPr>
        <p:spPr>
          <a:xfrm>
            <a:off x="4284720" y="1197000"/>
            <a:ext cx="136692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Tevredenheid  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en cultu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IJL-OMHOOG 19"/>
          <p:cNvSpPr/>
          <p:nvPr/>
        </p:nvSpPr>
        <p:spPr>
          <a:xfrm flipH="1" rot="10800000">
            <a:off x="4426560" y="2565360"/>
            <a:ext cx="144360" cy="2872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0"/>
          <p:cNvSpPr/>
          <p:nvPr/>
        </p:nvSpPr>
        <p:spPr>
          <a:xfrm>
            <a:off x="5292720" y="2852640"/>
            <a:ext cx="100800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entury Gothic"/>
              </a:rPr>
              <a:t>Verzuim g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Rechte verbindingslijn met pijl 21"/>
          <p:cNvCxnSpPr>
            <a:stCxn id="353" idx="3"/>
            <a:endCxn id="358" idx="1"/>
          </p:cNvCxnSpPr>
          <p:nvPr/>
        </p:nvCxnSpPr>
        <p:spPr>
          <a:xfrm>
            <a:off x="4859280" y="3537000"/>
            <a:ext cx="434160" cy="216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0" name="Rechthoek 31" descr=""/>
          <p:cNvPicPr/>
          <p:nvPr/>
        </p:nvPicPr>
        <p:blipFill>
          <a:blip r:embed="rId2"/>
          <a:stretch/>
        </p:blipFill>
        <p:spPr>
          <a:xfrm>
            <a:off x="6724800" y="2682720"/>
            <a:ext cx="809640" cy="1621080"/>
          </a:xfrm>
          <a:prstGeom prst="rect">
            <a:avLst/>
          </a:prstGeom>
          <a:ln w="0">
            <a:noFill/>
          </a:ln>
        </p:spPr>
      </p:pic>
      <p:cxnSp>
        <p:nvCxnSpPr>
          <p:cNvPr id="361" name="Rechte verbindingslijn met pijl 33"/>
          <p:cNvCxnSpPr/>
          <p:nvPr/>
        </p:nvCxnSpPr>
        <p:spPr>
          <a:xfrm>
            <a:off x="6300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62" name="Rechthoek 35"/>
          <p:cNvSpPr/>
          <p:nvPr/>
        </p:nvSpPr>
        <p:spPr>
          <a:xfrm>
            <a:off x="6300720" y="4508640"/>
            <a:ext cx="144000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7f3400"/>
                </a:solidFill>
                <a:latin typeface="Century Gothic"/>
              </a:rPr>
              <a:t>SOCIAAL MEDISCH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IJL-OMHOOG 36"/>
          <p:cNvSpPr/>
          <p:nvPr/>
        </p:nvSpPr>
        <p:spPr>
          <a:xfrm>
            <a:off x="702000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Gebogen PIJL-OMHOOG 37"/>
          <p:cNvSpPr/>
          <p:nvPr/>
        </p:nvSpPr>
        <p:spPr>
          <a:xfrm flipH="1" rot="10800000">
            <a:off x="5651640" y="1557360"/>
            <a:ext cx="1728720" cy="1224000"/>
          </a:xfrm>
          <a:custGeom>
            <a:avLst/>
            <a:gdLst/>
            <a:ahLst/>
            <a:rect l="l" t="t" r="r" b="b"/>
            <a:pathLst>
              <a:path w="1728788" h="1223962">
                <a:moveTo>
                  <a:pt x="0" y="1107722"/>
                </a:moveTo>
                <a:lnTo>
                  <a:pt x="1403489" y="1107722"/>
                </a:lnTo>
                <a:lnTo>
                  <a:pt x="1403489" y="176618"/>
                </a:lnTo>
                <a:lnTo>
                  <a:pt x="1194431" y="176618"/>
                </a:lnTo>
                <a:lnTo>
                  <a:pt x="1461609" y="0"/>
                </a:lnTo>
                <a:lnTo>
                  <a:pt x="1728788" y="176618"/>
                </a:lnTo>
                <a:lnTo>
                  <a:pt x="1519729" y="176618"/>
                </a:lnTo>
                <a:lnTo>
                  <a:pt x="1519729" y="1223962"/>
                </a:lnTo>
                <a:lnTo>
                  <a:pt x="0" y="1223962"/>
                </a:lnTo>
                <a:lnTo>
                  <a:pt x="0" y="1107722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Rechte verbindingslijn met pijl 38"/>
          <p:cNvCxnSpPr/>
          <p:nvPr/>
        </p:nvCxnSpPr>
        <p:spPr>
          <a:xfrm>
            <a:off x="7524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6" name="Rechthoek 40" descr=""/>
          <p:cNvPicPr/>
          <p:nvPr/>
        </p:nvPicPr>
        <p:blipFill>
          <a:blip r:embed="rId3"/>
          <a:stretch/>
        </p:blipFill>
        <p:spPr>
          <a:xfrm>
            <a:off x="7948440" y="2779560"/>
            <a:ext cx="738360" cy="1659240"/>
          </a:xfrm>
          <a:prstGeom prst="rect">
            <a:avLst/>
          </a:prstGeom>
          <a:ln w="0">
            <a:noFill/>
          </a:ln>
        </p:spPr>
      </p:pic>
      <p:sp>
        <p:nvSpPr>
          <p:cNvPr id="367" name="Lijntoelichting 1 2"/>
          <p:cNvSpPr/>
          <p:nvPr/>
        </p:nvSpPr>
        <p:spPr>
          <a:xfrm>
            <a:off x="1547640" y="2403360"/>
            <a:ext cx="2592720" cy="324000"/>
          </a:xfrm>
          <a:prstGeom prst="borderCallout1">
            <a:avLst>
              <a:gd name="adj1" fmla="val 18750"/>
              <a:gd name="adj2" fmla="val -8333"/>
              <a:gd name="adj3" fmla="val -303800"/>
              <a:gd name="adj4" fmla="val -3699"/>
            </a:avLst>
          </a:prstGeom>
          <a:solidFill>
            <a:srgbClr val="94c600">
              <a:alpha val="45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72103"/>
                </a:solidFill>
                <a:latin typeface="Century Gothic"/>
              </a:rPr>
              <a:t>Werkstructurering / motiv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jntoelichting 2 (rand en accentlijn) 4"/>
          <p:cNvSpPr/>
          <p:nvPr/>
        </p:nvSpPr>
        <p:spPr>
          <a:xfrm>
            <a:off x="7331040" y="944640"/>
            <a:ext cx="1273320" cy="1368360"/>
          </a:xfrm>
          <a:solidFill>
            <a:srgbClr val="dff7ae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Regist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Gesprek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8360" y="1773360"/>
          <a:ext cx="8218440" cy="2582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4624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V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EK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 INTEG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S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lke maatregel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RI  &amp; 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st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gele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icht op snelle terugkeer + voorkomen terug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SO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taal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lles gericht op snelle terugk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t gaat de medewerker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4 A’s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inhoud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: afwisseling, inspraak, POP en PAP, brede of smalle functie, duidelijkheid fun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erhouding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relatie met leidinggevende. Type Leidinggevende. Relatie collega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omstandighe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werkdruk en slechte omstandigheden ( kou, tocht, computers, ed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oorwaar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materiële en niet materiële belo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5:24:57Z</dcterms:created>
  <dc:creator>5225</dc:creator>
  <dc:description/>
  <dc:language>en-US</dc:language>
  <cp:lastModifiedBy>Johan van der Steen</cp:lastModifiedBy>
  <dcterms:modified xsi:type="dcterms:W3CDTF">2014-08-25T12:06:47Z</dcterms:modified>
  <cp:revision>11</cp:revision>
  <dc:subject/>
  <dc:title>Ziekteverzuim</dc:title>
</cp:coreProperties>
</file>