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300-EE20-45B3-BEB4-9AB29623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7CF-2AD8-4818-9482-6E16BD64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FB5-D064-4DC0-BCE7-C35E5E31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91D-3BF4-4645-9AE1-83578066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465B-E866-4FD6-B31B-29BECA37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5A0F-F739-4F53-948D-1C4A6118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05E0-99BE-4B04-83E2-803F2321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DFE1-3A97-484E-8CA7-7E4EAFEE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17A8-9DB8-47FF-A381-D62D7E5E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3440-8533-450E-BC91-D8DFF32A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622E-5694-409A-9BE7-26A746C0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5B7-5E02-40B6-B136-42865155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DB2E-AAD1-4CC8-8C01-7D870E9B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4E6E-0882-4DC8-A6D6-EDFDF5BD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63E1-0ECF-44A2-993E-E79B5A68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1C37-AF53-4AF5-8A9C-F6B77E933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2C6C-0179-4F63-9E74-52B56EA8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5D220-5702-4149-ACFA-5B2FBFAC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E6FC5-457B-42FC-B422-5DA1D8EC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2A1D8-31BA-4B67-AE9B-10DE3FF6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D47C9-520A-4BE4-9AAC-4D069C94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C7356-465C-4AE1-829C-13F1349F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D82-A8CF-47A5-9E15-DC312E3A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DF688-AC72-4EFD-A518-6FD614EB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18E96-06FB-4116-842F-8CE56BE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8A8D6-A2B5-40E9-9F64-DEBE5AA2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39BE3-51EB-4984-98C9-12405343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6D282D-922B-4C34-B589-990CE3DA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F3C2B-4C9E-40E9-92B1-6998B061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909E0-E1D5-464A-ACD0-CD1849AC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14D4D-EE2F-4B8A-AC12-D5CBD457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91B58-3B47-4226-8AD7-E9F5AA56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F0987-4AB0-4801-83CF-F64CC16D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44D-A169-430F-909A-CFA2FF86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7D741-CFFE-4DB7-BACE-AC1E7801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7DA59-15F6-4186-A733-EC8577B3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1B44E-6251-481C-8604-60A22BA1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7475A-B630-4A1C-8E77-609EC219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F71E-71D9-4506-A97E-E3658667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738F-C13D-4E5B-94D6-683F831C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D910-26FF-4E06-BFC3-A5A17434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EB69E-14F2-4AD5-93C6-39295CDD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64B1-C550-4B5C-B3FF-33CABD6E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99B-6541-4151-A014-5148AEA2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835-4FE4-4A72-869D-0BB9F2CD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E6B-85AC-4597-8DC4-A795EF24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469-FB7B-46FE-97D2-2DC3A524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B28-1F37-46BF-9829-8C118229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96FE-87FD-4460-B813-B410B20DF79A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8B64-FF25-469E-BAC4-E8B90BBEF0B9}" type="slidenum">
              <a:rPr b="0" lang="nl-NL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9BCF-7C0E-47AA-B912-8F68354EBAF5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EA19-4390-44B4-B10A-8646A0C24BCB}" type="slidenum">
              <a:rPr b="0" lang="nl-NL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BELEID EN REGISTRATIE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424242"/>
                </a:solidFill>
                <a:latin typeface="Century Gothic"/>
              </a:rPr>
              <a:t>VERZUIMDREMPEL EN HERVATTINGSDREMPEL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PDRACHT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Geef in het kort weer hoe jullie verzuimbeleid er uit ziet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Doel van het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Op welke onderdelen is beleid gerich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Hoe wordt ziekte geregistreerd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3e3d2d"/>
                </a:solidFill>
                <a:latin typeface="Century Gothic"/>
              </a:rPr>
              <a:t>Wie is casemanager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WAAROM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Terugdringen van ziekteverzui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Kosten van ziekte / vervanging / boetes / premies beperk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Loyaliteit werknemers aan het bedrij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mago bedrijf ( naar buiten to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ersoneelsbeleid is integraal onderdeel van totale belei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We mogen straks langer doorwerken……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ONDERDELEN VERZUIMBELEID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even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Procedure ziekmeld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Begeleiding ( re integratie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e3d2d"/>
                </a:solidFill>
                <a:latin typeface="Century Gothic"/>
              </a:rPr>
              <a:t>REGISTREREN ZIEKTE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Hoe verloopt de procedure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voorwaarde om zicht te krijgen op oorzake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atie is juridisch noodzakelijk ( bv. UWV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Input voor belei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Registreer elke ziekte + oorzaak. Ook van belang i.v.m. doortellen van ziektedagen ( incl dagen tussen ziekte 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Denk aan stopzetten reiskostenvergoeding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7" name="Afgeronde rechthoek 3"/>
          <p:cNvSpPr/>
          <p:nvPr/>
        </p:nvSpPr>
        <p:spPr>
          <a:xfrm>
            <a:off x="684360" y="1268280"/>
            <a:ext cx="3382920" cy="108108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Arbeidsbel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werkdruk/werktemp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structuur : functieomschrijv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fgeronde rechthoek 5"/>
          <p:cNvSpPr/>
          <p:nvPr/>
        </p:nvSpPr>
        <p:spPr>
          <a:xfrm>
            <a:off x="684360" y="4797360"/>
            <a:ext cx="3382920" cy="1079640"/>
          </a:xfrm>
          <a:prstGeom prst="roundRect">
            <a:avLst>
              <a:gd name="adj" fmla="val 16667"/>
            </a:avLst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Belas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onverwacht/stress/ar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(competenties/arbo/RI&amp;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hte verbindingslijn 7"/>
          <p:cNvSpPr/>
          <p:nvPr/>
        </p:nvSpPr>
        <p:spPr>
          <a:xfrm>
            <a:off x="1116000" y="2349360"/>
            <a:ext cx="0" cy="2448000"/>
          </a:xfrm>
          <a:prstGeom prst="line">
            <a:avLst/>
          </a:prstGeom>
          <a:ln w="507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Rechte verbindingslijn met pijl 9"/>
          <p:cNvCxnSpPr/>
          <p:nvPr/>
        </p:nvCxnSpPr>
        <p:spPr>
          <a:xfrm>
            <a:off x="1116000" y="3573000"/>
            <a:ext cx="50400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51" name="Rechthoek 10"/>
          <p:cNvSpPr/>
          <p:nvPr/>
        </p:nvSpPr>
        <p:spPr>
          <a:xfrm>
            <a:off x="1619280" y="2852640"/>
            <a:ext cx="180036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KLACHT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Psychisch en gezond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Rechte verbindingslijn met pijl 12"/>
          <p:cNvCxnSpPr/>
          <p:nvPr/>
        </p:nvCxnSpPr>
        <p:spPr>
          <a:xfrm>
            <a:off x="3419280" y="3573000"/>
            <a:ext cx="64836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53" name="Rechthoek 13" descr=""/>
          <p:cNvPicPr/>
          <p:nvPr/>
        </p:nvPicPr>
        <p:blipFill>
          <a:blip r:embed="rId1"/>
          <a:stretch/>
        </p:blipFill>
        <p:spPr>
          <a:xfrm>
            <a:off x="4059360" y="2846520"/>
            <a:ext cx="823680" cy="1384200"/>
          </a:xfrm>
          <a:prstGeom prst="rect">
            <a:avLst/>
          </a:prstGeom>
          <a:ln w="0">
            <a:noFill/>
          </a:ln>
        </p:spPr>
      </p:pic>
      <p:sp>
        <p:nvSpPr>
          <p:cNvPr id="354" name="Rechthoek 14"/>
          <p:cNvSpPr/>
          <p:nvPr/>
        </p:nvSpPr>
        <p:spPr>
          <a:xfrm>
            <a:off x="4140360" y="4508640"/>
            <a:ext cx="143964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Verzuim gelegenhe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(regeling bekend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IJL-OMHOOG 15"/>
          <p:cNvSpPr/>
          <p:nvPr/>
        </p:nvSpPr>
        <p:spPr>
          <a:xfrm>
            <a:off x="442764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17"/>
          <p:cNvSpPr/>
          <p:nvPr/>
        </p:nvSpPr>
        <p:spPr>
          <a:xfrm>
            <a:off x="4284720" y="1197000"/>
            <a:ext cx="136692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Tevredenheid  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7f3400"/>
                </a:solidFill>
                <a:latin typeface="Century Gothic"/>
              </a:rPr>
              <a:t>en cultu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IJL-OMHOOG 19"/>
          <p:cNvSpPr/>
          <p:nvPr/>
        </p:nvSpPr>
        <p:spPr>
          <a:xfrm flipH="1" rot="10800000">
            <a:off x="4426560" y="2565360"/>
            <a:ext cx="144360" cy="287280"/>
          </a:xfrm>
          <a:prstGeom prst="upArrow">
            <a:avLst>
              <a:gd name="adj1" fmla="val 50000"/>
              <a:gd name="adj2" fmla="val 50027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0"/>
          <p:cNvSpPr/>
          <p:nvPr/>
        </p:nvSpPr>
        <p:spPr>
          <a:xfrm>
            <a:off x="5292720" y="2852640"/>
            <a:ext cx="1008000" cy="1368360"/>
          </a:xfrm>
          <a:prstGeom prst="rect">
            <a:avLst/>
          </a:prstGeom>
          <a:solidFill>
            <a:srgbClr val="efffc1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Century Gothic"/>
              </a:rPr>
              <a:t>Verzuim ge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Rechte verbindingslijn met pijl 21"/>
          <p:cNvCxnSpPr>
            <a:stCxn id="353" idx="3"/>
            <a:endCxn id="358" idx="1"/>
          </p:cNvCxnSpPr>
          <p:nvPr/>
        </p:nvCxnSpPr>
        <p:spPr>
          <a:xfrm>
            <a:off x="4859280" y="3537000"/>
            <a:ext cx="434160" cy="216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0" name="Rechthoek 31" descr=""/>
          <p:cNvPicPr/>
          <p:nvPr/>
        </p:nvPicPr>
        <p:blipFill>
          <a:blip r:embed="rId2"/>
          <a:stretch/>
        </p:blipFill>
        <p:spPr>
          <a:xfrm>
            <a:off x="6724800" y="2682720"/>
            <a:ext cx="809640" cy="1621080"/>
          </a:xfrm>
          <a:prstGeom prst="rect">
            <a:avLst/>
          </a:prstGeom>
          <a:ln w="0">
            <a:noFill/>
          </a:ln>
        </p:spPr>
      </p:pic>
      <p:cxnSp>
        <p:nvCxnSpPr>
          <p:cNvPr id="361" name="Rechte verbindingslijn met pijl 33"/>
          <p:cNvCxnSpPr/>
          <p:nvPr/>
        </p:nvCxnSpPr>
        <p:spPr>
          <a:xfrm>
            <a:off x="6300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sp>
        <p:nvSpPr>
          <p:cNvPr id="362" name="Rechthoek 35"/>
          <p:cNvSpPr/>
          <p:nvPr/>
        </p:nvSpPr>
        <p:spPr>
          <a:xfrm>
            <a:off x="6300720" y="4508640"/>
            <a:ext cx="1440000" cy="1368360"/>
          </a:xfrm>
          <a:prstGeom prst="rect">
            <a:avLst/>
          </a:prstGeom>
          <a:solidFill>
            <a:srgbClr val="ffecd3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7f3400"/>
                </a:solidFill>
                <a:latin typeface="Century Gothic"/>
              </a:rPr>
              <a:t>SOCIAAL MEDISCH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IJL-OMHOOG 36"/>
          <p:cNvSpPr/>
          <p:nvPr/>
        </p:nvSpPr>
        <p:spPr>
          <a:xfrm>
            <a:off x="7020000" y="4221000"/>
            <a:ext cx="144360" cy="287640"/>
          </a:xfrm>
          <a:prstGeom prst="upArrow">
            <a:avLst>
              <a:gd name="adj1" fmla="val 50000"/>
              <a:gd name="adj2" fmla="val 50089"/>
            </a:avLst>
          </a:prstGeom>
          <a:solidFill>
            <a:srgbClr val="94c6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Gebogen PIJL-OMHOOG 37"/>
          <p:cNvSpPr/>
          <p:nvPr/>
        </p:nvSpPr>
        <p:spPr>
          <a:xfrm flipH="1" rot="10800000">
            <a:off x="5651640" y="1557360"/>
            <a:ext cx="1728720" cy="1224000"/>
          </a:xfrm>
          <a:custGeom>
            <a:avLst/>
            <a:gdLst/>
            <a:ahLst/>
            <a:rect l="l" t="t" r="r" b="b"/>
            <a:pathLst>
              <a:path w="1728788" h="1223962">
                <a:moveTo>
                  <a:pt x="0" y="1107722"/>
                </a:moveTo>
                <a:lnTo>
                  <a:pt x="1403489" y="1107722"/>
                </a:lnTo>
                <a:lnTo>
                  <a:pt x="1403489" y="176618"/>
                </a:lnTo>
                <a:lnTo>
                  <a:pt x="1194431" y="176618"/>
                </a:lnTo>
                <a:lnTo>
                  <a:pt x="1461609" y="0"/>
                </a:lnTo>
                <a:lnTo>
                  <a:pt x="1728788" y="176618"/>
                </a:lnTo>
                <a:lnTo>
                  <a:pt x="1519729" y="176618"/>
                </a:lnTo>
                <a:lnTo>
                  <a:pt x="1519729" y="1223962"/>
                </a:lnTo>
                <a:lnTo>
                  <a:pt x="0" y="1223962"/>
                </a:lnTo>
                <a:lnTo>
                  <a:pt x="0" y="1107722"/>
                </a:lnTo>
                <a:close/>
              </a:path>
            </a:pathLst>
          </a:custGeom>
          <a:solidFill>
            <a:srgbClr val="94c600"/>
          </a:solidFill>
          <a:ln w="15840">
            <a:solidFill>
              <a:srgbClr val="6b91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Rechte verbindingslijn met pijl 38"/>
          <p:cNvCxnSpPr/>
          <p:nvPr/>
        </p:nvCxnSpPr>
        <p:spPr>
          <a:xfrm>
            <a:off x="7524720" y="3573000"/>
            <a:ext cx="432720" cy="2520"/>
          </a:xfrm>
          <a:prstGeom prst="straightConnector1">
            <a:avLst/>
          </a:prstGeom>
          <a:ln w="38160">
            <a:solidFill>
              <a:srgbClr val="94c600"/>
            </a:solidFill>
            <a:miter/>
            <a:tailEnd len="med" type="arrow" w="med"/>
          </a:ln>
        </p:spPr>
      </p:cxnSp>
      <p:pic>
        <p:nvPicPr>
          <p:cNvPr id="366" name="Rechthoek 40" descr=""/>
          <p:cNvPicPr/>
          <p:nvPr/>
        </p:nvPicPr>
        <p:blipFill>
          <a:blip r:embed="rId3"/>
          <a:stretch/>
        </p:blipFill>
        <p:spPr>
          <a:xfrm>
            <a:off x="7948440" y="2779560"/>
            <a:ext cx="738360" cy="1659240"/>
          </a:xfrm>
          <a:prstGeom prst="rect">
            <a:avLst/>
          </a:prstGeom>
          <a:ln w="0">
            <a:noFill/>
          </a:ln>
        </p:spPr>
      </p:pic>
      <p:sp>
        <p:nvSpPr>
          <p:cNvPr id="367" name="Lijntoelichting 1 2"/>
          <p:cNvSpPr/>
          <p:nvPr/>
        </p:nvSpPr>
        <p:spPr>
          <a:xfrm>
            <a:off x="1547640" y="2403360"/>
            <a:ext cx="2592720" cy="324000"/>
          </a:xfrm>
          <a:prstGeom prst="borderCallout1">
            <a:avLst>
              <a:gd name="adj1" fmla="val 18750"/>
              <a:gd name="adj2" fmla="val -8333"/>
              <a:gd name="adj3" fmla="val -303800"/>
              <a:gd name="adj4" fmla="val -3699"/>
            </a:avLst>
          </a:prstGeom>
          <a:solidFill>
            <a:srgbClr val="94c600">
              <a:alpha val="45000"/>
            </a:srgbClr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72103"/>
                </a:solidFill>
                <a:latin typeface="Century Gothic"/>
              </a:rPr>
              <a:t>Werkstructurering / motivat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jntoelichting 2 (rand en accentlijn) 4"/>
          <p:cNvSpPr/>
          <p:nvPr/>
        </p:nvSpPr>
        <p:spPr>
          <a:xfrm>
            <a:off x="7331040" y="944640"/>
            <a:ext cx="1273320" cy="1368360"/>
          </a:xfrm>
          <a:solidFill>
            <a:srgbClr val="dff7ae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Registra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72103"/>
                </a:solidFill>
                <a:latin typeface="Century Gothic"/>
              </a:rPr>
              <a:t>Gesprek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8360" y="1773360"/>
          <a:ext cx="8218440" cy="2582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46240"/>
              </a:tblGrid>
              <a:tr h="479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PREVEN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ZIEK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 INTEG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S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elke maatregel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RI  &amp; 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st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egelei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richt op snelle terugkeer + voorkomen terug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SO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taal z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 ARB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e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lles gericht op snelle terugke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at gaat de medewerker doe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94c600"/>
                </a:solidFill>
                <a:latin typeface="Century Gothic"/>
              </a:rPr>
              <a:t>Ziekteverzuim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4 A’s 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inhoud 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: afwisseling, inspraak, POP en PAP, brede of smalle functie, duidelijkheid functi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erhouding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relatie met leidinggevende. Type Leidinggevende. Relatie collega’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omstandighe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werkdruk en slechte omstandigheden ( kou, tocht, computers, ed 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3e3d2d"/>
                </a:solidFill>
                <a:uFillTx/>
                <a:latin typeface="Century Gothic"/>
              </a:rPr>
              <a:t>Arbeidsvoorwaarden</a:t>
            </a:r>
            <a:r>
              <a:rPr b="0" lang="nl-NL" sz="2400" spc="-1" strike="noStrike">
                <a:solidFill>
                  <a:srgbClr val="3e3d2d"/>
                </a:solidFill>
                <a:latin typeface="Century Gothic"/>
              </a:rPr>
              <a:t> : materiële en niet materiële belo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5:24:57Z</dcterms:created>
  <dc:creator>5225</dc:creator>
  <dc:description/>
  <dc:language>en-US</dc:language>
  <cp:lastModifiedBy>Johan van der Steen</cp:lastModifiedBy>
  <dcterms:modified xsi:type="dcterms:W3CDTF">2014-08-25T12:06:47Z</dcterms:modified>
  <cp:revision>11</cp:revision>
  <dc:subject/>
  <dc:title>Ziekteverzuim</dc:title>
</cp:coreProperties>
</file>