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E0D4-5F08-4242-82F0-EF17F0CC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9163-16FF-4A65-92B8-B2718A09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7D49-FB39-4E2E-B771-1CB3EE72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7A46-764A-4EB3-BA0D-8F8031F1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762B-515E-4020-AFB1-AB3934DA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8659-D9C5-4FB3-B7DD-2574A07D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3AB1-47E4-4583-BD0C-5887D9BF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19EF-44B2-4E80-9B72-F406CA14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E147-2854-4B14-8DD9-D5189479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E35A-8D91-4714-AB27-D4B19682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817C-3D1C-4EA6-AA10-ED402204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B3B3-93CD-4B1A-A19F-824C63F6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4122">
            <a:alpha val="9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2A3D-004D-43D4-A79C-CEAE19EF7D6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Persoonlijke voornaamwoorden: hij/zij/he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 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t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 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bben het druk . (dus niet: hun hebben!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bedrijf is failliet. </a:t>
            </a: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t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on zijn rekeningen niet betal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7A06-0CA7-4D71-A378-1FADE613427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4360" y="1125360"/>
            <a:ext cx="77724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Persoonlijke voornaamwoorden: hem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Kees heeft 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m/haa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gebeld voor een afspraa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C88E-8D34-4ADE-B7E2-3EC40F97313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ezittelijke voornaamwoorden: zijn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 moeder lees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aa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inderen voo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 vader lees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inderen voo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gebouw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muren moeten geverfd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ij het-woorden gebruik je: zij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gezelschap is me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gids vertrokk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Ik heb het gebouw me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dikke muren gefotografeerd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C676-42B0-4C37-B51F-BD5FEF456F0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ezittelijke voornaamwoorden: zijn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-woorden zijn mannelijk of vrouwelijk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Alle de-woorden zijn mannelijk, tenzij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1 het woorden zijn die vrouwelijke personen of dieren aanduiden,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 het woorden zijn met de volgende achtervoegsels: -heid, -nis, -schap, -de, -te, -ij, -erij, -arij, -ernij, -ing, -st, -ie, -tie, -logie, -sofie, -agogie, -iek, -ica, -theek, -teit, -iteit, -tuur, -suur, -ade, -ide, -ode, -ude, -age, -ine, -se, -sis, xis, -tis, -ea, -ee.  (Leer deze zodat je ze herkent!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Voorbeeld: de regering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aa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besluit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F596-8C90-4EFF-AC27-8FA44396609D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Hen of hun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en of hu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U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Zij nodigen al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u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vrienden uit.              = bezittelijk vnw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e directeur geeft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u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een dagje vrij.   = meewerkend vw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Zij geven de sleutel aan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e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.                   = na voorzets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ij nodigt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e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uit voor zijn verjaardag. = lijdend voorwer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un kan nooit als onderwerp voorkomen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hebben dat gedaa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CAB2-773E-4D99-8E43-AE35CE6B80E5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09:06:05Z</dcterms:created>
  <dc:creator>Medion2009</dc:creator>
  <dc:description/>
  <dc:language>en-US</dc:language>
  <cp:lastModifiedBy>Johan</cp:lastModifiedBy>
  <dcterms:modified xsi:type="dcterms:W3CDTF">2013-05-21T08:53:30Z</dcterms:modified>
  <cp:revision>21</cp:revision>
  <dc:subject/>
  <dc:title>VIA werkboek B2 Techniek</dc:title>
</cp:coreProperties>
</file>