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016B-3867-445A-95AF-1CBFE97E8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CDBF-C3F3-46D5-A9A1-FA80EA96B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6A00-234A-458E-9816-9C4A1749E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7C2C-5B88-4102-9B02-C843C9C09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7BC3-D309-422C-AA20-EE03BC5E0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0C65-A2F7-408A-A491-34A6EF34D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EB37-6E6E-494C-8D94-4E6F853FF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E397-EACE-48F9-A4B8-AEB5E4FF1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E490-67D8-4817-A1A3-2C9AD4FE1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6E33-1463-41D6-BAB4-F265A5C1F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F14A-988B-4935-B001-6064005CF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1CAD-08C6-46F0-AB72-39902B6D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4122">
            <a:alpha val="9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5CC74-E1DE-4E14-B816-3F03A4AB1EE2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de8cd"/>
                </a:solidFill>
                <a:latin typeface="Calibri"/>
                <a:ea typeface="Calibri"/>
              </a:rPr>
              <a:t>Stijl: hij/zij/het, hem/haar, zijn/haar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1052280"/>
            <a:ext cx="77724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Persoonlijke voornaamwoorden: hij/zij/he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Hij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heeft het druk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Zij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heefthet druk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Het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heeft het druk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Zij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hebben het druk . (dus niet: hun hebben!)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Het bedrijf is failliet. </a:t>
            </a:r>
            <a:r>
              <a:rPr b="1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Het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kon zijn rekeningen niet betale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Tijdelijke aanduiding voor dianumm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E6EC8-1A32-4F78-828F-AEBD691366FB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1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755640" y="1125360"/>
            <a:ext cx="77724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de8cd"/>
                </a:solidFill>
                <a:latin typeface="Calibri"/>
                <a:ea typeface="Calibri"/>
              </a:rPr>
              <a:t>Stijl: hij/zij/het, hem/haar, zijn/haar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4360" y="1125360"/>
            <a:ext cx="7772400" cy="504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Persoonlijke voornaamwoorden: hem/haar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Kees heeft  </a:t>
            </a:r>
            <a:r>
              <a:rPr b="0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hem/haar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gebeld voor een afspraak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Tijdelijke aanduiding voor dianumm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824C1-C9B8-4071-A191-8CB2C5A4C1C3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755640" y="1125360"/>
            <a:ext cx="77724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de8cd"/>
                </a:solidFill>
                <a:latin typeface="Calibri"/>
                <a:ea typeface="Calibri"/>
              </a:rPr>
              <a:t>Stijl: hij/zij/het, hem/haar, zijn/haar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052280"/>
            <a:ext cx="77724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Bezittelijke voornaamwoorden: zijn/haar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De moeder leest </a:t>
            </a:r>
            <a:r>
              <a:rPr b="0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haar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kinderen voor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De vader leest </a:t>
            </a:r>
            <a:r>
              <a:rPr b="0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zijn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kinderen voor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Het gebouw </a:t>
            </a:r>
            <a:r>
              <a:rPr b="0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zijn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muren moeten geverfd!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Bij het-woorden gebruik je: zij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Het gezelschap is met </a:t>
            </a:r>
            <a:r>
              <a:rPr b="0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zijn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gids vertrokke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Ik heb het gebouw met </a:t>
            </a:r>
            <a:r>
              <a:rPr b="0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zijn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dikke muren gefotografeerd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Tijdelijke aanduiding voor dianumm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1F0B0-6F89-4C8A-96EF-AE3A62950ABF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755640" y="1125360"/>
            <a:ext cx="77724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de8cd"/>
                </a:solidFill>
                <a:latin typeface="Calibri"/>
                <a:ea typeface="Calibri"/>
              </a:rPr>
              <a:t>Stijl: hij/zij/het, hem/haar, zijn/haar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052280"/>
            <a:ext cx="77724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Bezittelijke voornaamwoorden: zijn/haar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De-woorden zijn mannelijk of vrouwelijk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Alle de-woorden zijn mannelijk, tenzij: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1 het woorden zijn die vrouwelijke personen of dieren aanduiden,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2 het woorden zijn met de volgende achtervoegsels: -heid, -nis, -schap, -de, -te, -ij, -erij, -arij, -ernij, -ing, -st, -ie, -tie, -logie, -sofie, -agogie, -iek, -ica, -theek, -teit, -iteit, -tuur, -suur, -ade, -ide, -ode, -ude, -age, -ine, -se, -sis, xis, -tis, -ea, -ee.  (Leer deze zodat je ze herkent!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Voorbeeld: de regering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haar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besluite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Tijdelijke aanduiding voor dianumm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5EC16-1A94-4202-9284-3164E6A3F663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755640" y="1125360"/>
            <a:ext cx="77724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de8cd"/>
                </a:solidFill>
                <a:latin typeface="Calibri"/>
                <a:ea typeface="Calibri"/>
              </a:rPr>
              <a:t>Hen of hun?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052280"/>
            <a:ext cx="77724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Hen of hun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            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HU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Zij nodigen al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hun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vrienden uit.              = bezittelijk vnw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De directeur geeft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hun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een dagje vrij.   = meewerkend vw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            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HE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Zij geven de sleutel aan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hen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.                   = na voorzets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Hij nodigt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hen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uit voor zijn verjaardag. = lijdend voorwerp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Hun kan nooit als onderwerp voorkomen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Zij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hebben dat gedaan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Tijdelijke aanduiding voor dianumm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1378F-7398-4AF5-A278-5EFD859DDF85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755640" y="1125360"/>
            <a:ext cx="77724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6T09:06:05Z</dcterms:created>
  <dc:creator>Medion2009</dc:creator>
  <dc:description/>
  <dc:language>en-US</dc:language>
  <cp:lastModifiedBy>Johan</cp:lastModifiedBy>
  <dcterms:modified xsi:type="dcterms:W3CDTF">2013-05-21T08:53:30Z</dcterms:modified>
  <cp:revision>21</cp:revision>
  <dc:subject/>
  <dc:title>VIA werkboek B2 Techniek</dc:title>
</cp:coreProperties>
</file>