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2CE-67EC-495E-A262-87567932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E95-0149-470A-8A6D-BCD68599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6D9-937D-4845-ADFB-D37F1C29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D3FD-DF7F-4C6C-A4F4-3B696CAD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6BD-9CB7-4754-A212-20CB74B6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8B21-0716-4DB8-9EB8-72AF4193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E5B-40FA-4B36-8337-9157760C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3856-8AB7-41AE-8579-347B086A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3A2B-A89B-48B4-9984-F6765806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AAE-60F3-4455-B09C-750550AA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C20-D1DE-4E10-B9BF-CB25FB1A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C431-2AE6-4328-9799-E70F8B3E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4122">
            <a:alpha val="9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23DF-0CB9-4171-B7EA-FA0E3607CDFD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ij/zij/h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eft het dru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hebben het druk . (dus niet: hun hebben!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bedrijf is failliet. </a:t>
            </a:r>
            <a:r>
              <a:rPr b="1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t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on zijn rekeningen niet betal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7BBE-DDCE-4AFC-B146-FEB015C1B9D5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4360" y="1125360"/>
            <a:ext cx="77724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Persoonlijke voornaamwoorden: hem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Kees heeft 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em/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ebeld voor een afspraa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63E5-6CF9-4E0E-BB32-C05D33F8021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moe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 vader lees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kinderen vo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bouw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muren moeten geverfd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ij het-woorden gebruik je: zij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Het gezelschap is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gids vertrokk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Ik heb het gebouw met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  <a:ea typeface="Calibri"/>
              </a:rPr>
              <a:t>zijn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 dikke muren gefotografeer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135F-C4C4-482D-93DB-F7D731904ED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Stijl: hij/zij/het, hem/haar, zijn/haar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Bezittelijke voornaamwoorden: zijn/haa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De-woorden zijn mannelijk of vrouwelij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Alle de-woorden zijn mannelijk, tenzij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  <a:ea typeface="Calibri"/>
              </a:rPr>
              <a:t>1 het woorden zijn die vrouwelijke personen of dieren aanduiden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2 het woorden zijn met de volgende achtervoegsels: -heid, -nis, -schap, -de, -te, -ij, -erij, -arij, -ernij, -ing, -st, -ie, -tie, -logie, -sofie, -agogie, -iek, -ica, -theek, -teit, -iteit, -tuur, -suur, -ade, -ide, -ode, -ude, -age, -ine, -se, -sis, xis, -tis, -ea, -ee.  (Leer deze zodat je ze herkent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Voorbeeld: de regering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aa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besluit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2165-70CF-4B28-8E93-2317F429D55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e8cd"/>
                </a:solidFill>
                <a:latin typeface="Calibri"/>
                <a:ea typeface="Calibri"/>
              </a:rPr>
              <a:t>Hen of hun?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 of hun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nodigen al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vrienden uit.              = bezittelijk vn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 directeur geef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u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een dagje vrij.   = meewerkend vw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E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Zij geven de sleutel aan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= na voorzets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j nodigt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he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uit voor zijn verjaardag. = lijdend voorwerp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un kan nooit als onderwerp voorkomen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Calibri"/>
              </a:rPr>
              <a:t>Zij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 hebben dat gedaa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Tijdelijke aanduiding voor dianumm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7219-D2E0-4999-B3BC-164324D5CDF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125360"/>
            <a:ext cx="77724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09:06:05Z</dcterms:created>
  <dc:creator>Medion2009</dc:creator>
  <dc:description/>
  <dc:language>en-US</dc:language>
  <cp:lastModifiedBy>Johan</cp:lastModifiedBy>
  <dcterms:modified xsi:type="dcterms:W3CDTF">2013-05-21T08:53:30Z</dcterms:modified>
  <cp:revision>21</cp:revision>
  <dc:subject/>
  <dc:title>VIA werkboek B2 Techniek</dc:title>
</cp:coreProperties>
</file>