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BB5D-8964-482F-BD16-41DAC9FE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3E3-677D-487E-AC14-6E5EFD2C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06F-87AF-4A9A-8443-504489E7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4C1-3FA8-448F-BF9F-9502602C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828-D4BB-4736-9EE5-E0E01C16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C4D-34B3-49F4-918C-42D9779A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C51-3279-4D22-BDBE-CB33456E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C07-FA52-45AC-80C1-5FD92EF1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8A8-DE95-40D1-9182-3417E55D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49CB-84C4-46B9-92C0-BCB55E78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6FD-3D53-4C5D-8205-719EFE8F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42FC-B0BC-46ED-A8EA-77D1D4AB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4122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51FC-4BFF-42F8-ACF4-0A57F3B3507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ij/zij/he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bben het druk . (dus niet: hun hebben!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bedrijf is failliet. </a:t>
            </a: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on zijn rekeningen niet betal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B9EB-B933-4C90-8E84-C264798855F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360" y="112536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em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Kees heeft 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m/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ebeld voor een afspraa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44A0-AFB8-46BB-8EA7-FD263D59BFF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moe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va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bouw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muren moeten geverfd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ij het-woorden gebruik je: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zelschap is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ids vertrokk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Ik heb het gebouw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dikke muren gefotografeer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B864-DCE1-4CC9-A1FA-D94134AC85B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-woorden zijn mannelijk of vrouwelijk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Alle de-woorden zijn mannelijk, tenzij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1 het woorden zijn die vrouwelijke personen of dieren aanduiden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 het woorden zijn met de volgende achtervoegsels: -heid, -nis, -schap, -de, -te, -ij, -erij, -arij, -ernij, -ing, -st, -ie, -tie, -logie, -sofie, -agogie, -iek, -ica, -theek, -teit, -iteit, -tuur, -suur, -ade, -ide, -ode, -ude, -age, -ine, -se, -sis, xis, -tis, -ea, -ee.  (Leer deze zodat je ze herkent!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oorbeeld: de regering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besluit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284C-74B8-493D-AB73-36B3B0D0C33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Hen of hun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 of hu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nodigen al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vrienden uit.              = bezittelijk vn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 directeur geef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een dagje vrij.   = meewerkend v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geven de sleutel aan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.                   = na voorzets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j nodig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uit voor zijn verjaardag. = lijdend voorwer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 kan nooit als onderwerp voorkomen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hebben dat gedaa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714D-36C9-47E9-9547-3C2D194B2B6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9:06:05Z</dcterms:created>
  <dc:creator>Medion2009</dc:creator>
  <dc:description/>
  <dc:language>en-US</dc:language>
  <cp:lastModifiedBy>Johan</cp:lastModifiedBy>
  <dcterms:modified xsi:type="dcterms:W3CDTF">2013-05-21T08:53:30Z</dcterms:modified>
  <cp:revision>21</cp:revision>
  <dc:subject/>
  <dc:title>VIA werkboek B2 Techniek</dc:title>
</cp:coreProperties>
</file>