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DF5-ACDF-46D2-B639-9E622C79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142-20D2-4490-995C-860A518A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F7AD-E8E1-4C59-98A7-D47FDE8A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004-C80F-475B-9B5C-80A0E7F6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2C6-EC83-4761-A2EC-C5EBDCE4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A81-022C-49F2-842A-F2632372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A50-E3AD-4B70-8C76-88CF41F9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D94-B098-47F3-9BC0-D2874DA7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0D0-D7AB-4EA4-985B-E27426D2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B7D-E057-4AE5-956B-3163C73C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CA9-AEDE-402C-B0F3-584F4B49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D4F-7B4E-4496-8CED-1D59AC82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4122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77D8-5079-4CF6-AF68-80DCDD095E7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ij/zij/he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bben het druk . (dus niet: hun hebben!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bedrijf is failliet. </a:t>
            </a: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on zijn rekeningen niet betal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A481-B8B2-4227-A65F-A9C55724D40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360" y="112536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em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Kees heeft 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m/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ebeld voor een afspraa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3626-1E1A-48A4-9C13-D71D7E32D89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moe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va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bouw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muren moeten geverfd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ij het-woorden gebruik je: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zelschap is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ids vertrokk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Ik heb het gebouw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dikke muren gefotografeer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5E11-1440-416D-B0E2-C2075812237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-woorden zijn mannelijk of vrouwelijk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Alle de-woorden zijn mannelijk, tenzij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1 het woorden zijn die vrouwelijke personen of dieren aanduiden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 het woorden zijn met de volgende achtervoegsels: -heid, -nis, -schap, -de, -te, -ij, -erij, -arij, -ernij, -ing, -st, -ie, -tie, -logie, -sofie, -agogie, -iek, -ica, -theek, -teit, -iteit, -tuur, -suur, -ade, -ide, -ode, -ude, -age, -ine, -se, -sis, xis, -tis, -ea, -ee.  (Leer deze zodat je ze herkent!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oorbeeld: de regering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besluit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E6FE-9D2B-4727-9E8C-08AD25D4C92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Hen of hun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 of hu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nodigen al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vrienden uit.              = bezittelijk vn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 directeur geef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een dagje vrij.   = meewerkend v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geven de sleutel aan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.                   = na voorzets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j nodig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uit voor zijn verjaardag. = lijdend voorwer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 kan nooit als onderwerp voorkomen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hebben dat gedaa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485E-2379-4725-891C-867C6F4CF45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9:06:05Z</dcterms:created>
  <dc:creator>Medion2009</dc:creator>
  <dc:description/>
  <dc:language>en-US</dc:language>
  <cp:lastModifiedBy>Johan</cp:lastModifiedBy>
  <dcterms:modified xsi:type="dcterms:W3CDTF">2013-05-21T08:53:30Z</dcterms:modified>
  <cp:revision>21</cp:revision>
  <dc:subject/>
  <dc:title>VIA werkboek B2 Techniek</dc:title>
</cp:coreProperties>
</file>