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1D57-5126-426E-920F-A2380BF5D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3119-2715-47DE-9C6A-15FF5B33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0D3A-1F75-4C23-90BE-7D8176FBE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B654-E4ED-468D-8B8A-631536CDE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FED4-DBFE-4B0B-B2BB-07B192F6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FD46-57D9-4A6E-884E-EFCD400E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1F3E-A2B9-4FAD-9E7D-E63D1093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2250-4CAC-4BCC-8063-BC4F0444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917D-9595-45DD-9E4B-63AE9277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7260-2148-416A-A2E2-C1FD4A8F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3CD7-56CD-41E2-9572-984A3537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570B-66B9-48B1-94C9-F7337BFC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4122">
            <a:alpha val="9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E30D-9B61-4635-88B8-353E2E183DE3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e8cd"/>
                </a:solidFill>
                <a:latin typeface="Calibri"/>
                <a:ea typeface="Calibri"/>
              </a:rPr>
              <a:t>Stijl: hij/zij/het, hem/haar, zijn/haar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Persoonlijke voornaamwoorden: hij/zij/he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Hij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heeft het druk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heefthet druk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Het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heeft het druk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hebben het druk . (dus niet: hun hebben!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Het bedrijf is failliet. </a:t>
            </a:r>
            <a:r>
              <a:rPr b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Het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kon zijn rekeningen niet betale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ijdelijke aanduiding voor dianumm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F093-8321-4869-A4A1-FC6D5191BB24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1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755640" y="1125360"/>
            <a:ext cx="7772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e8cd"/>
                </a:solidFill>
                <a:latin typeface="Calibri"/>
                <a:ea typeface="Calibri"/>
              </a:rPr>
              <a:t>Stijl: hij/zij/het, hem/haar, zijn/haar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4360" y="1125360"/>
            <a:ext cx="777240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Persoonlijke voornaamwoorden: hem/haa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Kees heeft 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hem/haar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gebeld voor een afspraak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Tijdelijke aanduiding voor dianumm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5264-E9FB-44E4-AFF3-0FA218C32C43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755640" y="1125360"/>
            <a:ext cx="7772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e8cd"/>
                </a:solidFill>
                <a:latin typeface="Calibri"/>
                <a:ea typeface="Calibri"/>
              </a:rPr>
              <a:t>Stijl: hij/zij/het, hem/haar, zijn/haar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Bezittelijke voornaamwoorden: zijn/haa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De moeder leest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haar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kinderen voor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De vader leest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kinderen voor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Het gebouw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muren moeten geverfd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Bij het-woorden gebruik je: zij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Het gezelschap is met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gids vertrokke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Ik heb het gebouw met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dikke muren gefotografeerd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ijdelijke aanduiding voor dianumm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1DB2-1A90-4559-A4EF-57311EEE0A12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755640" y="1125360"/>
            <a:ext cx="7772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e8cd"/>
                </a:solidFill>
                <a:latin typeface="Calibri"/>
                <a:ea typeface="Calibri"/>
              </a:rPr>
              <a:t>Stijl: hij/zij/het, hem/haar, zijn/haar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Bezittelijke voornaamwoorden: zijn/haa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De-woorden zijn mannelijk of vrouwelijk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Alle de-woorden zijn mannelijk, tenzij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1 het woorden zijn die vrouwelijke personen of dieren aanduiden,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2 het woorden zijn met de volgende achtervoegsels: -heid, -nis, -schap, -de, -te, -ij, -erij, -arij, -ernij, -ing, -st, -ie, -tie, -logie, -sofie, -agogie, -iek, -ica, -theek, -teit, -iteit, -tuur, -suur, -ade, -ide, -ode, -ude, -age, -ine, -se, -sis, xis, -tis, -ea, -ee.  (Leer deze zodat je ze herkent!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Voorbeeld: de regering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haar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besluite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Tijdelijke aanduiding voor dianumm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5869-63F7-4D2D-89ED-D366979789E0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755640" y="1125360"/>
            <a:ext cx="7772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e8cd"/>
                </a:solidFill>
                <a:latin typeface="Calibri"/>
                <a:ea typeface="Calibri"/>
              </a:rPr>
              <a:t>Hen of hun?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en of hun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 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U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Zij nodigen al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hu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vrienden uit.              = bezittelijk vnw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De directeur geeft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hu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een dagje vrij.   = meewerkend vw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 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E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Zij geven de sleutel aan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he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.                   = na voorzets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ij nodigt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he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uit voor zijn verjaardag. = lijdend voorwer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un kan nooit als onderwerp voorkomen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Zij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hebben dat gedaa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Tijdelijke aanduiding voor dianumm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40D3-13A2-484C-B0D1-7AF0BF1C2669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755640" y="1125360"/>
            <a:ext cx="7772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09:06:05Z</dcterms:created>
  <dc:creator>Medion2009</dc:creator>
  <dc:description/>
  <dc:language>en-US</dc:language>
  <cp:lastModifiedBy>Johan</cp:lastModifiedBy>
  <dcterms:modified xsi:type="dcterms:W3CDTF">2013-05-21T08:53:30Z</dcterms:modified>
  <cp:revision>21</cp:revision>
  <dc:subject/>
  <dc:title>VIA werkboek B2 Techniek</dc:title>
</cp:coreProperties>
</file>