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E166-14C5-49B1-B41E-7024B413A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2541-55A0-4864-A932-60F5485F8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5808-1B13-44CD-A6EB-5E5962854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52E8-08F7-4165-BCB5-9F1F8B47E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C65F-1A1A-4784-A340-145D12044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83AA-1D06-4D15-A20C-FDD84D85B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16B3-B9D3-4832-9114-E77DE219C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75C7-B95A-483C-85EF-4C72A9455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86AA-150D-4B0C-8984-FF0457E09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2C77-979B-4600-A659-3ACC0798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F8EB-CAB6-4B7C-BA6B-44A7AAA23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EECF-93A0-42D4-9E17-FF22AA2B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4122">
            <a:alpha val="9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F65FE-7FD1-41BE-985D-8D8433AA0EFC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de8cd"/>
                </a:solidFill>
                <a:latin typeface="Calibri"/>
                <a:ea typeface="Calibri"/>
              </a:rPr>
              <a:t>Stijl: hij/zij/het, hem/haar, zijn/haar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1052280"/>
            <a:ext cx="77724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Persoonlijke voornaamwoorden: hij/zij/he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Hij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heeft het druk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Zij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heefthet druk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Het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heeft het druk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Zij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hebben het druk . (dus niet: hun hebben!)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Het bedrijf is failliet. </a:t>
            </a:r>
            <a:r>
              <a:rPr b="1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Het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kon zijn rekeningen niet betale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Tijdelijke aanduiding voor dianumm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85413-1386-4475-B6B1-41DD87DE3E49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1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755640" y="1125360"/>
            <a:ext cx="77724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de8cd"/>
                </a:solidFill>
                <a:latin typeface="Calibri"/>
                <a:ea typeface="Calibri"/>
              </a:rPr>
              <a:t>Stijl: hij/zij/het, hem/haar, zijn/haar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4360" y="1125360"/>
            <a:ext cx="7772400" cy="504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Persoonlijke voornaamwoorden: hem/haar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Kees heeft  </a:t>
            </a:r>
            <a:r>
              <a:rPr b="0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hem/haar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gebeld voor een afspraak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Tijdelijke aanduiding voor dianumm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A82D9-DE73-43D1-8AFA-4D86B8B5156E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755640" y="1125360"/>
            <a:ext cx="77724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de8cd"/>
                </a:solidFill>
                <a:latin typeface="Calibri"/>
                <a:ea typeface="Calibri"/>
              </a:rPr>
              <a:t>Stijl: hij/zij/het, hem/haar, zijn/haar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052280"/>
            <a:ext cx="77724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Bezittelijke voornaamwoorden: zijn/haar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De moeder leest </a:t>
            </a:r>
            <a:r>
              <a:rPr b="0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haar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kinderen voor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De vader leest </a:t>
            </a:r>
            <a:r>
              <a:rPr b="0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zijn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kinderen voor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Het gebouw </a:t>
            </a:r>
            <a:r>
              <a:rPr b="0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zijn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muren moeten geverfd!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Bij het-woorden gebruik je: zij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Het gezelschap is met </a:t>
            </a:r>
            <a:r>
              <a:rPr b="0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zijn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gids vertrokke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Ik heb het gebouw met </a:t>
            </a:r>
            <a:r>
              <a:rPr b="0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zijn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dikke muren gefotografeerd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Tijdelijke aanduiding voor dianumm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B86B1-BE46-4A1C-BFDE-85E440BA63D9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755640" y="1125360"/>
            <a:ext cx="77724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de8cd"/>
                </a:solidFill>
                <a:latin typeface="Calibri"/>
                <a:ea typeface="Calibri"/>
              </a:rPr>
              <a:t>Stijl: hij/zij/het, hem/haar, zijn/haar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052280"/>
            <a:ext cx="77724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Bezittelijke voornaamwoorden: zijn/haar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De-woorden zijn mannelijk of vrouwelijk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Alle de-woorden zijn mannelijk, tenzij: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1 het woorden zijn die vrouwelijke personen of dieren aanduiden,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2 het woorden zijn met de volgende achtervoegsels: -heid, -nis, -schap, -de, -te, -ij, -erij, -arij, -ernij, -ing, -st, -ie, -tie, -logie, -sofie, -agogie, -iek, -ica, -theek, -teit, -iteit, -tuur, -suur, -ade, -ide, -ode, -ude, -age, -ine, -se, -sis, xis, -tis, -ea, -ee.  (Leer deze zodat je ze herkent!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Voorbeeld: de regering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haar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besluite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Tijdelijke aanduiding voor dianumm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AACC4-6BA9-4971-B720-780B483DF317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755640" y="1125360"/>
            <a:ext cx="77724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de8cd"/>
                </a:solidFill>
                <a:latin typeface="Calibri"/>
                <a:ea typeface="Calibri"/>
              </a:rPr>
              <a:t>Hen of hun?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052280"/>
            <a:ext cx="77724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Hen of hun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            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HU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Zij nodigen al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hun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vrienden uit.              = bezittelijk vnw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De directeur geeft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hun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een dagje vrij.   = meewerkend vw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            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HE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Zij geven de sleutel aan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hen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.                   = na voorzets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Hij nodigt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hen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uit voor zijn verjaardag. = lijdend voorwerp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Hun kan nooit als onderwerp voorkomen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Zij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hebben dat gedaan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Tijdelijke aanduiding voor dianumm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809AF-D892-4045-8FF7-BDC050F643BD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755640" y="1125360"/>
            <a:ext cx="77724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6T09:06:05Z</dcterms:created>
  <dc:creator>Medion2009</dc:creator>
  <dc:description/>
  <dc:language>en-US</dc:language>
  <cp:lastModifiedBy>Johan</cp:lastModifiedBy>
  <dcterms:modified xsi:type="dcterms:W3CDTF">2013-05-21T08:53:30Z</dcterms:modified>
  <cp:revision>21</cp:revision>
  <dc:subject/>
  <dc:title>VIA werkboek B2 Techniek</dc:title>
</cp:coreProperties>
</file>