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366E-DA02-4489-8AF7-2FCAFDA89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2115-4549-46C2-81E3-DF4913A6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4D65-EE96-4C76-B1FC-EED439AC5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517F-C67E-4097-AEB3-09909375D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1248-9233-4294-BD62-C536C5FC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1C92-28EA-40D4-BA92-FE7D0E83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9EA7-1E46-481B-9D92-C2561451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937B-AC88-4684-86E3-63812E9B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845C-C280-420F-BEA3-38647B7D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BA7F-2C6F-4917-BB1A-C6FD4C7A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2E34-A99C-4A0D-A0E8-366376A6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523F-394A-482C-9C9D-66DDAD90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4122">
            <a:alpha val="9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F3CB-6B66-4B1B-9793-32BC60DB46DD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Stijl: hij/zij/het, hem/haar, zijn/haar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Persoonlijke voornaamwoorden: hij/zij/he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ij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heeft het dru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heefthet dru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et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heeft het dru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hebben het druk . (dus niet: hun hebben!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Het bedrijf is failliet. </a:t>
            </a: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et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kon zijn rekeningen niet betale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F0CB-3CF0-49C3-A15A-7B0E1C9FDB8A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Stijl: hij/zij/het, hem/haar, zijn/haar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4360" y="1125360"/>
            <a:ext cx="77724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Persoonlijke voornaamwoorden: hem/haa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Kees heeft 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em/haar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gebeld voor een afspraa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7750-A056-482C-86AD-547FFF856736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Stijl: hij/zij/het, hem/haar, zijn/haar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Bezittelijke voornaamwoorden: zijn/haa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De moeder leest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aar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kinderen voor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De vader leest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kinderen voor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Het gebouw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muren moeten geverfd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Bij het-woorden gebruik je: zij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Het gezelschap is met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gids vertrokke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Ik heb het gebouw met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dikke muren gefotografeerd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5A6C-D405-47BF-8E0D-F162E63E9F14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Stijl: hij/zij/het, hem/haar, zijn/haar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Bezittelijke voornaamwoorden: zijn/haa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De-woorden zijn mannelijk of vrouwelijk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Alle de-woorden zijn mannelijk, tenzij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1 het woorden zijn die vrouwelijke personen of dieren aanduiden,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2 het woorden zijn met de volgende achtervoegsels: -heid, -nis, -schap, -de, -te, -ij, -erij, -arij, -ernij, -ing, -st, -ie, -tie, -logie, -sofie, -agogie, -iek, -ica, -theek, -teit, -iteit, -tuur, -suur, -ade, -ide, -ode, -ude, -age, -ine, -se, -sis, xis, -tis, -ea, -ee.  (Leer deze zodat je ze herkent!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Voorbeeld: de regering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aar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besluite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276F-55DA-4057-9E3C-F056C526644A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Hen of hun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en of hun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U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Zij nodigen al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u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vrienden uit.              = bezittelijk vnw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De directeur geeft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u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een dagje vrij.   = meewerkend vw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E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Zij geven de sleutel aan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e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.                   = na voorzets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ij nodigt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e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uit voor zijn verjaardag. = lijdend voorwer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un kan nooit als onderwerp voorkomen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Zij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hebben dat gedaa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8C3B-6EAA-4D91-817A-BDCD97A48027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09:06:05Z</dcterms:created>
  <dc:creator>Medion2009</dc:creator>
  <dc:description/>
  <dc:language>en-US</dc:language>
  <cp:lastModifiedBy>Johan</cp:lastModifiedBy>
  <dcterms:modified xsi:type="dcterms:W3CDTF">2013-05-21T08:53:30Z</dcterms:modified>
  <cp:revision>21</cp:revision>
  <dc:subject/>
  <dc:title>VIA werkboek B2 Techniek</dc:title>
</cp:coreProperties>
</file>