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5063-0788-460A-9EE4-66B1BB77BA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7A15-64B2-46A9-9325-826AAB36D0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45BB-28D7-4B4A-90DB-40E38E049E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9B0A-DE06-4A41-8A4E-EE4F355DC6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5D5F-27EB-4864-847F-6CD3B66CA3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2255-FB23-4884-94E1-C9E7978769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E8C9-B7FC-4A0C-A760-BD2E255BE1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49F5-8201-41C8-A716-83332F1DEB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B1B4-D9DF-4AF5-9AC7-7BD06B03A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7141-D974-4EB0-88FC-467588DBB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A3F1-C7E8-4906-BFEC-8696F3C9C2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8D9E-C47A-443A-B2BB-6A47A8BE03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DC18-ED89-46B2-90F1-46EBC57632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06E2-EC29-4694-A73D-A087E31C20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6BD1-B104-4336-89AB-E7E3F38CB0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9539-4B02-4C8E-91D4-23921F1E80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392-7F68-4C22-938B-27F61618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6364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BE1-FE2A-4DF1-BDB1-DCBE8DFF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806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4FA-D574-46D9-8EE4-FE282DD7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46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285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63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46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285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154D-CBC9-487B-99BB-6BA4C111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2D0-BC41-471A-B296-57CA9CFC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E4F-6A9E-44C8-94DB-9B7326D7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2E6-E501-4A19-A1E0-6A8B0725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C6F-A144-45A6-BC46-1D5CBE99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ACE-2C7F-4735-9EDD-CF18120B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1E0-D24E-48D5-8E0D-C29BFEAD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806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3B54-1422-44C0-AAE3-36C33FD6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717-7FD6-47FC-B297-B27005E5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9F91-745C-45AE-9138-219551FC2E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bnflogo"/>
          <p:cNvPicPr/>
          <p:nvPr/>
        </p:nvPicPr>
        <p:blipFill>
          <a:blip r:embed="rId2"/>
          <a:stretch/>
        </p:blipFill>
        <p:spPr>
          <a:xfrm>
            <a:off x="8028000" y="189000"/>
            <a:ext cx="952560" cy="981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0" y="658332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British Nutrition Foundation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680000" y="6583320"/>
            <a:ext cx="44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nutrition.org.uk/cook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95280" y="98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ldbury Wells Vegetable S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BNF Chef"/>
          <p:cNvPicPr/>
          <p:nvPr/>
        </p:nvPicPr>
        <p:blipFill>
          <a:blip r:embed="rId1"/>
          <a:stretch/>
        </p:blipFill>
        <p:spPr>
          <a:xfrm>
            <a:off x="395280" y="1989000"/>
            <a:ext cx="2136960" cy="309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Vegetable Soup"/>
          <p:cNvPicPr/>
          <p:nvPr/>
        </p:nvPicPr>
        <p:blipFill>
          <a:blip r:embed="rId2"/>
          <a:stretch/>
        </p:blipFill>
        <p:spPr>
          <a:xfrm>
            <a:off x="3492360" y="2060640"/>
            <a:ext cx="46418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53964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tir in the flour and cook for 2 minutes.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97672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issolve the stock cube in the boiling water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8156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Add the water to the saucepan and bring to the boil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761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692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Add the potatoes and simmer for 30 minutes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1492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Serve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61672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826920" y="907920"/>
            <a:ext cx="7848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 further recipes, go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ww.nutrition.org.uk/cook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© British Nutrition Foundation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36007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128000" cy="5506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404000" y="2924280"/>
            <a:ext cx="4400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nion, chopp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arrot, dic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leek, slic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otato, cub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elery sticks, in 2 cm length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g butt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g flou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vegetable stock cu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ml water, boi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68360" y="1197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pping board, knife, vegetable peeler, saucepan, weighing scales and measuring j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hopping_board"/>
          <p:cNvPicPr/>
          <p:nvPr/>
        </p:nvPicPr>
        <p:blipFill>
          <a:blip r:embed="rId1"/>
          <a:stretch/>
        </p:blipFill>
        <p:spPr>
          <a:xfrm>
            <a:off x="468360" y="2205000"/>
            <a:ext cx="295128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ooks_knife"/>
          <p:cNvPicPr/>
          <p:nvPr/>
        </p:nvPicPr>
        <p:blipFill>
          <a:blip r:embed="rId2"/>
          <a:stretch/>
        </p:blipFill>
        <p:spPr>
          <a:xfrm>
            <a:off x="250920" y="6093000"/>
            <a:ext cx="2919240" cy="27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vegetable_knife"/>
          <p:cNvPicPr/>
          <p:nvPr/>
        </p:nvPicPr>
        <p:blipFill>
          <a:blip r:embed="rId3"/>
          <a:stretch/>
        </p:blipFill>
        <p:spPr>
          <a:xfrm>
            <a:off x="5435640" y="6021360"/>
            <a:ext cx="3456000" cy="45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opy of saucepan"/>
          <p:cNvPicPr/>
          <p:nvPr/>
        </p:nvPicPr>
        <p:blipFill>
          <a:blip r:embed="rId4"/>
          <a:stretch/>
        </p:blipFill>
        <p:spPr>
          <a:xfrm>
            <a:off x="4140360" y="2133720"/>
            <a:ext cx="3816360" cy="1820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weighing_scales"/>
          <p:cNvPicPr/>
          <p:nvPr/>
        </p:nvPicPr>
        <p:blipFill>
          <a:blip r:embed="rId5"/>
          <a:stretch/>
        </p:blipFill>
        <p:spPr>
          <a:xfrm>
            <a:off x="2771640" y="3860640"/>
            <a:ext cx="2233800" cy="206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Copy of measuring_jug"/>
          <p:cNvPicPr/>
          <p:nvPr/>
        </p:nvPicPr>
        <p:blipFill>
          <a:blip r:embed="rId6"/>
          <a:stretch/>
        </p:blipFill>
        <p:spPr>
          <a:xfrm>
            <a:off x="6732720" y="4221000"/>
            <a:ext cx="19447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1197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el and chop the onion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5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4000" y="836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p and tail the carrot, then peel and dic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40872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39528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op and tail the leek, then slice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915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eel and cube the potato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0055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95280" y="692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ut the celery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14996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24000" y="76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Heat the oil in a saucepan and fry all the vegetables, except the potatoes, for 5 minutes.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7596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8:50:23Z</dcterms:created>
  <dc:creator>Roy Ballam</dc:creator>
  <dc:description/>
  <dc:language>en-US</dc:language>
  <cp:lastModifiedBy>Bert van Zadel</cp:lastModifiedBy>
  <dcterms:modified xsi:type="dcterms:W3CDTF">2017-01-17T15:17:50Z</dcterms:modified>
  <cp:revision>11</cp:revision>
  <dc:subject/>
  <dc:title>Slide 1</dc:title>
</cp:coreProperties>
</file>