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8D76-583A-46AB-9D06-B6B924B1AF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7C61-FFFD-44F6-A0C1-5CFD3A792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C874-8B9D-4F10-801E-7DD687AA9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57A5-202B-4220-A61F-A830FE542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DF45-A11D-4911-ABAB-58B9A2A6BC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73DC-33B1-43E1-BF98-5DFBBBAFC7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2604-6303-4A30-95EA-4B6F3B9DB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A0E0-BA2F-4696-8D76-280BA3EA21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CB84-929B-4B14-B677-FBE1B51F5D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5264-CBF7-4F98-A561-994F4EFADD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1677-98CC-44E3-AD3F-5AD64A7D9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786F-F5CD-4F1E-AEA4-D71A4D5AD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C346-B475-4623-A8E7-8F02BCD0F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F71F-BA98-41FD-A4B4-B57EA0706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633E-2D5C-4C21-BAA2-DA51D8D53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D4A-2024-475D-8DD7-4171DA9A8F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7DF-8E24-47A0-97C5-7AC1F9A3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880-96A1-4D23-A37F-800F924C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61F-AFA6-43E4-9DAB-5DD166C3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46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285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63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46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285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F5E-FBD8-42EB-8A0A-7639E522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0EC-7527-4090-B75F-CE05F639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26B-80D9-4D90-97B4-052EF9C7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DEC-F8E2-4B65-80A1-320B66FE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0D2-51E9-4967-AFCD-EA84AB26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714-C072-4423-9751-6CC6C957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246-60E3-4419-B199-16A5FD56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67B-429E-4776-A7E9-2E118825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41C-D5DB-4295-A18F-25765A3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31A3-E87F-4865-8410-AB07262A09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nflogo"/>
          <p:cNvPicPr/>
          <p:nvPr/>
        </p:nvPicPr>
        <p:blipFill>
          <a:blip r:embed="rId2"/>
          <a:stretch/>
        </p:blipFill>
        <p:spPr>
          <a:xfrm>
            <a:off x="8028000" y="189000"/>
            <a:ext cx="952560" cy="981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0" y="658332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680000" y="658332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95280" y="98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ldbury Wells Vegetable S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BNF Chef"/>
          <p:cNvPicPr/>
          <p:nvPr/>
        </p:nvPicPr>
        <p:blipFill>
          <a:blip r:embed="rId1"/>
          <a:stretch/>
        </p:blipFill>
        <p:spPr>
          <a:xfrm>
            <a:off x="395280" y="1989000"/>
            <a:ext cx="2136960" cy="309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Vegetable Soup"/>
          <p:cNvPicPr/>
          <p:nvPr/>
        </p:nvPicPr>
        <p:blipFill>
          <a:blip r:embed="rId2"/>
          <a:stretch/>
        </p:blipFill>
        <p:spPr>
          <a:xfrm>
            <a:off x="3492360" y="2060640"/>
            <a:ext cx="4641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53964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tir in the flour and cook for 2 minutes.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9767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issolve the stock cube in the boiling water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815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Add the water to the saucepan and bring to the boil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761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692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Add the potatoes and simmer for 30 minutes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1492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Serv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616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26920" y="907920"/>
            <a:ext cx="784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further recipes, go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600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128000" cy="550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404000" y="2924280"/>
            <a:ext cx="4400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nion, chopp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arrot, d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leek, sl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otato, cu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elery sticks, in 2 cm length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but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flou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vegetable stock cu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ml water, boi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360" y="1197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pping board, knife, vegetable peeler, saucepan, weighing scales and measuring j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hopping_board"/>
          <p:cNvPicPr/>
          <p:nvPr/>
        </p:nvPicPr>
        <p:blipFill>
          <a:blip r:embed="rId1"/>
          <a:stretch/>
        </p:blipFill>
        <p:spPr>
          <a:xfrm>
            <a:off x="468360" y="2205000"/>
            <a:ext cx="295128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ooks_knife"/>
          <p:cNvPicPr/>
          <p:nvPr/>
        </p:nvPicPr>
        <p:blipFill>
          <a:blip r:embed="rId2"/>
          <a:stretch/>
        </p:blipFill>
        <p:spPr>
          <a:xfrm>
            <a:off x="250920" y="6093000"/>
            <a:ext cx="2919240" cy="27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vegetable_knife"/>
          <p:cNvPicPr/>
          <p:nvPr/>
        </p:nvPicPr>
        <p:blipFill>
          <a:blip r:embed="rId3"/>
          <a:stretch/>
        </p:blipFill>
        <p:spPr>
          <a:xfrm>
            <a:off x="5435640" y="6021360"/>
            <a:ext cx="3456000" cy="45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opy of saucepan"/>
          <p:cNvPicPr/>
          <p:nvPr/>
        </p:nvPicPr>
        <p:blipFill>
          <a:blip r:embed="rId4"/>
          <a:stretch/>
        </p:blipFill>
        <p:spPr>
          <a:xfrm>
            <a:off x="4140360" y="2133720"/>
            <a:ext cx="3816360" cy="182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weighing_scales"/>
          <p:cNvPicPr/>
          <p:nvPr/>
        </p:nvPicPr>
        <p:blipFill>
          <a:blip r:embed="rId5"/>
          <a:stretch/>
        </p:blipFill>
        <p:spPr>
          <a:xfrm>
            <a:off x="2771640" y="3860640"/>
            <a:ext cx="223380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Copy of measuring_jug"/>
          <p:cNvPicPr/>
          <p:nvPr/>
        </p:nvPicPr>
        <p:blipFill>
          <a:blip r:embed="rId6"/>
          <a:stretch/>
        </p:blipFill>
        <p:spPr>
          <a:xfrm>
            <a:off x="6732720" y="4221000"/>
            <a:ext cx="19447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el and chop the onion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5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4000" y="83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p and tail the carrot, then peel and di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087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39528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op and tail the leek, then slic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91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eel and cube the potato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0055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95280" y="692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ut the celery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1499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24000" y="76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Heat the oil in a saucepan and fry all the vegetables, except the potatoes, for 5 minutes.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8:50:23Z</dcterms:created>
  <dc:creator>Roy Ballam</dc:creator>
  <dc:description/>
  <dc:language>en-US</dc:language>
  <cp:lastModifiedBy>Bert van Zadel</cp:lastModifiedBy>
  <dcterms:modified xsi:type="dcterms:W3CDTF">2017-01-17T15:17:50Z</dcterms:modified>
  <cp:revision>11</cp:revision>
  <dc:subject/>
  <dc:title>Slide 1</dc:title>
</cp:coreProperties>
</file>