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6EAA-27BC-4B23-ADB5-5442F5E9B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823F-BDA4-4764-B8A3-417489E85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EF47-FFFB-43AD-9CBC-03AC9ED366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F34B-FCAD-4C81-B48D-0AE8BAABE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E21F-0044-45B9-9988-AF8DFABDA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3A4-3AF1-4A2F-A1C7-EA4D451D9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E49-158B-44D3-9696-4FE56837E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6480-E29C-4C23-B109-EEC5C6396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A092-FA50-4A15-9506-EDEC0872D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6EEF-218E-45A5-8C6D-C71ECCEA8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7D44-6346-4AC1-B241-ACF9FF0ED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29AE-F75B-4AD0-A5CF-E88AE6126B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3221-6B5B-4AEF-B526-751BA4836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500F-5D88-489C-AC20-7C99AD570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A7C1-3944-434C-AEC0-F850BDB5E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4A1-7A77-4056-B283-D4C9C1E6F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FF9-5EF1-4D1F-8806-0ADD459B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608-3B25-406E-9F6E-9F5C4F13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0FA-57EB-4B15-9140-821011B7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6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285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6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285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77E-4FB3-4BA3-A7EB-5C5EFE19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A90-F850-4993-99B2-849772EF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AC5-5BF0-4472-BF7C-EA1EEC64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4A7-18D4-4348-B8B5-3AC04586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1AB-37E4-48B6-8E8B-96140C72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784-C943-4734-94ED-531D23B8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62B-595D-4D1A-B769-4A07E56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151-2C77-463A-BBA4-8890413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BF4-532A-4870-9626-FFC6A08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F853-E4C1-4F1B-AD2E-140C00D00A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nflogo"/>
          <p:cNvPicPr/>
          <p:nvPr/>
        </p:nvPicPr>
        <p:blipFill>
          <a:blip r:embed="rId2"/>
          <a:stretch/>
        </p:blipFill>
        <p:spPr>
          <a:xfrm>
            <a:off x="8028000" y="189000"/>
            <a:ext cx="952560" cy="981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0" y="65833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680000" y="65833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5280" y="98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ldbury Wells Vegetable S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NF Chef"/>
          <p:cNvPicPr/>
          <p:nvPr/>
        </p:nvPicPr>
        <p:blipFill>
          <a:blip r:embed="rId1"/>
          <a:stretch/>
        </p:blipFill>
        <p:spPr>
          <a:xfrm>
            <a:off x="395280" y="1989000"/>
            <a:ext cx="2136960" cy="309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Vegetable Soup"/>
          <p:cNvPicPr/>
          <p:nvPr/>
        </p:nvPicPr>
        <p:blipFill>
          <a:blip r:embed="rId2"/>
          <a:stretch/>
        </p:blipFill>
        <p:spPr>
          <a:xfrm>
            <a:off x="3492360" y="2060640"/>
            <a:ext cx="4641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tir in the flour and cook for 2 minutes.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76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ssolve the stock cube in the boiling water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815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dd the water to the saucepan and bring to the boil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761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69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Add the potatoes and simmer for 30 minutes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149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Serv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616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907920"/>
            <a:ext cx="78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further recipes, 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600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8000" cy="550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404000" y="2924280"/>
            <a:ext cx="4400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nion, chopp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arrot, d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eek, sl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tato, cu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lery sticks, in 2 cm length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bu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fl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vegetable stock cu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l water, bo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1197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board, knife, vegetable peeler, saucepan, weighing scales and measuring j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opping_board"/>
          <p:cNvPicPr/>
          <p:nvPr/>
        </p:nvPicPr>
        <p:blipFill>
          <a:blip r:embed="rId1"/>
          <a:stretch/>
        </p:blipFill>
        <p:spPr>
          <a:xfrm>
            <a:off x="468360" y="2205000"/>
            <a:ext cx="295128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ooks_knife"/>
          <p:cNvPicPr/>
          <p:nvPr/>
        </p:nvPicPr>
        <p:blipFill>
          <a:blip r:embed="rId2"/>
          <a:stretch/>
        </p:blipFill>
        <p:spPr>
          <a:xfrm>
            <a:off x="250920" y="6093000"/>
            <a:ext cx="2919240" cy="27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vegetable_knife"/>
          <p:cNvPicPr/>
          <p:nvPr/>
        </p:nvPicPr>
        <p:blipFill>
          <a:blip r:embed="rId3"/>
          <a:stretch/>
        </p:blipFill>
        <p:spPr>
          <a:xfrm>
            <a:off x="5435640" y="6021360"/>
            <a:ext cx="345600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opy of saucepan"/>
          <p:cNvPicPr/>
          <p:nvPr/>
        </p:nvPicPr>
        <p:blipFill>
          <a:blip r:embed="rId4"/>
          <a:stretch/>
        </p:blipFill>
        <p:spPr>
          <a:xfrm>
            <a:off x="4140360" y="2133720"/>
            <a:ext cx="3816360" cy="182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eighing_scales"/>
          <p:cNvPicPr/>
          <p:nvPr/>
        </p:nvPicPr>
        <p:blipFill>
          <a:blip r:embed="rId5"/>
          <a:stretch/>
        </p:blipFill>
        <p:spPr>
          <a:xfrm>
            <a:off x="2771640" y="3860640"/>
            <a:ext cx="223380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opy of measuring_jug"/>
          <p:cNvPicPr/>
          <p:nvPr/>
        </p:nvPicPr>
        <p:blipFill>
          <a:blip r:embed="rId6"/>
          <a:stretch/>
        </p:blipFill>
        <p:spPr>
          <a:xfrm>
            <a:off x="6732720" y="4221000"/>
            <a:ext cx="19447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el and chop the onion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5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4000" y="83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p and tail the carrot, then peel and d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08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9528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op and tail the leek, then slic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1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el and cube the potato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005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95280" y="69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ut the celery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49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2400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eat the oil in a saucepan and fry all the vegetables, except the potatoes, for 5 minutes.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8:50:23Z</dcterms:created>
  <dc:creator>Roy Ballam</dc:creator>
  <dc:description/>
  <dc:language>en-US</dc:language>
  <cp:lastModifiedBy>Bert van Zadel</cp:lastModifiedBy>
  <dcterms:modified xsi:type="dcterms:W3CDTF">2017-01-17T15:17:50Z</dcterms:modified>
  <cp:revision>11</cp:revision>
  <dc:subject/>
  <dc:title>Slide 1</dc:title>
</cp:coreProperties>
</file>