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B040-6A8C-4757-8976-7EDB35488F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171A-B4AB-49A4-A5D5-2A2360A37A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2DD0-9EE0-4E22-9D68-C593F4187E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AF5F-B5BD-4AFF-8D24-6C87D7D1B5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E6A7-A7A1-457B-82A7-5F64B46A98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5BF2-6CDA-49B7-ACC8-C26CF06E63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F099-BF5B-4C39-ABC6-EA28FAF0BE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F42-2C15-4390-BEA9-4EE4E2666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E586-5A2B-42B5-888D-C9B208A8E6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19A-2BCB-42EC-8D05-AB823E9C3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4D21-E78C-4C98-8D4B-3173059445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EEE2-E5E5-43BF-86BA-F015B7E5AA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2ABA3-C4B9-4437-9226-12C4CBCBB4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8FCF-BEEF-4B2A-8037-E8C14197A4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DFDF-68C2-4BC4-B54D-1848233566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6C27-6C54-4464-9643-5364615666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D20-1E66-4A65-9D82-23DCCBC71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FD04-63C2-4921-95CB-BB9A2742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0AD-4B03-4EEF-BD95-C04B23FDC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46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3285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63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46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3285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898D-CDE0-44DB-9862-DEC2121C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D68-FF8B-488F-9F0D-DA1AE02C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6B3-A312-4489-A9F8-63111CAC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3A0-517D-4900-A972-2FFD8DD2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70AC-D71D-4647-BB90-4D5CE4DE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F39A-BBEE-40A4-AEAF-622C573F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B4A-CE26-44D1-AAFA-54E61D6A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806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970-20D9-4F0D-8DD3-86C943EE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806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6364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0B9-3798-438B-A4FF-922D4D7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D383-32D3-412A-9E97-CF228B9705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bnflogo"/>
          <p:cNvPicPr/>
          <p:nvPr/>
        </p:nvPicPr>
        <p:blipFill>
          <a:blip r:embed="rId2"/>
          <a:stretch/>
        </p:blipFill>
        <p:spPr>
          <a:xfrm>
            <a:off x="8028000" y="189000"/>
            <a:ext cx="952560" cy="98100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0" y="6583320"/>
            <a:ext cx="42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680000" y="6583320"/>
            <a:ext cx="44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95280" y="98100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ldbury Wells Vegetable S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BNF Chef"/>
          <p:cNvPicPr/>
          <p:nvPr/>
        </p:nvPicPr>
        <p:blipFill>
          <a:blip r:embed="rId1"/>
          <a:stretch/>
        </p:blipFill>
        <p:spPr>
          <a:xfrm>
            <a:off x="395280" y="1989000"/>
            <a:ext cx="2136960" cy="309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Vegetable Soup"/>
          <p:cNvPicPr/>
          <p:nvPr/>
        </p:nvPicPr>
        <p:blipFill>
          <a:blip r:embed="rId2"/>
          <a:stretch/>
        </p:blipFill>
        <p:spPr>
          <a:xfrm>
            <a:off x="3492360" y="2060640"/>
            <a:ext cx="4641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"/>
          <p:cNvSpPr/>
          <p:nvPr/>
        </p:nvSpPr>
        <p:spPr>
          <a:xfrm>
            <a:off x="539640" y="907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tir in the flour and cook for 2 minutes.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976720" cy="51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issolve the stock cube in the boiling water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618156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Add the water to the saucepan and bring to the boil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57610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250920" y="692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Add the potatoes and simmer for 30 minutes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1492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Serv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5616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907920"/>
            <a:ext cx="78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or further recipes, go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ww.nutrition.org.uk/cook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© British Nutrition Foundation 20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132000" y="2781360"/>
            <a:ext cx="36007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7128000" cy="5506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404000" y="2924280"/>
            <a:ext cx="4400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onion, chopp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carrot, d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leek, slic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potato, cub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elery sticks, in 2 cm length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butt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g flou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vegetable stock cu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ml water, boi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68360" y="119700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pping board, knife, vegetable peeler, saucepan, weighing scales and measuring j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hopping_board"/>
          <p:cNvPicPr/>
          <p:nvPr/>
        </p:nvPicPr>
        <p:blipFill>
          <a:blip r:embed="rId1"/>
          <a:stretch/>
        </p:blipFill>
        <p:spPr>
          <a:xfrm>
            <a:off x="468360" y="2205000"/>
            <a:ext cx="295128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ooks_knife"/>
          <p:cNvPicPr/>
          <p:nvPr/>
        </p:nvPicPr>
        <p:blipFill>
          <a:blip r:embed="rId2"/>
          <a:stretch/>
        </p:blipFill>
        <p:spPr>
          <a:xfrm>
            <a:off x="250920" y="6093000"/>
            <a:ext cx="2919240" cy="274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vegetable_knife"/>
          <p:cNvPicPr/>
          <p:nvPr/>
        </p:nvPicPr>
        <p:blipFill>
          <a:blip r:embed="rId3"/>
          <a:stretch/>
        </p:blipFill>
        <p:spPr>
          <a:xfrm>
            <a:off x="5435640" y="6021360"/>
            <a:ext cx="3456000" cy="45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Copy of saucepan"/>
          <p:cNvPicPr/>
          <p:nvPr/>
        </p:nvPicPr>
        <p:blipFill>
          <a:blip r:embed="rId4"/>
          <a:stretch/>
        </p:blipFill>
        <p:spPr>
          <a:xfrm>
            <a:off x="4140360" y="2133720"/>
            <a:ext cx="3816360" cy="1820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weighing_scales"/>
          <p:cNvPicPr/>
          <p:nvPr/>
        </p:nvPicPr>
        <p:blipFill>
          <a:blip r:embed="rId5"/>
          <a:stretch/>
        </p:blipFill>
        <p:spPr>
          <a:xfrm>
            <a:off x="2771640" y="3860640"/>
            <a:ext cx="2233800" cy="206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Copy of measuring_jug"/>
          <p:cNvPicPr/>
          <p:nvPr/>
        </p:nvPicPr>
        <p:blipFill>
          <a:blip r:embed="rId6"/>
          <a:stretch/>
        </p:blipFill>
        <p:spPr>
          <a:xfrm>
            <a:off x="6732720" y="4221000"/>
            <a:ext cx="194472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395280" y="54936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1197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eel and chop the onion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6582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4000" y="836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op and tail the carrot, then peel and dice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40872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395280" y="836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Top and tail the leek, then slice.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49152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95280" y="765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eel and cube the potato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00552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395280" y="692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Cut the celery.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1499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324000" y="76500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Heat the oil in a saucepan and fry all the vegetables, except the potatoes, for 5 minutes.  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759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8:50:23Z</dcterms:created>
  <dc:creator>Roy Ballam</dc:creator>
  <dc:description/>
  <dc:language>en-US</dc:language>
  <cp:lastModifiedBy>Bert van Zadel</cp:lastModifiedBy>
  <dcterms:modified xsi:type="dcterms:W3CDTF">2017-01-17T15:17:50Z</dcterms:modified>
  <cp:revision>11</cp:revision>
  <dc:subject/>
  <dc:title>Slide 1</dc:title>
</cp:coreProperties>
</file>