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823B-A4E8-494C-95CA-CF04551F14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8583-11CB-446B-8052-BE9455DC0B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478C-72B8-4044-A961-D87675CBA8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BB2C-1681-449B-BAAF-0E7105F72C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B0EB-D08D-4E5F-8300-EB92E43E59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E7F5-F472-4C53-A435-B3F8788BFB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3E2A-364B-402D-8FAC-126DE11CA1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DB02-ECA3-4060-B1DA-3D960B4B85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0C0F-762D-403C-970B-4ECB48989C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A9A8-6516-4ACB-B5F2-6F5E99FDFA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FC4B-5D31-4E0C-A41A-579A908F23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A749-329C-4DF3-ADBB-EE962C8B5F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EAD9-6EA5-4D5D-B74D-C93D54D015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7E95-D878-48D2-B0B8-8C83ABB68D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3B07-5D03-40E7-BE39-30849E784A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5F20-27A8-4558-AB30-2600CA2D13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F77C-89ED-4508-BE38-130E181D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6364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425C-9BD3-4028-8283-0B104C9B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806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7636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806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7203-9B6B-4638-965A-D10BC800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46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32852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763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546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32852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898A-AADA-4DF5-ACA3-831163ADC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763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8D6E-0C26-4333-913C-F7891706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405A-4B07-467F-9D3A-8132A8FB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806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E3E2-BB0E-4094-8E40-C6ECAC78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247A-F0C9-404E-9DA6-B39EDD44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2FD9-BD60-42E6-9C0F-28B6F569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806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7636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869A-6E6F-4E85-8B3F-9A3958EA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806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806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252F-87DB-4FC0-BD4F-7BB0B57B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806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76364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CCBE-A20E-4630-8912-B8AF210C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5B04-FDC5-4CF6-84C4-B94A042A89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bnflogo"/>
          <p:cNvPicPr/>
          <p:nvPr/>
        </p:nvPicPr>
        <p:blipFill>
          <a:blip r:embed="rId2"/>
          <a:stretch/>
        </p:blipFill>
        <p:spPr>
          <a:xfrm>
            <a:off x="8028000" y="189000"/>
            <a:ext cx="952560" cy="98100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0" y="6583320"/>
            <a:ext cx="42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© British Nutrition Foundation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680000" y="6583320"/>
            <a:ext cx="44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nutrition.org.uk/cookc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95280" y="9810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ldbury Wells Vegetable S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BNF Chef"/>
          <p:cNvPicPr/>
          <p:nvPr/>
        </p:nvPicPr>
        <p:blipFill>
          <a:blip r:embed="rId1"/>
          <a:stretch/>
        </p:blipFill>
        <p:spPr>
          <a:xfrm>
            <a:off x="395280" y="1989000"/>
            <a:ext cx="2136960" cy="3097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Vegetable Soup"/>
          <p:cNvPicPr/>
          <p:nvPr/>
        </p:nvPicPr>
        <p:blipFill>
          <a:blip r:embed="rId2"/>
          <a:stretch/>
        </p:blipFill>
        <p:spPr>
          <a:xfrm>
            <a:off x="3492360" y="2060640"/>
            <a:ext cx="464184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539640" y="90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Stir in the flour and cook for 2 minutes.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692360" y="1413000"/>
            <a:ext cx="5976720" cy="51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395280" y="765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Dissolve the stock cube in the boiling water.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18156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395280" y="765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Add the water to the saucepan and bring to the boil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57610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250920" y="692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Add the potatoes and simmer for 30 minutes.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1492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395280" y="765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 Serve.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61672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826920" y="907920"/>
            <a:ext cx="784872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r further recipes, go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ww.nutrition.org.uk/cookclu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© British Nutrition Foundation 20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3132000" y="2781360"/>
            <a:ext cx="360072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7128000" cy="5506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"/>
          <p:cNvSpPr/>
          <p:nvPr/>
        </p:nvSpPr>
        <p:spPr>
          <a:xfrm>
            <a:off x="395280" y="54936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gred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404000" y="2924280"/>
            <a:ext cx="440064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onion, chopp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carrot, dic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leek, slic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potato, cub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elery sticks, in 2 cm length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g butt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g flou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vegetable stock cub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ml water, boi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395280" y="54936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68360" y="11970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pping board, knife, vegetable peeler, saucepan, weighing scales and measuring ju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chopping_board"/>
          <p:cNvPicPr/>
          <p:nvPr/>
        </p:nvPicPr>
        <p:blipFill>
          <a:blip r:embed="rId1"/>
          <a:stretch/>
        </p:blipFill>
        <p:spPr>
          <a:xfrm>
            <a:off x="468360" y="2205000"/>
            <a:ext cx="2951280" cy="1571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cooks_knife"/>
          <p:cNvPicPr/>
          <p:nvPr/>
        </p:nvPicPr>
        <p:blipFill>
          <a:blip r:embed="rId2"/>
          <a:stretch/>
        </p:blipFill>
        <p:spPr>
          <a:xfrm>
            <a:off x="250920" y="6093000"/>
            <a:ext cx="2919240" cy="27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vegetable_knife"/>
          <p:cNvPicPr/>
          <p:nvPr/>
        </p:nvPicPr>
        <p:blipFill>
          <a:blip r:embed="rId3"/>
          <a:stretch/>
        </p:blipFill>
        <p:spPr>
          <a:xfrm>
            <a:off x="5435640" y="6021360"/>
            <a:ext cx="3456000" cy="452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Copy of saucepan"/>
          <p:cNvPicPr/>
          <p:nvPr/>
        </p:nvPicPr>
        <p:blipFill>
          <a:blip r:embed="rId4"/>
          <a:stretch/>
        </p:blipFill>
        <p:spPr>
          <a:xfrm>
            <a:off x="4140360" y="2133720"/>
            <a:ext cx="3816360" cy="1820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weighing_scales"/>
          <p:cNvPicPr/>
          <p:nvPr/>
        </p:nvPicPr>
        <p:blipFill>
          <a:blip r:embed="rId5"/>
          <a:stretch/>
        </p:blipFill>
        <p:spPr>
          <a:xfrm>
            <a:off x="2771640" y="3860640"/>
            <a:ext cx="2233800" cy="2060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Copy of measuring_jug"/>
          <p:cNvPicPr/>
          <p:nvPr/>
        </p:nvPicPr>
        <p:blipFill>
          <a:blip r:embed="rId6"/>
          <a:stretch/>
        </p:blipFill>
        <p:spPr>
          <a:xfrm>
            <a:off x="6732720" y="4221000"/>
            <a:ext cx="194472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395280" y="54936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24000" y="1197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eel and chop the onion.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6582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324000" y="836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op and tail the carrot, then peel and dice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408720" cy="49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395280" y="836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Top and tail the leek, then slice.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49152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395280" y="765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eel and cube the potato.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619280" y="1413000"/>
            <a:ext cx="600552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395280" y="6922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Cut the celery.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14996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324000" y="765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Heat the oil in a saucepan and fry all the vegetables, except the potatoes, for 5 minutes.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7596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08:50:23Z</dcterms:created>
  <dc:creator>Roy Ballam</dc:creator>
  <dc:description/>
  <dc:language>en-US</dc:language>
  <cp:lastModifiedBy>Bert van Zadel</cp:lastModifiedBy>
  <dcterms:modified xsi:type="dcterms:W3CDTF">2017-01-17T15:17:50Z</dcterms:modified>
  <cp:revision>11</cp:revision>
  <dc:subject/>
  <dc:title>Slide 1</dc:title>
</cp:coreProperties>
</file>