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75D3-1860-461E-B862-A3CBB06635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BA02-BF22-4628-9261-29CA91401A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D5E7-13F3-4F2D-92EF-788A972DC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BD36-E9F6-4365-9E81-44C9E1622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01C4-9E79-4D16-8DA4-C3F158AA39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A003-5B3F-41B8-8922-36C7321CFD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4E82-2498-440D-BD89-E656875169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778A-DE15-4784-83BC-11AE5411FD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31B1-8FBF-4C0F-B85D-65433EC021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5482-2C75-4B57-9155-7E462E854E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E340-D175-485B-BDEA-07D0C7F588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3AF3-A33F-4D9E-AD8D-ADB9D6AD97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9E70-729E-4578-9396-ABFEF6D6E2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8463-9714-4158-BEC8-EBB038BB7D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2B90-2CF2-40DA-977B-887CD34382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853A-3884-4673-A171-5C9CF149B1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BC0-8F03-4B04-85FC-50A4ED1E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6364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061-A62F-41BB-A856-95B4D62A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806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50F-AA63-4A2E-B2EF-DA467DEF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46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285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63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46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285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50A-FDA2-447E-8217-35DC9C72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A38-E553-449E-9D3C-92C62996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810-569B-4741-B8C8-7D5E3645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55F-DD9D-464D-BC62-380E4A1B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C66-8303-4EC3-B882-8578C6E5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C50-1274-4122-B796-FC7F51EC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718-40D6-4004-93D2-FB953F74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806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BB1-E730-47B1-97DF-5D4FC9C0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F11-A7FA-4124-841F-2FF2BF46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285B-95AB-420B-8C34-D502DAD1EF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bnflogo"/>
          <p:cNvPicPr/>
          <p:nvPr/>
        </p:nvPicPr>
        <p:blipFill>
          <a:blip r:embed="rId2"/>
          <a:stretch/>
        </p:blipFill>
        <p:spPr>
          <a:xfrm>
            <a:off x="8028000" y="189000"/>
            <a:ext cx="952560" cy="981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0" y="658332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British Nutrition Foundation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680000" y="6583320"/>
            <a:ext cx="44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nutrition.org.uk/cook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95280" y="98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ldbury Wells Vegetable S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BNF Chef"/>
          <p:cNvPicPr/>
          <p:nvPr/>
        </p:nvPicPr>
        <p:blipFill>
          <a:blip r:embed="rId1"/>
          <a:stretch/>
        </p:blipFill>
        <p:spPr>
          <a:xfrm>
            <a:off x="395280" y="1989000"/>
            <a:ext cx="2136960" cy="309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Vegetable Soup"/>
          <p:cNvPicPr/>
          <p:nvPr/>
        </p:nvPicPr>
        <p:blipFill>
          <a:blip r:embed="rId2"/>
          <a:stretch/>
        </p:blipFill>
        <p:spPr>
          <a:xfrm>
            <a:off x="3492360" y="2060640"/>
            <a:ext cx="46418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53964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tir in the flour and cook for 2 minutes.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97672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issolve the stock cube in the boiling water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8156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Add the water to the saucepan and bring to the boil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761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692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Add the potatoes and simmer for 30 minutes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1492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Serve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61672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826920" y="907920"/>
            <a:ext cx="7848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 further recipes, go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ww.nutrition.org.uk/cook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© British Nutrition Foundation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36007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128000" cy="5506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404000" y="2924280"/>
            <a:ext cx="4400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nion, chopp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arrot, dic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leek, slic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otato, cub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elery sticks, in 2 cm length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g butt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g flou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vegetable stock cu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ml water, boi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68360" y="1197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pping board, knife, vegetable peeler, saucepan, weighing scales and measuring j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hopping_board"/>
          <p:cNvPicPr/>
          <p:nvPr/>
        </p:nvPicPr>
        <p:blipFill>
          <a:blip r:embed="rId1"/>
          <a:stretch/>
        </p:blipFill>
        <p:spPr>
          <a:xfrm>
            <a:off x="468360" y="2205000"/>
            <a:ext cx="295128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ooks_knife"/>
          <p:cNvPicPr/>
          <p:nvPr/>
        </p:nvPicPr>
        <p:blipFill>
          <a:blip r:embed="rId2"/>
          <a:stretch/>
        </p:blipFill>
        <p:spPr>
          <a:xfrm>
            <a:off x="250920" y="6093000"/>
            <a:ext cx="2919240" cy="27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vegetable_knife"/>
          <p:cNvPicPr/>
          <p:nvPr/>
        </p:nvPicPr>
        <p:blipFill>
          <a:blip r:embed="rId3"/>
          <a:stretch/>
        </p:blipFill>
        <p:spPr>
          <a:xfrm>
            <a:off x="5435640" y="6021360"/>
            <a:ext cx="3456000" cy="45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opy of saucepan"/>
          <p:cNvPicPr/>
          <p:nvPr/>
        </p:nvPicPr>
        <p:blipFill>
          <a:blip r:embed="rId4"/>
          <a:stretch/>
        </p:blipFill>
        <p:spPr>
          <a:xfrm>
            <a:off x="4140360" y="2133720"/>
            <a:ext cx="3816360" cy="1820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weighing_scales"/>
          <p:cNvPicPr/>
          <p:nvPr/>
        </p:nvPicPr>
        <p:blipFill>
          <a:blip r:embed="rId5"/>
          <a:stretch/>
        </p:blipFill>
        <p:spPr>
          <a:xfrm>
            <a:off x="2771640" y="3860640"/>
            <a:ext cx="2233800" cy="206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Copy of measuring_jug"/>
          <p:cNvPicPr/>
          <p:nvPr/>
        </p:nvPicPr>
        <p:blipFill>
          <a:blip r:embed="rId6"/>
          <a:stretch/>
        </p:blipFill>
        <p:spPr>
          <a:xfrm>
            <a:off x="6732720" y="4221000"/>
            <a:ext cx="19447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1197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el and chop the onion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5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4000" y="836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p and tail the carrot, then peel and dic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40872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39528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op and tail the leek, then slice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915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eel and cube the potato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0055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95280" y="692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ut the celery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14996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24000" y="76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Heat the oil in a saucepan and fry all the vegetables, except the potatoes, for 5 minutes.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7596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8:50:23Z</dcterms:created>
  <dc:creator>Roy Ballam</dc:creator>
  <dc:description/>
  <dc:language>en-US</dc:language>
  <cp:lastModifiedBy>Bert van Zadel</cp:lastModifiedBy>
  <dcterms:modified xsi:type="dcterms:W3CDTF">2017-01-17T15:17:50Z</dcterms:modified>
  <cp:revision>11</cp:revision>
  <dc:subject/>
  <dc:title>Slide 1</dc:title>
</cp:coreProperties>
</file>