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6377-2255-48FE-AB2C-9CCED62621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9090-EAA7-40BD-83D5-85C9D6592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3672-6761-43CC-98B9-615B9E3E4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0EF5-B1A2-4D6B-B4BC-CC9D4CB94A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DCE0-2D2F-448C-91C5-E240982BC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DBB4-0708-4E84-BA34-F3440133E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F06E-A21B-4B2C-ADB0-6A0333B6B6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F734-0D6F-4512-BD56-6BA80899E5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A52A-DB09-4045-BD11-938098E91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2FC8-AA79-4BCC-8B5C-F434404EF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7759-6D59-4D45-9A65-AB7BE3B8EA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641E-493D-4C2D-99A7-0BBF5D814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0519-F617-431C-90E0-47A88C1E67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BF02-E27B-49D1-B9BB-BEBE36544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EFF6-0046-40E1-94DE-7AECC36B57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463-272C-4219-A4AC-AFB0DFCF7C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695-2594-4967-8E08-01158C6A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0C3-D9E2-45BF-9341-88CB7D50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C15-E635-4B75-9867-3D114BB8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46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285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63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46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285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117-6191-4EEA-9A48-0ED16E44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096-4D02-4BAA-93E0-0194DB7B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3B3-2CE6-4EA7-A052-02F697D9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E74-26EA-46CE-83A6-A9501FF7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CFE-7744-4F5C-A974-E6994D5F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90F-F700-4529-9487-F8C04261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B73-28A6-4206-AFBE-F3E684D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BAC-1376-4D35-B71C-E120DA66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F54-E415-4B41-A5F8-A5361D87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B65B-94FD-4CCE-BD33-D562D13A68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nflogo"/>
          <p:cNvPicPr/>
          <p:nvPr/>
        </p:nvPicPr>
        <p:blipFill>
          <a:blip r:embed="rId2"/>
          <a:stretch/>
        </p:blipFill>
        <p:spPr>
          <a:xfrm>
            <a:off x="8028000" y="189000"/>
            <a:ext cx="952560" cy="981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0" y="658332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680000" y="658332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95280" y="98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ldbury Wells Vegetable S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BNF Chef"/>
          <p:cNvPicPr/>
          <p:nvPr/>
        </p:nvPicPr>
        <p:blipFill>
          <a:blip r:embed="rId1"/>
          <a:stretch/>
        </p:blipFill>
        <p:spPr>
          <a:xfrm>
            <a:off x="395280" y="1989000"/>
            <a:ext cx="2136960" cy="309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Vegetable Soup"/>
          <p:cNvPicPr/>
          <p:nvPr/>
        </p:nvPicPr>
        <p:blipFill>
          <a:blip r:embed="rId2"/>
          <a:stretch/>
        </p:blipFill>
        <p:spPr>
          <a:xfrm>
            <a:off x="3492360" y="2060640"/>
            <a:ext cx="4641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53964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tir in the flour and cook for 2 minutes.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9767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issolve the stock cube in the boiling water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815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Add the water to the saucepan and bring to the boil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761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692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Add the potatoes and simmer for 30 minutes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1492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Serv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616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26920" y="907920"/>
            <a:ext cx="784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further recipes, go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600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128000" cy="550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404000" y="2924280"/>
            <a:ext cx="4400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nion, chopp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arrot, d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leek, sl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otato, cu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elery sticks, in 2 cm length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but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flou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vegetable stock cu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ml water, boi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360" y="1197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pping board, knife, vegetable peeler, saucepan, weighing scales and measuring j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hopping_board"/>
          <p:cNvPicPr/>
          <p:nvPr/>
        </p:nvPicPr>
        <p:blipFill>
          <a:blip r:embed="rId1"/>
          <a:stretch/>
        </p:blipFill>
        <p:spPr>
          <a:xfrm>
            <a:off x="468360" y="2205000"/>
            <a:ext cx="295128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ooks_knife"/>
          <p:cNvPicPr/>
          <p:nvPr/>
        </p:nvPicPr>
        <p:blipFill>
          <a:blip r:embed="rId2"/>
          <a:stretch/>
        </p:blipFill>
        <p:spPr>
          <a:xfrm>
            <a:off x="250920" y="6093000"/>
            <a:ext cx="2919240" cy="27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vegetable_knife"/>
          <p:cNvPicPr/>
          <p:nvPr/>
        </p:nvPicPr>
        <p:blipFill>
          <a:blip r:embed="rId3"/>
          <a:stretch/>
        </p:blipFill>
        <p:spPr>
          <a:xfrm>
            <a:off x="5435640" y="6021360"/>
            <a:ext cx="3456000" cy="45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opy of saucepan"/>
          <p:cNvPicPr/>
          <p:nvPr/>
        </p:nvPicPr>
        <p:blipFill>
          <a:blip r:embed="rId4"/>
          <a:stretch/>
        </p:blipFill>
        <p:spPr>
          <a:xfrm>
            <a:off x="4140360" y="2133720"/>
            <a:ext cx="3816360" cy="182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weighing_scales"/>
          <p:cNvPicPr/>
          <p:nvPr/>
        </p:nvPicPr>
        <p:blipFill>
          <a:blip r:embed="rId5"/>
          <a:stretch/>
        </p:blipFill>
        <p:spPr>
          <a:xfrm>
            <a:off x="2771640" y="3860640"/>
            <a:ext cx="223380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Copy of measuring_jug"/>
          <p:cNvPicPr/>
          <p:nvPr/>
        </p:nvPicPr>
        <p:blipFill>
          <a:blip r:embed="rId6"/>
          <a:stretch/>
        </p:blipFill>
        <p:spPr>
          <a:xfrm>
            <a:off x="6732720" y="4221000"/>
            <a:ext cx="19447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el and chop the onion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5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4000" y="83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p and tail the carrot, then peel and di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087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39528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op and tail the leek, then slic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91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eel and cube the potato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0055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95280" y="692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ut the celery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1499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24000" y="76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Heat the oil in a saucepan and fry all the vegetables, except the potatoes, for 5 minutes.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8:50:23Z</dcterms:created>
  <dc:creator>Roy Ballam</dc:creator>
  <dc:description/>
  <dc:language>en-US</dc:language>
  <cp:lastModifiedBy>Bert van Zadel</cp:lastModifiedBy>
  <dcterms:modified xsi:type="dcterms:W3CDTF">2017-01-17T15:17:50Z</dcterms:modified>
  <cp:revision>11</cp:revision>
  <dc:subject/>
  <dc:title>Slide 1</dc:title>
</cp:coreProperties>
</file>