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6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4EC9-BCC5-41DD-892A-5E48A09C346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5822-1F71-4523-A023-5B8BF299CC0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DB0D-513F-4B63-8B01-BB837F6C040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88F4-AA75-40A1-B946-870CBC5A921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E0A0-D7FD-4E8A-B098-805356D237E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D484-4AF2-40B7-8B54-6821D60074F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0054-1DE4-4F01-8661-B1C76BAC340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A560-C173-4198-9D5E-2E07E3EEC11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A8FB-64D2-4840-AE8B-BFFFFC540CF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B8C1-86E3-4357-9635-6DF1010ED17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FE86-5444-482C-A994-3481621649F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89BD-09F0-4BCE-BAAB-532E42263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8025-BDD3-40D4-B380-22970D11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5E14-39E8-407F-9957-8F2DC6937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B41C-9683-488D-AFAE-BC477FED9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F257-97DD-4BA2-A1DD-71FDFEE55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63DC-9530-4F59-B9A4-8722E2FE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0B9A-9598-4C0E-BE0E-68233431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2309-D110-40C1-8729-DFD3676C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CCDE-B46E-4799-850A-B84F5E39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A89B-2323-410F-A9B7-71CA3307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9C20-18E4-449B-B6C0-6613361F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982E-0075-41D3-9FA8-4FDC2D44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3CDB-F1B3-43D9-839F-42F3CDF2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F755-93E3-492A-BDF6-1229AE47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545E-E17E-4D90-9C1B-F4468ADB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B29A0-11F0-4D8B-BD03-462556D3C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DC7D-0C75-4B35-A6AD-EC9A7D17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89FF-3BEE-4F68-AF1E-474C5633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8E6F-F075-4ABF-B312-EA7BFFF7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9D35-60F6-43AE-80A5-F8CEF30E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2D4E-F34D-4917-AA95-3EB25834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9B34-5444-4BD7-866B-49A21550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5F93-36BC-4131-B94C-632C5D9B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423C-AF02-4EE2-8D5F-D9D3FAE0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630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C020-1438-4C19-87F3-97A41593265C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31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630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708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90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943A-99AB-4D95-AA05-DED091B7008F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8DA1-6AC9-4BD1-AF5D-3FD32B1E8570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lecuulformules (voorbeelden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 = wat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zuurst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watersto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ammoniak  N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stiksto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m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monoxid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dioxi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or meer formules (die je dus ook moet kennen!) zie de opdrachten bij de powerpoint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0F89-4FCB-4208-8F85-2FA03F48A02D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Oval 10"/>
          <p:cNvSpPr/>
          <p:nvPr/>
        </p:nvSpPr>
        <p:spPr>
          <a:xfrm>
            <a:off x="320364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1476360" y="350028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Oval 10"/>
          <p:cNvSpPr/>
          <p:nvPr/>
        </p:nvSpPr>
        <p:spPr>
          <a:xfrm>
            <a:off x="1835280" y="4005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76CA-2991-476D-9D78-576F385F18F5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EA52-050F-488A-9B72-FDB731F0068F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eth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prop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3995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5003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3924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4932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Rechte verbindingslijn 34"/>
          <p:cNvSpPr/>
          <p:nvPr/>
        </p:nvSpPr>
        <p:spPr>
          <a:xfrm flipH="1">
            <a:off x="4571640" y="198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Rechte verbindingslijn 35"/>
          <p:cNvSpPr/>
          <p:nvPr/>
        </p:nvSpPr>
        <p:spPr>
          <a:xfrm flipH="1">
            <a:off x="4571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Rechte verbindingslijn 36"/>
          <p:cNvSpPr/>
          <p:nvPr/>
        </p:nvSpPr>
        <p:spPr>
          <a:xfrm flipH="1">
            <a:off x="4642920" y="3213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Rechte verbindingslijn 37"/>
          <p:cNvSpPr/>
          <p:nvPr/>
        </p:nvSpPr>
        <p:spPr>
          <a:xfrm flipH="1">
            <a:off x="4642920" y="342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Rechte verbindingslijn 38"/>
          <p:cNvSpPr/>
          <p:nvPr/>
        </p:nvSpPr>
        <p:spPr>
          <a:xfrm flipV="1">
            <a:off x="5364000" y="3715920"/>
            <a:ext cx="0" cy="3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5076720" y="4076640"/>
            <a:ext cx="57492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543564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5364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3780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378000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3780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378000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5364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565164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5148360" y="465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464328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E0C2-30F7-455E-861A-5386FBC0D38E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1-oct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octaa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341964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5148360" y="48736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2050920" y="191628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2916360" y="19162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Rechte verbindingslijn 34"/>
          <p:cNvSpPr/>
          <p:nvPr/>
        </p:nvSpPr>
        <p:spPr>
          <a:xfrm flipH="1">
            <a:off x="2627280" y="2133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Rechte verbindingslijn 35"/>
          <p:cNvSpPr/>
          <p:nvPr/>
        </p:nvSpPr>
        <p:spPr>
          <a:xfrm flipH="1">
            <a:off x="2627280" y="2276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Rechte verbindingslijn 36"/>
          <p:cNvSpPr/>
          <p:nvPr/>
        </p:nvSpPr>
        <p:spPr>
          <a:xfrm flipH="1">
            <a:off x="4067280" y="5157720"/>
            <a:ext cx="217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Rechte verbindingslijn 38"/>
          <p:cNvSpPr/>
          <p:nvPr/>
        </p:nvSpPr>
        <p:spPr>
          <a:xfrm flipH="1">
            <a:off x="4932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Oval 10"/>
          <p:cNvSpPr/>
          <p:nvPr/>
        </p:nvSpPr>
        <p:spPr>
          <a:xfrm>
            <a:off x="428472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Oval 10"/>
          <p:cNvSpPr/>
          <p:nvPr/>
        </p:nvSpPr>
        <p:spPr>
          <a:xfrm>
            <a:off x="2700360" y="285264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Oval 10"/>
          <p:cNvSpPr/>
          <p:nvPr/>
        </p:nvSpPr>
        <p:spPr>
          <a:xfrm>
            <a:off x="334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190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Oval 10"/>
          <p:cNvSpPr/>
          <p:nvPr/>
        </p:nvSpPr>
        <p:spPr>
          <a:xfrm>
            <a:off x="183528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1763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Oval 10"/>
          <p:cNvSpPr/>
          <p:nvPr/>
        </p:nvSpPr>
        <p:spPr>
          <a:xfrm>
            <a:off x="82692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262728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349236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169236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Oval 10"/>
          <p:cNvSpPr/>
          <p:nvPr/>
        </p:nvSpPr>
        <p:spPr>
          <a:xfrm>
            <a:off x="262728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82692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Rechte verbindingslijn 29"/>
          <p:cNvSpPr/>
          <p:nvPr/>
        </p:nvSpPr>
        <p:spPr>
          <a:xfrm>
            <a:off x="3276720" y="2492280"/>
            <a:ext cx="0" cy="289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2556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161928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68436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6012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694836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Rechte verbindingslijn 55"/>
          <p:cNvSpPr/>
          <p:nvPr/>
        </p:nvSpPr>
        <p:spPr>
          <a:xfrm flipH="1">
            <a:off x="3203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Rechte verbindingslijn 56"/>
          <p:cNvSpPr/>
          <p:nvPr/>
        </p:nvSpPr>
        <p:spPr>
          <a:xfrm flipH="1">
            <a:off x="2268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Rechte verbindingslijn 57"/>
          <p:cNvSpPr/>
          <p:nvPr/>
        </p:nvSpPr>
        <p:spPr>
          <a:xfrm flipH="1">
            <a:off x="1331640" y="515772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32400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Rechte verbindingslijn 60"/>
          <p:cNvSpPr/>
          <p:nvPr/>
        </p:nvSpPr>
        <p:spPr>
          <a:xfrm flipH="1">
            <a:off x="579600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Rechte verbindingslijn 61"/>
          <p:cNvSpPr/>
          <p:nvPr/>
        </p:nvSpPr>
        <p:spPr>
          <a:xfrm flipH="1">
            <a:off x="6659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3564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4427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529272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Oval 10"/>
          <p:cNvSpPr/>
          <p:nvPr/>
        </p:nvSpPr>
        <p:spPr>
          <a:xfrm>
            <a:off x="6227640" y="458136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716436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4356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514836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6084720" y="5445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709308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7524720" y="5013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298764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Oval 10"/>
          <p:cNvSpPr/>
          <p:nvPr/>
        </p:nvSpPr>
        <p:spPr>
          <a:xfrm>
            <a:off x="385128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478800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572436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673272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Oval 10"/>
          <p:cNvSpPr/>
          <p:nvPr/>
        </p:nvSpPr>
        <p:spPr>
          <a:xfrm>
            <a:off x="774072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3132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399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493236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579600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687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7885080" y="2349360"/>
            <a:ext cx="35892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8317080" y="285264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399564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485928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5796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Oval 10"/>
          <p:cNvSpPr/>
          <p:nvPr/>
        </p:nvSpPr>
        <p:spPr>
          <a:xfrm>
            <a:off x="6804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Oval 10"/>
          <p:cNvSpPr/>
          <p:nvPr/>
        </p:nvSpPr>
        <p:spPr>
          <a:xfrm>
            <a:off x="7885080" y="3429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Rechte verbindingslijn 93"/>
          <p:cNvSpPr/>
          <p:nvPr/>
        </p:nvSpPr>
        <p:spPr>
          <a:xfrm flipH="1">
            <a:off x="3564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Rechte verbindingslijn 94"/>
          <p:cNvSpPr/>
          <p:nvPr/>
        </p:nvSpPr>
        <p:spPr>
          <a:xfrm flipH="1">
            <a:off x="4572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Rechte verbindingslijn 95"/>
          <p:cNvSpPr/>
          <p:nvPr/>
        </p:nvSpPr>
        <p:spPr>
          <a:xfrm flipH="1">
            <a:off x="5435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Rechte verbindingslijn 96"/>
          <p:cNvSpPr/>
          <p:nvPr/>
        </p:nvSpPr>
        <p:spPr>
          <a:xfrm flipH="1">
            <a:off x="6443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Rechte verbindingslijn 97"/>
          <p:cNvSpPr/>
          <p:nvPr/>
        </p:nvSpPr>
        <p:spPr>
          <a:xfrm flipH="1">
            <a:off x="7451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2B12-E2AD-42EA-B024-3FCDC17D37F7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Additie van broom aan eth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437A-7503-4480-930F-9D81CF2D11DB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Oval 4"/>
          <p:cNvSpPr/>
          <p:nvPr/>
        </p:nvSpPr>
        <p:spPr>
          <a:xfrm>
            <a:off x="1619280" y="2060640"/>
            <a:ext cx="6271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771640" y="2060640"/>
            <a:ext cx="59220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Rechte verbindingslijn 74"/>
          <p:cNvSpPr/>
          <p:nvPr/>
        </p:nvSpPr>
        <p:spPr>
          <a:xfrm flipH="1">
            <a:off x="2339640" y="2349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651E-A108-4B2E-B10D-C604D97F7764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A91D-DF3F-4852-8188-A5A910B082E3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Rechte verbindingslijn 34"/>
          <p:cNvSpPr/>
          <p:nvPr/>
        </p:nvSpPr>
        <p:spPr>
          <a:xfrm flipH="1">
            <a:off x="2411280" y="3573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A960-20C6-440B-98B4-84596422C001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3:05:39Z</dcterms:created>
  <dc:creator>Lammers</dc:creator>
  <dc:description/>
  <dc:language>en-US</dc:language>
  <cp:lastModifiedBy>Rianne</cp:lastModifiedBy>
  <dcterms:modified xsi:type="dcterms:W3CDTF">2014-06-28T12:19:36Z</dcterms:modified>
  <cp:revision>163</cp:revision>
  <dc:subject/>
  <dc:title>Opstellen reactievergelijkingen</dc:title>
</cp:coreProperties>
</file>