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8F4-938E-4FFE-A673-519DA5E48C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9C8-537C-48CE-9854-1C606B38F2C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0F1-B574-4B00-BF35-11B9BB892BD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C41-B2C8-49A3-9843-26AB257CBDE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2D0-2E5D-4C6A-8A31-27C13F3DB9B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3BE3-7D81-4F64-A072-45B07C8EA2B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C73-DF63-430C-8F93-202C99B1B05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0227-0C0D-47BC-B5FD-E213FD3C588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9C7-E6B2-4E30-B39A-57218191A90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C9F5-EBC4-45B7-83F3-E59C1EDA8B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458-5599-4743-946C-72E60FBA2B1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789-28D9-4BF5-BE78-A95917A963A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B27-5911-492F-B402-D8337F30FEB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903D-5E66-4963-9EA5-3F66258F4B8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C46-F48A-4CD1-BCA3-E36E686408D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293-9C28-45A3-AD65-30BDED2B224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1E1-3216-4C3C-B2C2-45D616BC69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09C-5FDC-4E7D-9F51-8DEB65406DD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C5F9-17D5-4AEB-B45F-3D1443C839D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188-5D70-4A0A-85CD-6845809C500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B8F-291F-4F24-A6B4-186BDC04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7EA-6E45-4554-9664-9230F73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673-1D45-401F-80C8-5844EE28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C86-5021-4254-B594-89D79582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410-995A-4B14-81A3-079C4AB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632-5880-4373-AF1B-84B68C26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8F4-D3CC-46BD-BE78-6602A14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603-B2BD-4F7A-ABB5-4F4434EF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EDD-362D-4AD6-9669-FDD685C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C9D-5389-4665-AF09-3F82F66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7FB-B2B4-4B7B-9D3A-47CE568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BFC-6F74-4229-ADB4-1C1796E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8FD-4BA8-47B2-9228-5322C61051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devosarchitecten.nl/wp-content/uploads/ruzie.png&amp;imgrefurl=http://devosarchitecten.nl/%3Fpage_id%3D217&amp;usg=__Ur2itKiZFG9GNwgJvGligbylS1g=&amp;h=204&amp;w=340&amp;sz=39&amp;hl=nl&amp;start=5&amp;um=1&amp;tbnid=oM7WGA5bL_JWfM:&amp;tbnh=71&amp;tbnw=119&amp;prev=/images%3Fq%3Druzie%26ndsp%3D18%26hl%3Dnl%26rlz%3D1G1GGLQ_NLNL343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en 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oost"/>
          <p:cNvPicPr/>
          <p:nvPr/>
        </p:nvPicPr>
        <p:blipFill>
          <a:blip r:embed="rId1"/>
          <a:stretch/>
        </p:blipFill>
        <p:spPr>
          <a:xfrm>
            <a:off x="3132000" y="1413000"/>
            <a:ext cx="280836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32440" y="2177640"/>
            <a:ext cx="15228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16000" y="1341360"/>
            <a:ext cx="7128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nk tenminste 2 dagen in een week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veel gedronken? Drink dan daarna 2 aaneengesloten dagen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wanneer je nog wilt werken, studeren of spo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in het verk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drinken als reactie op spanningen of persoon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 met alcohol bij medicijngebru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een stimulerend mid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S_7414659_7414659_1078965b"/>
          <p:cNvPicPr/>
          <p:nvPr/>
        </p:nvPicPr>
        <p:blipFill>
          <a:blip r:embed="rId1"/>
          <a:stretch/>
        </p:blipFill>
        <p:spPr>
          <a:xfrm>
            <a:off x="2843280" y="2637000"/>
            <a:ext cx="2654280" cy="38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voedza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dyn002_original_150_184_gif_8616_87c028f65fc6995cf6f33eed40cbe252"/>
          <p:cNvPicPr/>
          <p:nvPr/>
        </p:nvPicPr>
        <p:blipFill>
          <a:blip r:embed="rId1"/>
          <a:stretch/>
        </p:blipFill>
        <p:spPr>
          <a:xfrm>
            <a:off x="2700360" y="2492280"/>
            <a:ext cx="316872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16000" y="184464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Je wordt weer nuchter door eten, bewegen, overgeven of in de frisse lucht 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kotsen"/>
          <p:cNvPicPr/>
          <p:nvPr/>
        </p:nvPicPr>
        <p:blipFill>
          <a:blip r:embed="rId1"/>
          <a:stretch/>
        </p:blipFill>
        <p:spPr>
          <a:xfrm>
            <a:off x="3132000" y="2852640"/>
            <a:ext cx="2513160" cy="36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lang ik niets voel van de alcohol, kan het geen kw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23(1)"/>
          <p:cNvPicPr/>
          <p:nvPr/>
        </p:nvPicPr>
        <p:blipFill>
          <a:blip r:embed="rId1"/>
          <a:stretch/>
        </p:blipFill>
        <p:spPr>
          <a:xfrm>
            <a:off x="3276720" y="2565360"/>
            <a:ext cx="26938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broedert en veroorzaakt geen agre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ruz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924280"/>
            <a:ext cx="496908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lcohol op presteer ik b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721040" cy="32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 beste hersencellen blijven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lcoholmisbruik"/>
          <p:cNvPicPr/>
          <p:nvPr/>
        </p:nvPicPr>
        <p:blipFill>
          <a:blip r:embed="rId1"/>
          <a:stretch/>
        </p:blipFill>
        <p:spPr>
          <a:xfrm>
            <a:off x="2916360" y="2492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drinken is goed voor de nach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70021_962_1178806423800-kater_later_KL"/>
          <p:cNvPicPr/>
          <p:nvPr/>
        </p:nvPicPr>
        <p:blipFill>
          <a:blip r:embed="rId1"/>
          <a:stretch/>
        </p:blipFill>
        <p:spPr>
          <a:xfrm>
            <a:off x="1908000" y="2492280"/>
            <a:ext cx="5185080" cy="39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niet maar drink met m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roost%20logo%20draft%20334"/>
          <p:cNvPicPr/>
          <p:nvPr/>
        </p:nvPicPr>
        <p:blipFill>
          <a:blip r:embed="rId1"/>
          <a:stretch/>
        </p:blipFill>
        <p:spPr>
          <a:xfrm>
            <a:off x="1979640" y="1700280"/>
            <a:ext cx="5273640" cy="29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ankcontrole_3"/>
          <p:cNvPicPr/>
          <p:nvPr/>
        </p:nvPicPr>
        <p:blipFill>
          <a:blip r:embed="rId2"/>
          <a:stretch/>
        </p:blipFill>
        <p:spPr>
          <a:xfrm>
            <a:off x="3059280" y="3141720"/>
            <a:ext cx="2695320" cy="20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is Alcoh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700280"/>
            <a:ext cx="7345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ikundig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formule van alcohol (ethanol): C2H5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ier zit 5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n zit 12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distilleerd, zoals jenever zit 35%.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47640" y="1844640"/>
            <a:ext cx="61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, slokdarm, maag (20%   opnamen in het b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t wordt opgenomen in de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 naar de lever, hier wordt alcohol afge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421000"/>
            <a:ext cx="61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ca.10 min. komt de alcohol via het bloed in j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alcohol in de hersenen komt ben je “onder invlo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doet alcohol met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1773360"/>
            <a:ext cx="640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dooft d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emt remmingen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ge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concentratie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fkritiek neemt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1773360"/>
            <a:ext cx="64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 is het aantal gram alcohol per liter b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kse is van invloed op het bloedalcoholge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vulling kan een rol sp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conditie en medicijngebruik zijn van inv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47640" y="1773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én standaardglas alcohol bevat 10 gram alcohol en leidt gemiddeld tot een promillage van 0,2 bij mannen en 0,3 bij vro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59280" y="3052080"/>
            <a:ext cx="23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ardgla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andaardglazen"/>
          <p:cNvPicPr/>
          <p:nvPr/>
        </p:nvPicPr>
        <p:blipFill>
          <a:blip r:embed="rId1"/>
          <a:stretch/>
        </p:blipFill>
        <p:spPr>
          <a:xfrm>
            <a:off x="826920" y="3789360"/>
            <a:ext cx="6985080" cy="13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braak van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16000" y="1844640"/>
            <a:ext cx="712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95% door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5% via urine, adem en zw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ever doet 1 á 1,5 uur over de afbraak van 1 standaardglas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 "/>
          <p:cNvPicPr/>
          <p:nvPr/>
        </p:nvPicPr>
        <p:blipFill>
          <a:blip r:embed="rId1"/>
          <a:stretch/>
        </p:blipFill>
        <p:spPr>
          <a:xfrm>
            <a:off x="5508720" y="1413000"/>
            <a:ext cx="968400" cy="107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24600" y="2282760"/>
            <a:ext cx="1085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mann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2 standaardglazen alcohol per dag.       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756000" y="3643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vrouw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 "/>
          <p:cNvPicPr/>
          <p:nvPr/>
        </p:nvPicPr>
        <p:blipFill>
          <a:blip r:embed="rId2"/>
          <a:stretch/>
        </p:blipFill>
        <p:spPr>
          <a:xfrm>
            <a:off x="5580000" y="3068640"/>
            <a:ext cx="87480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628560" y="4029840"/>
            <a:ext cx="74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1 standaardglas alcohol per d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0:18Z</dcterms:created>
  <dc:creator>Koelewijn</dc:creator>
  <dc:description/>
  <dc:language>en-US</dc:language>
  <cp:lastModifiedBy>Elbert Koelewijn</cp:lastModifiedBy>
  <dcterms:modified xsi:type="dcterms:W3CDTF">2014-07-07T09:26:22Z</dcterms:modified>
  <cp:revision>12</cp:revision>
  <dc:subject/>
  <dc:title>Alcohol en jongeren</dc:title>
</cp:coreProperties>
</file>