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675B-8B6C-4D88-8E07-4C70BBE0D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5992-07AB-4E77-BEDA-F88FFCDA12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0,5 – 15%, bier, wijn, premix, lichte shooters (10%), port, vermouth, sher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never, rum, shooters (20%), whisky, cognac, likeuren, zelf gemixte dran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A42F-8240-4B49-AD54-35DCECA37F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3205-019A-437F-B595-7CFC904DEF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FAB5-E8CE-4EFE-A604-6A9CD1F33B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D560-610C-4A3F-9E9D-56892F6272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A9BC-C83A-4089-AA14-B66CADF6A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D9A8-5338-4B0E-B335-D83A07AA05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79CE-D132-47BE-A71E-D342D37723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bra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a de lever ca 9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n glas ca 5 tot 6 kwarti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6FFE-BDE8-4C01-9299-9EA1C3C5F9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slacht/gew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eveelheid lichaamsvo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rote mensen/mannen m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alcohol nodig voo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rsteltijd is k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voelens worden verster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rder overgeven aan de effec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wezigheid vertraagd opnamen in het bl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ugs/genee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st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FBB8-913C-4713-9F19-D90E491FAD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22F8-CAEE-4EB4-808C-92538F18F7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1EB9-3225-42BA-9AE1-D1CF620750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6E07-984C-4221-9A28-AEA843F573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A2E-2297-4657-A9A0-3456FF624E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0900-5C40-46A3-8739-2FF9285E76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18C7-AEA2-475B-AED4-30CC838EFD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C04-58D2-48C3-9681-0195459F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1C7-4CB2-4515-96BD-05333700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2B4-D3C2-4545-8593-A192D7CF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80D-E4B7-42B2-B40D-FFB54E29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B4F-68CF-4D1D-9FCC-D676AFC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479-E5DB-4A89-AD0C-0D02C3CD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ADA-1956-4C89-9B43-2A61E10A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E5C-132C-4A76-AD1D-AFBFA522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6F9-D61F-4193-BAE8-065462C4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0C2-71B2-42B0-AD10-4A78AB31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292-CF2C-491B-9741-C3DABFB1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274-8771-47E0-A59B-F7324DD5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7815-5412-48AF-9619-5693BCE42BC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eftij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onger dan 16 jaar geen drank met meer dan 0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n sterke drank onder d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kkelt hers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eft geestelijke en lichaamelijke eff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imul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aler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caïne,amfetamine,tabak,kof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dov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aperige 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lmerend en ont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roïne en opiaten,alcohol,slaa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87280" y="2205000"/>
            <a:ext cx="707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wustzijnverand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at dingen anders zien en b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sd,hasj,weed,paddo’s,tripmidde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87280" y="1916280"/>
            <a:ext cx="70772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iumw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voor zowel hard- als soft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k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lev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stre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wezig t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aar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t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reding = misdri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42920" y="1916280"/>
            <a:ext cx="7201080" cy="396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okversl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geld wordt er gespend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lang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welke manier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geving waarin hij spe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oed, Alcohol Ge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0,5 = 1cc bloed bevat halve milligram pure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ffect alcohol op lichaam en function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slacht en gew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mbi drugs/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tig alcohol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14 glazen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21 glazen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eidelijk verdeeld over d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positieve red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matig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s situatie het toe 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1989000"/>
            <a:ext cx="70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wust af en toe geen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rinken van wegen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en in vrije 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n wanneer je gezond 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in combinatie met medicijnen/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eelneemt aan 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zwangerschap/borstvo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sportbeoef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cohol mis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 gevallen waarbij ongewenste effecten optreden voor gebruiker of zijn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1989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nmerken alcohol mis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omsto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laten 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g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lies hand-oogcoörd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r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e t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60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1628640"/>
            <a:ext cx="70772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nk en horeca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Leeftijd/verstrekking/toe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boek van straf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oediening/openbare dronk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0.5 pro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ne Plaatselijke Vero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penbar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557360"/>
            <a:ext cx="7201080" cy="4896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4:39Z</dcterms:created>
  <dc:creator>Valued Acer Customer</dc:creator>
  <dc:description/>
  <dc:language>en-US</dc:language>
  <cp:lastModifiedBy>Valued Acer Customer</cp:lastModifiedBy>
  <dcterms:modified xsi:type="dcterms:W3CDTF">2012-03-15T10:06:02Z</dcterms:modified>
  <cp:revision>3</cp:revision>
  <dc:subject/>
  <dc:title>Sociale Hygiëne</dc:title>
</cp:coreProperties>
</file>