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C384-B568-4851-8F88-2E71AB838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080D-9E89-4969-9BB9-5D2958CE18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2C7-DCCD-477B-834F-270386FFEA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615-4B7D-4F27-AAF9-E5C191F622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9021-C668-491B-8A70-5E42800E4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843-E437-458A-9D1F-345F6E63D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8ABD-9BC4-46A2-9F97-6D2792450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061-DE0A-4186-A4C5-C664995525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D738-A0B9-4D36-8EFD-CAA84C29B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EA81-A26C-4520-A020-B0A67E5C5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F0EF-1EF8-4995-8ADA-B0AD845505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F15-1012-40FE-AF30-14E36C2B1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04F-F587-4441-A7A7-AF0834198A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0733-D3D2-4B3E-8B41-0C168511C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0BDF-B0C0-4568-8A04-A7F1D8F306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B89-BC31-482C-905F-42A363D7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2D1-DA06-46DD-91BF-1AE117B8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D2D-2E55-4F3D-A3B1-6FADC440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88D-7D12-4273-A3AE-59B6679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957-B2E3-43CD-8845-3911B025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E64-5819-429A-AEDD-56DB778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4F8-5622-4271-863E-BDC6979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4D6-80F4-445E-9916-D42E9343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693-3E1B-4C89-9B15-075D53B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E79-E333-4FE7-B837-1107D8A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B5E-C4E4-44E7-AD14-07631D2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758-24A2-4BE0-B54B-E8787CB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48CD-CE1A-43DC-8CD2-1F4E316C851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chtergronden risico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achtergro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prob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evings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ultuur verschi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atschappelijke verand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6000" y="2060640"/>
            <a:ext cx="7058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fessionaliteit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ivm regels handha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kbekw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beroepseth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equaat omgaan met risico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058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spreksmod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e verk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enlijke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orgen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6050160" cy="2808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en bij regel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ssistentie of dele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 bep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tr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981000"/>
            <a:ext cx="84978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1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en het gesp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waarschuwing                                  geef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 ruimte voor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buigen van de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gmaals waarschuwing               nogmaals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5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/afdwingen san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9280" y="981000"/>
            <a:ext cx="8640720" cy="561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5"/>
          <p:cNvCxnSpPr/>
          <p:nvPr/>
        </p:nvCxnSpPr>
        <p:spPr>
          <a:xfrm>
            <a:off x="4500360" y="1557000"/>
            <a:ext cx="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Rechte verbindingslijn met pijl 6"/>
          <p:cNvCxnSpPr/>
          <p:nvPr/>
        </p:nvCxnSpPr>
        <p:spPr>
          <a:xfrm>
            <a:off x="2555640" y="3141720"/>
            <a:ext cx="43236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6588000" y="2421000"/>
            <a:ext cx="7214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 flipH="1">
            <a:off x="2555280" y="2349000"/>
            <a:ext cx="43236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Rechte verbindingslijn met pijl 15"/>
          <p:cNvCxnSpPr/>
          <p:nvPr/>
        </p:nvCxnSpPr>
        <p:spPr>
          <a:xfrm flipH="1">
            <a:off x="2339280" y="4581000"/>
            <a:ext cx="577080" cy="28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Rechte verbindingslijn met pijl 16"/>
          <p:cNvCxnSpPr/>
          <p:nvPr/>
        </p:nvCxnSpPr>
        <p:spPr>
          <a:xfrm>
            <a:off x="4642920" y="3716280"/>
            <a:ext cx="1080" cy="65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Rechte verbindingslijn met pijl 17"/>
          <p:cNvCxnSpPr/>
          <p:nvPr/>
        </p:nvCxnSpPr>
        <p:spPr>
          <a:xfrm flipH="1">
            <a:off x="7740000" y="3141720"/>
            <a:ext cx="36108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Rechte verbindingslijn met pijl 20"/>
          <p:cNvCxnSpPr/>
          <p:nvPr/>
        </p:nvCxnSpPr>
        <p:spPr>
          <a:xfrm flipH="1">
            <a:off x="7524000" y="5229360"/>
            <a:ext cx="93564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Rechte verbindingslijn met pijl 21"/>
          <p:cNvCxnSpPr/>
          <p:nvPr/>
        </p:nvCxnSpPr>
        <p:spPr>
          <a:xfrm>
            <a:off x="7885080" y="4508280"/>
            <a:ext cx="5752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Rechte verbindingslijn met pijl 23"/>
          <p:cNvCxnSpPr/>
          <p:nvPr/>
        </p:nvCxnSpPr>
        <p:spPr>
          <a:xfrm>
            <a:off x="2340000" y="5445000"/>
            <a:ext cx="720000" cy="432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66760" y="15048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fo uitwis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Z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nt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igitale comm – 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naloge comm - be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484280"/>
            <a:ext cx="6050160" cy="3240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66760" y="1504800"/>
            <a:ext cx="7077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ntact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Voo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stand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zo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484280"/>
            <a:ext cx="4392720" cy="316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66760" y="15048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Risico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egenwerken 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gressie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Gewelddadig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mis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rugs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Poblematisch groeps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Crimineel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484280"/>
            <a:ext cx="6050160" cy="42498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genwerken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1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2 ont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1 kritiek op regel/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2 kritiek handhaving/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gressief gedrag 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i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d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elden               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erb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e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scrimin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exueel)intimi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060640"/>
            <a:ext cx="6050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C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nctie aan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weldadig gedrag (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Fysi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16280"/>
            <a:ext cx="6337440" cy="273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f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traliseer 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ken emo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gevolg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1:03Z</dcterms:created>
  <dc:creator>Valued Acer Customer</dc:creator>
  <dc:description/>
  <dc:language>en-US</dc:language>
  <cp:lastModifiedBy>Valued Acer Customer</cp:lastModifiedBy>
  <dcterms:modified xsi:type="dcterms:W3CDTF">2012-05-16T09:27:30Z</dcterms:modified>
  <cp:revision>3</cp:revision>
  <dc:subject/>
  <dc:title>Sociale Hygiëne</dc:title>
</cp:coreProperties>
</file>