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4D0B-7E90-4728-849F-EFA6246D5F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FFB9-D5AE-4B3E-AAD2-20B55AC7A0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18B5-6B2C-44EF-88B7-0C42CF17A0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ouwbesl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richting (hoogte, grootte, indel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teria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luchtwe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strijden brand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veilig gebou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meldinstallatie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luchtweg aandui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oodverlic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lusmidde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m. bouwverord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lekt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warming/kookapparatu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Uitgangen/vluchtwe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offering/versi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valverwe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gunning brandveilig gebru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plicht wanne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er dan 50 personen aanwez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nachting aan meer dan 10 perso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E1D6-497B-4C62-AA55-65A5FFC1CA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z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anuit dienstruimte 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drijfsruim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 en uitga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z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hele bedrijf zichtba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piegels/cam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ezich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bserv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anspre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lich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in lichtsterkte 50 lux één meter boven de gr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veiligde kas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roomklu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perso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lu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ijds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7B2E-A31E-4D85-8D7A-9DE9FC5D69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amera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enbaar m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obiel ook bij val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/inbraak/ov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me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tec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penbez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itr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gazij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ackligh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bruik hard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62AA-4114-46E8-9E65-EF6DCEBD52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5AB2-3FEC-428B-A048-BB240A4C60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oedersleutel altijd in het bezit van iemand die aanwezig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0EB5-0C6E-4C14-AE10-B755EA6C78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amera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enbaar m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obiel ook bij val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/inbraak/ov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me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tec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penbez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itr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gazij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ackligh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bruik hard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180F-3EA1-4845-AB23-85F7F2C30F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inder dan 50 1BHV’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50 – 250 1BHV’er per 50 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er dan 250 5BHV’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er dan 1000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9082-004D-4A68-A226-AD72FF88EC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AE0-BF3F-4DE2-9930-13C19849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9B1D-4B91-48B2-9EF6-59F5FB13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9A1A-039D-47CB-B3CB-0297D48F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672-5481-4ADF-9165-CC0ABEE7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5CEC-9C6C-4D8F-BD61-775EBA8C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949C-0107-4E25-8526-21AFAE35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DFE1-0F8A-4393-A2A3-2CE104C2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E4B9-70E3-446B-974F-6570F4E2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B42-4896-40E7-84C9-1AFB33B9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CE4F-5E51-4832-8312-86B65699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C5C-73CE-41A2-91AD-E9962C06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81F-4425-4FEA-AAC7-CF16A3FF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B827-EFF6-4E2E-AAF9-5A2CC346D4F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500" spc="-1" strike="noStrike">
                <a:solidFill>
                  <a:srgbClr val="000000"/>
                </a:solidFill>
                <a:latin typeface="Calibri"/>
              </a:rPr>
              <a:t>Sociale Hygiën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3141720"/>
            <a:ext cx="70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es 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59280" y="3357720"/>
            <a:ext cx="3313080" cy="1223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87280" y="1557360"/>
            <a:ext cx="6840720" cy="11509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Inrichtingseisen worden gesteld a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pervlakte van de bedrijfs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ile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andprevent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55640" y="2205000"/>
            <a:ext cx="77770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tten en bepalingen brandpreven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ouwbeslu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brandveilig gebouw bouw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gemeentelijke bouwverord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gunning brandveilig gebru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84360" y="1989000"/>
            <a:ext cx="755964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ouwkundige voorzienin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zi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verzi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ezi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lich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eiligde kas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ilige klu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87280" y="2205000"/>
            <a:ext cx="70772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echnische voorzienin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amera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armsyste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tectieappa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sluiting kostbare goed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ack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42920" y="1989000"/>
            <a:ext cx="7201080" cy="3527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leutelbehe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87280" y="2205000"/>
            <a:ext cx="707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Inventarisa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umme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leutelkast (1 reserve sleute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verzicht toegankelijkhe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anneer op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042920" y="1989000"/>
            <a:ext cx="7201080" cy="4392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leutelproced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187280" y="1841400"/>
            <a:ext cx="7077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welke sleut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mag openen/slui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op welk moment sleutel inlev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opent of slu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lke sleutels in de sleutelka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belast met ontrole/toezic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elden vermis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971640" y="1700280"/>
            <a:ext cx="7200720" cy="46814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2205000"/>
            <a:ext cx="70772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echnische voorzienin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amera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armsyste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tectieappa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sluiting kostbare goed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ack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042920" y="1989000"/>
            <a:ext cx="7201080" cy="3527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187280" y="2205000"/>
            <a:ext cx="7077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aken BHV-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lenen EH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trijden/beperken b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/beperken ongeva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armeren/evacu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armeren/samenwer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042920" y="1989000"/>
            <a:ext cx="7201080" cy="3527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8:20:25Z</dcterms:created>
  <dc:creator>Valued Acer Customer</dc:creator>
  <dc:description/>
  <dc:language>en-US</dc:language>
  <cp:lastModifiedBy>Valued Acer Customer</cp:lastModifiedBy>
  <dcterms:modified xsi:type="dcterms:W3CDTF">2012-03-15T09:21:15Z</dcterms:modified>
  <cp:revision>2</cp:revision>
  <dc:subject/>
  <dc:title>Dia 1</dc:title>
</cp:coreProperties>
</file>