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C734-5AE7-42B0-BE32-8B68F97544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6CA8-8474-4458-99B0-AF0D783DEF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pervlakte ten minsten 35 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ilatie rechtstreeks op de buitenl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van elkaar gescheiden toile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baar toi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zonderlijke ruimte om handen te w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terspo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rechtstreeks toegangk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ijterij ten minste 15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preven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aagbaar blustoestel Rijkskeurme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anghaspel NEN 3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aarlijkse erkende controle met label met da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25BF-056D-455E-8542-1F02DA5297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enigi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2 leidinggevende met dipl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erige medewerkers geïnstruee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praken over bereikbaarheid, alcoholbeleid in bestuursreg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54F1-C615-409A-BBDE-CE9A44047B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pervlakte ten minsten 35 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ilatie rechtstreeks op de buitenl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van elkaar gescheiden toile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baar toi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zonderlijke ruimte om handen te w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terspo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rechtstreeks toegangk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ijterij ten minste 15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preven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aagbaar blustoestel Rijkskeurme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anghaspel NEN 3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aarlijkse erkende controle met label met da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E4B1-A52D-4F22-A55E-2FB96D9695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pervlakte ten minsten 35 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ilatie rechtstreeks op de buitenl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van elkaar gescheiden toile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baar toi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zonderlijke ruimte om handen te w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terspo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rechtstreeks toegangk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ijterij ten minste 15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preven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aagbaar blustoestel Rijkskeurme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anghaspel NEN 3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aarlijkse erkende controle met label met da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9796-2639-4E4F-9F3D-F9C8992FB1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pervlakte ten minsten 35 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ilatie rechtstreeks op de buitenl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van elkaar gescheiden toile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baar toi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zonderlijke ruimte om handen te w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terspo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rechtstreeks toegangk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ijterij ten minste 15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preven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aagbaar blustoestel Rijkskeurme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anghaspel NEN 3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aarlijkse erkende controle met label met da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C7E3-A561-4663-A458-73990597F7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C980-10B6-41A8-B17E-14456BF2A6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BEFB-303E-4CF8-A8A0-FDD09F79A0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EA8F-98FC-4644-AA8A-34C8862AD6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06FF-F0E9-4DEA-8356-D7E3B24C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793A-DBE3-42A6-9625-536977A4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849E-656E-454A-B24B-D885BE30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D042-4772-4337-B743-5A8C1A4F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A59E-C1FB-492B-8DEF-447F5E44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5AC-4B28-4240-AB16-F7CF0081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151-DF54-4C98-B050-6FAB712B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D83-CAC4-4D07-B2F0-146C18CE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85A6-DA5F-45B3-929A-1A5FD9E7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1A8-AF2B-4F1B-9EC1-067BF3FE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9598-D8FA-44E9-9AF6-1B0D8A33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8BC8-C2D5-4294-9475-44501312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0E7A-9983-43F0-A316-2266A159530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500" spc="-1" strike="noStrike">
                <a:solidFill>
                  <a:srgbClr val="000000"/>
                </a:solidFill>
                <a:latin typeface="Calibri"/>
              </a:rPr>
              <a:t>Sociale Hygiëne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87280" y="3141720"/>
            <a:ext cx="70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Les 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59280" y="3357720"/>
            <a:ext cx="3313080" cy="1223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87280" y="1557360"/>
            <a:ext cx="6840720" cy="11509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lei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187280" y="2205000"/>
            <a:ext cx="70772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oor wie is Sociale Hygiën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Leidinggevend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enig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uurth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Horeca bedrijf waar alcohol wordt geschonk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042920" y="1989000"/>
            <a:ext cx="7201080" cy="4392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gunning Drank-en horecaw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187280" y="2205000"/>
            <a:ext cx="70772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gevens verstrekken over lei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ven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ijdens openingsuren altijd een leidinggegvende aanwezi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oor verenigingen afwijke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187280" y="2205000"/>
            <a:ext cx="70772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ier horecabranc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187280" y="2205000"/>
            <a:ext cx="7077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ier horecabranc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Logiesverstrekke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oedselverstrekke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rankverstrekkend gebruik ter plaats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rankverstrekkend gebruik th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9640" y="1628640"/>
            <a:ext cx="39610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oelgroep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choli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uders met kind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oeris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Zakenmens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enio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lleen staan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8360" y="1628640"/>
            <a:ext cx="8280360" cy="4824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6"/>
          <p:cNvSpPr/>
          <p:nvPr/>
        </p:nvSpPr>
        <p:spPr>
          <a:xfrm>
            <a:off x="4572000" y="2060640"/>
            <a:ext cx="403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weeverdie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rkende jong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llochtone jong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uden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asten met veel vrije tijd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116000" y="1844640"/>
            <a:ext cx="70772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edrijfsformule (de 6 P’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laa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a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ersone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ij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omo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042920" y="1628640"/>
            <a:ext cx="7201080" cy="4608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187280" y="2205000"/>
            <a:ext cx="70772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astvrijheidsconce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boden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mgang klan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mgang gasten met elkaar en medewer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187280" y="2205000"/>
            <a:ext cx="707724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Bedrijfform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Gastvrijheidsconce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epal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Doelgroe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4:21:07Z</dcterms:created>
  <dc:creator>Valued Acer Customer</dc:creator>
  <dc:description/>
  <dc:language>en-US</dc:language>
  <cp:lastModifiedBy>Valued Acer Customer</cp:lastModifiedBy>
  <dcterms:modified xsi:type="dcterms:W3CDTF">2012-03-15T15:08:50Z</dcterms:modified>
  <cp:revision>2</cp:revision>
  <dc:subject/>
  <dc:title>Sociale Hygiëne</dc:title>
</cp:coreProperties>
</file>