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E26-2241-4CF7-BB61-C902D6A0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6FC-3ADE-4084-A39B-036F54DB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9D7-1DB3-425C-9B29-C64DFB48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574-A849-488D-B6D3-3EDDD0D3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25B-42BA-408F-8299-536E7EB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443-E763-44BD-9C4F-04DEB7AD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DCC-4593-4287-AB43-30BC4BEC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56F-DD68-4BA7-B6CF-DF3F37D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36080"/>
            <a:ext cx="65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87E-42B7-4DC1-958C-CBFFBE8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5A5-2DB0-4E81-BAD5-2F4DEE9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0AC-2D0B-48BD-8AC1-6058780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6A2-BACD-4C6C-A871-C4082F6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0C3-95A6-4898-A5D1-76652693D9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8c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635280" y="404640"/>
            <a:ext cx="496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8c"/>
                </a:solidFill>
                <a:latin typeface="Arial"/>
              </a:rPr>
              <a:t>Hoe leert de ruiter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Zelfkenni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dzakelijk voor iedere ruiter/instructeur: leer jezelf kennen want 9 van de 10 foutenzijn ruiterfou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paardrijden is karaktervormend: van zelfkennis wordt je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is je onbewuste lichaam leren luisteren naar je bewuste ge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 en motivatie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wat is motivat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na over je drijfv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motivatie?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Schrijf dat eens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niet te trainen maar je kunt er wel over na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hangt samen met do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dagend maar ook realis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lbare doelen doen de motivati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realistische doelen doen de motivatie verdw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ultaat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ces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aar zit je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 je doelen SM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proces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 je eigen doelen! Wat wil je oefe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bijvoorbeeld een scoreformulier|: waar sta je nu en wat wil je verbeteren? ( rijprotocollen leiden als het goed is tot procesdo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8c"/>
                </a:solidFill>
                <a:latin typeface="Arial"/>
              </a:rPr>
              <a:t>Leerstijlenonderzoek en trainingsstijlen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252440"/>
            <a:ext cx="85690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sen leren verschillend en om hen te helpen makkelijk te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wij de volgende indeling van leer- en trainingsstij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oncrete erv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oepass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Observ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doen)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kij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 zelf uitproberen)                                                               ( eerst zelf zien)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heorie (den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leren door begrij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446640" y="36799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3565440" y="308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6"/>
          <p:cNvSpPr/>
          <p:nvPr/>
        </p:nvSpPr>
        <p:spPr>
          <a:xfrm>
            <a:off x="1619280" y="3794040"/>
            <a:ext cx="4645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538080" y="3922560"/>
            <a:ext cx="972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stijlen 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voork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en jezelf            Doe de t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eer bij het lesgeven uit te gaan van je leerling! Maar weet ook: je leert het beste als je alle leerstijlen gebru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JL-RECHTS 3"/>
          <p:cNvSpPr/>
          <p:nvPr/>
        </p:nvSpPr>
        <p:spPr>
          <a:xfrm>
            <a:off x="3038400" y="31860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Voel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Wil eerst gevoelsinformatie verzamelen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zo iemand eerst gevoelsinformatie verzamelen door een nieuwe oefening uit te proberen, geef daarna pas uitleg en aanwijz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IJL-RECHTS 3"/>
          <p:cNvSpPr/>
          <p:nvPr/>
        </p:nvSpPr>
        <p:spPr>
          <a:xfrm>
            <a:off x="716040" y="2708280"/>
            <a:ext cx="326880" cy="73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n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0000"/>
                </a:solidFill>
                <a:latin typeface="Arial"/>
              </a:rPr>
              <a:t>Wil gelijk uitproberen. Leert van dingen doen en houdt van experimen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zo iemand een opdracht en laat hem ermee stoeien ( uitproberen en zelf ervaren wat lukt en wat niet, niet teveel theorie vooraf) . Gebruik de “oefenaanpa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JL-RECHTS 4"/>
          <p:cNvSpPr/>
          <p:nvPr/>
        </p:nvSpPr>
        <p:spPr>
          <a:xfrm>
            <a:off x="826920" y="3716280"/>
            <a:ext cx="36036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kstvak 1"/>
          <p:cNvSpPr/>
          <p:nvPr/>
        </p:nvSpPr>
        <p:spPr>
          <a:xfrm>
            <a:off x="1763640" y="1844640"/>
            <a:ext cx="56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Leren paardrijden vergt inlevings- en aanpassingsvermogen!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elfkennis is hierbij belangrij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IJL-RECHTS 2"/>
          <p:cNvSpPr/>
          <p:nvPr/>
        </p:nvSpPr>
        <p:spPr>
          <a:xfrm>
            <a:off x="1835280" y="4495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Kijk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kijken en nadoen, wil het eerst een keer gezi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      Geef zo iemand de tijd, laat hem/haar erover nadenken en doe het voor of laat het voor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JL-RECHTS 4"/>
          <p:cNvSpPr/>
          <p:nvPr/>
        </p:nvSpPr>
        <p:spPr>
          <a:xfrm>
            <a:off x="685800" y="3767040"/>
            <a:ext cx="957240" cy="289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uit de theorie: wil eerst informatie krijgen en dan pas doen. Houdt van gestructureerd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zo iemand eerst uitleg en stel vragen. Zorg er wel voor dat hij/zij tot actie overgaat en niet eindeloos praat en de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enk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4" name="PIJL-RECHTS 2"/>
          <p:cNvSpPr/>
          <p:nvPr/>
        </p:nvSpPr>
        <p:spPr>
          <a:xfrm>
            <a:off x="685800" y="3795840"/>
            <a:ext cx="977760" cy="280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Tot slo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iedereen leert op dezelfde m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nstructeur moet je inspelen op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keuzes heb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beoefenen (praktijk) dan theorie (uitl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theorie (uitleg) en dan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) Centraal en gestructureerd ( allen te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) Individueel via een opdra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Inzicht in eigen leerstijl en instructiestij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ouw eigen leerstijl hangt samen met jouw instructie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 daarom jouw eigen voork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vak 1"/>
          <p:cNvSpPr/>
          <p:nvPr/>
        </p:nvSpPr>
        <p:spPr>
          <a:xfrm>
            <a:off x="755640" y="1916280"/>
            <a:ext cx="72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oms doet je lichaam niet wat je wilt: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Trainen is         je onbewuste lichaam leren luisteren naar je bewuste ge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IJL-RECHTS 3"/>
          <p:cNvSpPr/>
          <p:nvPr/>
        </p:nvSpPr>
        <p:spPr>
          <a:xfrm>
            <a:off x="3903840" y="387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lijkbenige driehoek 1"/>
          <p:cNvSpPr/>
          <p:nvPr/>
        </p:nvSpPr>
        <p:spPr>
          <a:xfrm flipH="1">
            <a:off x="1907280" y="1052640"/>
            <a:ext cx="5256360" cy="4321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aanleren van een vaardigheid is heel veel oefenen totdat je het op de automatische piloot kunt       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IJL-RECHTS 3"/>
          <p:cNvSpPr/>
          <p:nvPr/>
        </p:nvSpPr>
        <p:spPr>
          <a:xfrm>
            <a:off x="2268360" y="45086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Het 4 staps leerproce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dat ook al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amenwerken van lichaam en gees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de automatische piloot: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IJL-RECHTS 3"/>
          <p:cNvSpPr/>
          <p:nvPr/>
        </p:nvSpPr>
        <p:spPr>
          <a:xfrm>
            <a:off x="971640" y="3789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process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doe je vooral bewust, in stadium 2 e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je moet het ook los kunnen laten ( wedstrijd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)        Concentr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IJL-RECHTS 3"/>
          <p:cNvSpPr/>
          <p:nvPr/>
        </p:nvSpPr>
        <p:spPr>
          <a:xfrm>
            <a:off x="3059280" y="376236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Concentratie: kun je leren!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ent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bezig zijn in het hier en 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t jezelf bezig met zaken      waar je controle over h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k en mijn taak   !!!!!!!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3"/>
          <p:cNvSpPr/>
          <p:nvPr/>
        </p:nvSpPr>
        <p:spPr>
          <a:xfrm>
            <a:off x="795240" y="354636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IJL-RECHTS 6"/>
          <p:cNvSpPr/>
          <p:nvPr/>
        </p:nvSpPr>
        <p:spPr>
          <a:xfrm>
            <a:off x="826920" y="429264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IJL-RECHTS 7"/>
          <p:cNvSpPr/>
          <p:nvPr/>
        </p:nvSpPr>
        <p:spPr>
          <a:xfrm>
            <a:off x="826920" y="4915080"/>
            <a:ext cx="979560" cy="483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Lotte van de rijt</cp:lastModifiedBy>
  <dcterms:modified xsi:type="dcterms:W3CDTF">2015-03-09T10:37:57Z</dcterms:modified>
  <cp:revision>60</cp:revision>
  <dc:subject/>
  <dc:title>PowerPoint-presentatie</dc:title>
</cp:coreProperties>
</file>