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87CE-DB45-4628-845E-D384E65B61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04B4-27DA-4B7E-8AE7-387BE6976E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0A42-F26A-43BB-A540-758A8FD1A1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83D5-75EB-445C-AA53-2FFECDD737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A19B-AC41-4C82-92CB-B9F2A06CC6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7499-CA55-4688-BA1B-F28001E5F0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E95D-890D-4C33-9885-8B61CF7820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7664-E9E8-494C-8670-3B15A17EA0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3F6C-2551-45D3-9FAF-F83C0406DD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D247-59B0-4837-B155-C1F2DEA596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9036-699B-4B44-99BD-CDA72A6CA2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CF4F-D6A6-45B2-81E8-CCAD92BEBB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5DA1-CBA8-4931-A199-4A93987FDB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BC4F-D3BE-4E10-ACD2-D40839C37F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8FE3-2F1E-4FD6-BC51-06B2E237DA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6166-5D91-4D7F-A5D9-AB3E2F8A1D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CC0A-92AF-4565-8972-F69C5D48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C94D-9FAB-4535-9379-0195CB83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88E4-652F-481E-A41F-DDF8712F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1EF0-28D8-460D-B532-56FDF87A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4363-95D0-4B6D-BFC2-083BD52F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6B1D-0EC3-47D4-A1D3-B4703A8D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929D-10DB-4389-85A9-76EE3D73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D393-DF10-41FE-A6FE-8401CEAF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AFD4-76E5-4363-9B1D-925A36FA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8E24-E212-4C63-A71F-59CECC69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F1F0-38CE-4744-9E83-393F930B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FFCD-8CB9-46A9-BE2B-96140053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3E48-FFB2-44B1-A0A7-EEA1A9F56AC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271520" y="1709640"/>
            <a:ext cx="660096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6323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12612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0:20:04Z</dcterms:created>
  <dc:creator>Valued Acer Customer</dc:creator>
  <dc:description/>
  <dc:language>en-US</dc:language>
  <cp:lastModifiedBy>Valued Acer Customer</cp:lastModifiedBy>
  <dcterms:modified xsi:type="dcterms:W3CDTF">2012-03-15T10:21:50Z</dcterms:modified>
  <cp:revision>1</cp:revision>
  <dc:subject/>
  <dc:title>Dia 1</dc:title>
</cp:coreProperties>
</file>