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35B5-12D1-4876-A968-33E6A43D591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E1D3-4518-4B61-8506-9D8C03D928EC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B5A9-F6DC-48CA-899F-4081694AD4B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7C21-A580-4911-831D-81B49889AA4B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B4D9-9790-4363-AB4A-C0426ABED8F3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42A4-87FA-434D-9047-02D40FDF9D6D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0AFE-090A-4C39-9774-0905A2FA66B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54B3-B0D0-4D0A-A9E0-775FAF6FD20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17ED-87DD-46E2-8B67-DB3B57A476F2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0CEE-87AD-4656-B29E-5D45AD8C8A24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84EB-E53C-493B-8FE8-3C3B7A28CBD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51FF-3746-44AD-BB46-5D7BF318841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484E-A8ED-4F89-9E71-0ECF487BB5D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FCEA-ABD0-4EFA-9662-ED04A2D09292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9375-FF9F-4F59-AC03-C9734E847491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57D4-CD31-420B-B95C-E6825CE31BA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4B49-9B12-49AF-8B5D-4D3EA020922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9F5D-D16F-4E5D-A4CD-091525B43242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2B99-084D-4240-85A6-007FDE756EB0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EED2-1F12-4837-B914-00CD454D243B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4322-1BD0-41B6-8816-38A148FD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228-6ED9-4B4F-9E64-1243DF11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9A9-5AD3-4E23-B258-CB0B5EB8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EE9-1ADC-4BE4-9F7D-53131152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B851-EB0F-41E9-AA5C-25E7B7D9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B9F-883C-4133-BD72-CE7E9210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809-6DDF-40D3-B781-9993F881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C35D-00B6-4C6F-9CB4-88A4862F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C6F-9E1B-46B5-A097-D9E7573C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B3B-596C-4F62-B1C2-7738CB4D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88B-F318-43EE-ABFD-493B8414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807-C7EE-48A7-AED5-0FDE580D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0308-7A3A-4F3E-8128-3441FAB1BC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devosarchitecten.nl/wp-content/uploads/ruzie.png&amp;imgrefurl=http://devosarchitecten.nl/%3Fpage_id%3D217&amp;usg=__Ur2itKiZFG9GNwgJvGligbylS1g=&amp;h=204&amp;w=340&amp;sz=39&amp;hl=nl&amp;start=5&amp;um=1&amp;tbnid=oM7WGA5bL_JWfM:&amp;tbnh=71&amp;tbnw=119&amp;prev=/images%3Fq%3Druzie%26ndsp%3D18%26hl%3Dnl%26rlz%3D1G1GGLQ_NLNL343%26sa%3DN%26um%3D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cohol en 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roost"/>
          <p:cNvPicPr/>
          <p:nvPr/>
        </p:nvPicPr>
        <p:blipFill>
          <a:blip r:embed="rId1"/>
          <a:stretch/>
        </p:blipFill>
        <p:spPr>
          <a:xfrm>
            <a:off x="3132000" y="1413000"/>
            <a:ext cx="2808360" cy="293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erantwoord gebru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732440" y="2177640"/>
            <a:ext cx="152280" cy="30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116000" y="1341360"/>
            <a:ext cx="71280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nk tenminste 2 dagen in een week geen alcoh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veel gedronken? Drink dan daarna 2 aaneengesloten dagen geen alcoh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alcohol wanneer je nog wilt werken, studeren of spor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alcohol in het verke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drinken als reactie op spanningen of persoonlijke probl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 op met alcohol bij medicijngebru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is een stimulerend mid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BS_7414659_7414659_1078965b"/>
          <p:cNvPicPr/>
          <p:nvPr/>
        </p:nvPicPr>
        <p:blipFill>
          <a:blip r:embed="rId1"/>
          <a:stretch/>
        </p:blipFill>
        <p:spPr>
          <a:xfrm>
            <a:off x="2843280" y="2637000"/>
            <a:ext cx="2654280" cy="388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is voedza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dyn002_original_150_184_gif_8616_87c028f65fc6995cf6f33eed40cbe252"/>
          <p:cNvPicPr/>
          <p:nvPr/>
        </p:nvPicPr>
        <p:blipFill>
          <a:blip r:embed="rId1"/>
          <a:stretch/>
        </p:blipFill>
        <p:spPr>
          <a:xfrm>
            <a:off x="2700360" y="2492280"/>
            <a:ext cx="316872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116000" y="1844640"/>
            <a:ext cx="7128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Je wordt weer nuchter door eten, bewegen, overgeven of in de frisse lucht l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kotsen"/>
          <p:cNvPicPr/>
          <p:nvPr/>
        </p:nvPicPr>
        <p:blipFill>
          <a:blip r:embed="rId1"/>
          <a:stretch/>
        </p:blipFill>
        <p:spPr>
          <a:xfrm>
            <a:off x="3132000" y="2852640"/>
            <a:ext cx="2513160" cy="368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16000" y="184464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lang ik niets voel van de alcohol, kan het geen kwa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123(1)"/>
          <p:cNvPicPr/>
          <p:nvPr/>
        </p:nvPicPr>
        <p:blipFill>
          <a:blip r:embed="rId1"/>
          <a:stretch/>
        </p:blipFill>
        <p:spPr>
          <a:xfrm>
            <a:off x="3276720" y="2565360"/>
            <a:ext cx="269388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116000" y="184464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verbroedert en veroorzaakt geen agress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ruz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2924280"/>
            <a:ext cx="4969080" cy="296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alcohol op presteer ik b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4721040" cy="32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de beste hersencellen blijven 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Alcoholmisbruik"/>
          <p:cNvPicPr/>
          <p:nvPr/>
        </p:nvPicPr>
        <p:blipFill>
          <a:blip r:embed="rId1"/>
          <a:stretch/>
        </p:blipFill>
        <p:spPr>
          <a:xfrm>
            <a:off x="2916360" y="2492280"/>
            <a:ext cx="285732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drinken is goed voor de nachtru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170021_962_1178806423800-kater_later_KL"/>
          <p:cNvPicPr/>
          <p:nvPr/>
        </p:nvPicPr>
        <p:blipFill>
          <a:blip r:embed="rId1"/>
          <a:stretch/>
        </p:blipFill>
        <p:spPr>
          <a:xfrm>
            <a:off x="1908000" y="2492280"/>
            <a:ext cx="5185080" cy="398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lcohol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niet maar drink met ma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roost%20logo%20draft%20334"/>
          <p:cNvPicPr/>
          <p:nvPr/>
        </p:nvPicPr>
        <p:blipFill>
          <a:blip r:embed="rId1"/>
          <a:stretch/>
        </p:blipFill>
        <p:spPr>
          <a:xfrm>
            <a:off x="1979640" y="1700280"/>
            <a:ext cx="5273640" cy="2906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rankcontrole_3"/>
          <p:cNvPicPr/>
          <p:nvPr/>
        </p:nvPicPr>
        <p:blipFill>
          <a:blip r:embed="rId2"/>
          <a:stretch/>
        </p:blipFill>
        <p:spPr>
          <a:xfrm>
            <a:off x="3059280" y="3141720"/>
            <a:ext cx="2695320" cy="202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is Alcoho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042920" y="1700280"/>
            <a:ext cx="734544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cheikundig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formule van alcohol (ethanol): C2H5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bier zit 5%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wijn zit 12%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gedistilleerd, zoals jenever zit 35%.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name in het licha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547640" y="1844640"/>
            <a:ext cx="6193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, slokdarm, maag (20%   opnamen in het blo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t wordt opgenomen in de dunne d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ed naar de lever, hier wordt alcohol afgebr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name in het licha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47640" y="2421000"/>
            <a:ext cx="619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 ca.10 min. komt de alcohol via het bloed in je hers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neer alcohol in de hersenen komt ben je “onder invlo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doet alcohol met j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547640" y="1773360"/>
            <a:ext cx="6409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verdooft de hers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emt remmingen w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een verminderd ge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een verminderd concentratie verm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lfkritiek neemt 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cohol promi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47640" y="1773360"/>
            <a:ext cx="6409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G is het aantal gram alcohol per liter blo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ekse is van invloed op het bloedalcoholgehal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gvulling kan een rol spe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conditie en medicijngebruik zijn van invlo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cohol promi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547640" y="177336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én standaardglas alcohol bevat 10 gram alcohol en leidt gemiddeld tot een promillage van 0,2 bij mannen en 0,3 bij vrouw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059280" y="3052080"/>
            <a:ext cx="238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ardgla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tandaardglazen"/>
          <p:cNvPicPr/>
          <p:nvPr/>
        </p:nvPicPr>
        <p:blipFill>
          <a:blip r:embed="rId1"/>
          <a:stretch/>
        </p:blipFill>
        <p:spPr>
          <a:xfrm>
            <a:off x="826920" y="3789360"/>
            <a:ext cx="6985080" cy="130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braak van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116000" y="1844640"/>
            <a:ext cx="7128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95% door l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5% via urine, adem en zwe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lever doet 1 á 1,5 uur over de afbraak van 1 standaardglas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erantwoord gebru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273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 "/>
          <p:cNvPicPr/>
          <p:nvPr/>
        </p:nvPicPr>
        <p:blipFill>
          <a:blip r:embed="rId1"/>
          <a:stretch/>
        </p:blipFill>
        <p:spPr>
          <a:xfrm>
            <a:off x="5508720" y="1413000"/>
            <a:ext cx="968400" cy="1079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624600" y="2282760"/>
            <a:ext cx="1085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lwassen mannen (18+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ink niet meer dan 2 standaardglazen alcohol per dag.        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756000" y="364392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lwassen vrouwen (18+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 "/>
          <p:cNvPicPr/>
          <p:nvPr/>
        </p:nvPicPr>
        <p:blipFill>
          <a:blip r:embed="rId2"/>
          <a:stretch/>
        </p:blipFill>
        <p:spPr>
          <a:xfrm>
            <a:off x="5580000" y="3068640"/>
            <a:ext cx="874800" cy="1150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0"/>
          <p:cNvSpPr/>
          <p:nvPr/>
        </p:nvSpPr>
        <p:spPr>
          <a:xfrm>
            <a:off x="628560" y="4029840"/>
            <a:ext cx="746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ink niet meer dan 1 standaardglas alcohol per d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10:18Z</dcterms:created>
  <dc:creator>Koelewijn</dc:creator>
  <dc:description/>
  <dc:language>en-US</dc:language>
  <cp:lastModifiedBy>Elbert Koelewijn</cp:lastModifiedBy>
  <dcterms:modified xsi:type="dcterms:W3CDTF">2014-07-07T09:26:22Z</dcterms:modified>
  <cp:revision>12</cp:revision>
  <dc:subject/>
  <dc:title>Alcohol en jongeren</dc:title>
</cp:coreProperties>
</file>